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6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9" name="PlaceHolder 2"/>
          <p:cNvSpPr>
            <a:spLocks noGrp="1"/>
          </p:cNvSpPr>
          <p:nvPr>
            <p:ph type="dt" idx="16"/>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30"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move the slide</a:t>
            </a:r>
            <a:endParaRPr b="1" lang="en-US" sz="2400" spc="-1" strike="noStrike">
              <a:solidFill>
                <a:srgbClr val="003366"/>
              </a:solidFill>
              <a:latin typeface="Verdana"/>
            </a:endParaRPr>
          </a:p>
        </p:txBody>
      </p:sp>
      <p:sp>
        <p:nvSpPr>
          <p:cNvPr id="6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2" name="PlaceHolder 5"/>
          <p:cNvSpPr>
            <a:spLocks noGrp="1"/>
          </p:cNvSpPr>
          <p:nvPr>
            <p:ph type="ftr" idx="17"/>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633" name="PlaceHolder 6"/>
          <p:cNvSpPr>
            <a:spLocks noGrp="1"/>
          </p:cNvSpPr>
          <p:nvPr>
            <p:ph type="sldNum" idx="18"/>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889753-F90A-44CD-9221-568AF90B8C70}" type="slidenum">
              <a:rPr b="0" lang="de-DE"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92160" y="768240"/>
            <a:ext cx="5114880" cy="3837240"/>
          </a:xfrm>
          <a:prstGeom prst="rect">
            <a:avLst/>
          </a:prstGeom>
          <a:ln w="0">
            <a:noFill/>
          </a:ln>
        </p:spPr>
      </p:sp>
      <p:sp>
        <p:nvSpPr>
          <p:cNvPr id="64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8F1D90-ABDA-42C3-B850-01EB4FEFEE5F}"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92160" y="768240"/>
            <a:ext cx="5114880" cy="3837240"/>
          </a:xfrm>
          <a:prstGeom prst="rect">
            <a:avLst/>
          </a:prstGeom>
          <a:ln w="0">
            <a:noFill/>
          </a:ln>
        </p:spPr>
      </p:sp>
      <p:sp>
        <p:nvSpPr>
          <p:cNvPr id="65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3BD766-2DA7-4484-90FE-9C30165234D5}"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92160" y="768240"/>
            <a:ext cx="5114880" cy="3837240"/>
          </a:xfrm>
          <a:prstGeom prst="rect">
            <a:avLst/>
          </a:prstGeom>
          <a:ln w="0">
            <a:noFill/>
          </a:ln>
        </p:spPr>
      </p:sp>
      <p:sp>
        <p:nvSpPr>
          <p:cNvPr id="6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A3EFCC-2868-4BBD-AC56-628E58D6642D}"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992160" y="768240"/>
            <a:ext cx="5114880" cy="3837240"/>
          </a:xfrm>
          <a:prstGeom prst="rect">
            <a:avLst/>
          </a:prstGeom>
          <a:ln w="0">
            <a:noFill/>
          </a:ln>
        </p:spPr>
      </p:sp>
      <p:sp>
        <p:nvSpPr>
          <p:cNvPr id="6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F3BCFB-BC41-4365-BDB2-98FAD3E09FBC}"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92160" y="768240"/>
            <a:ext cx="5114880" cy="3837240"/>
          </a:xfrm>
          <a:prstGeom prst="rect">
            <a:avLst/>
          </a:prstGeom>
          <a:ln w="0">
            <a:noFill/>
          </a:ln>
        </p:spPr>
      </p:sp>
      <p:sp>
        <p:nvSpPr>
          <p:cNvPr id="6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90A25E-30A0-41ED-AAD2-FB9544AF9F91}"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92160" y="768240"/>
            <a:ext cx="5114880" cy="3837240"/>
          </a:xfrm>
          <a:prstGeom prst="rect">
            <a:avLst/>
          </a:prstGeom>
          <a:ln w="0">
            <a:noFill/>
          </a:ln>
        </p:spPr>
      </p:sp>
      <p:sp>
        <p:nvSpPr>
          <p:cNvPr id="6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9F8A9F-350E-4383-B61A-7C2454BFF9AF}"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92160" y="768240"/>
            <a:ext cx="5114880" cy="3837240"/>
          </a:xfrm>
          <a:prstGeom prst="rect">
            <a:avLst/>
          </a:prstGeom>
          <a:ln w="0">
            <a:noFill/>
          </a:ln>
        </p:spPr>
      </p:sp>
      <p:sp>
        <p:nvSpPr>
          <p:cNvPr id="6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85067F-A297-4561-B45D-4A174106AAF0}"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4248F4A-7CA7-4287-9E8C-7424FCB333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7FDE81-4F82-4B7F-8F26-6EF47F440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2175EF-5147-4644-9DC4-2A00E23042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3"/>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F329D4-46CB-4FB2-BDC6-2F89DD49A6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00770A-544C-466B-86AA-93A0B7683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5"/>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5"/>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5"/>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5"/>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5"/>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5"/>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5"/>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5"/>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5"/>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5"/>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90230A-6A74-4567-982C-C378D20F5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C8BED6-A082-436A-8FFC-EEE198386E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54278D-C778-4C24-A3A0-1067FFEB1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18CE5B-1828-4C22-90C7-9E1407EDF8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DCF0F3-AD78-48F2-A23E-0B274BFA3B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C4C06A-6E8C-451B-9F7C-BE0044B04C3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2A925DC-AD26-4FA7-B2F1-3EBB53FEEF8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2"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8434C9F8-A52E-488A-B188-75F733862BD2}"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4"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 name="PlaceHolder 3"/>
          <p:cNvSpPr>
            <a:spLocks noGrp="1"/>
          </p:cNvSpPr>
          <p:nvPr>
            <p:ph type="ftr" idx="1"/>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utorial: Introduction to Recommender Systems, ACM SAC 2010</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76"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79506433-FA7B-4C88-A460-7FFDAFDA3AB6}"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377"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380" name="PlaceHolder 3"/>
          <p:cNvSpPr>
            <a:spLocks noGrp="1"/>
          </p:cNvSpPr>
          <p:nvPr>
            <p:ph type="ftr" idx="10"/>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18"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68BBC2F3-D236-4A0C-8D82-9453BB6BA602}"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419"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422" name="PlaceHolder 3"/>
          <p:cNvSpPr>
            <a:spLocks noGrp="1"/>
          </p:cNvSpPr>
          <p:nvPr>
            <p:ph type="ftr" idx="11"/>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60"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12E6B2A8-7463-4A9E-9D7F-4DAA63665EE7}"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461"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464" name="PlaceHolder 3"/>
          <p:cNvSpPr>
            <a:spLocks noGrp="1"/>
          </p:cNvSpPr>
          <p:nvPr>
            <p:ph type="ftr" idx="12"/>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02"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C1D07FFD-C44B-482D-87E7-0DD357431CD3}"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503"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5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506" name="PlaceHolder 3"/>
          <p:cNvSpPr>
            <a:spLocks noGrp="1"/>
          </p:cNvSpPr>
          <p:nvPr>
            <p:ph type="ftr" idx="13"/>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44"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6A28B0AD-54A3-40F3-9D2C-57AE0E147AB8}"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545"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548" name="PlaceHolder 3"/>
          <p:cNvSpPr>
            <a:spLocks noGrp="1"/>
          </p:cNvSpPr>
          <p:nvPr>
            <p:ph type="ftr" idx="14"/>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86"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F27E09A2-22B8-4AB7-95AC-96B221EB90CA}"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587"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5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590" name="PlaceHolder 3"/>
          <p:cNvSpPr>
            <a:spLocks noGrp="1"/>
          </p:cNvSpPr>
          <p:nvPr>
            <p:ph type="ftr" idx="15"/>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6"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79B2-0343-4863-9D81-66CE384F29F8}"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4"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5A32D38F-5F27-4DAF-AE32-BB67A8B2B53D}"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85"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125"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68E81C34-CF66-4528-B3D7-FC2477C35D78}"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126"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166"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2F857682-50D8-4850-B3D4-F0628DBAF9AF}"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167"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170" name="PlaceHolder 3"/>
          <p:cNvSpPr>
            <a:spLocks noGrp="1"/>
          </p:cNvSpPr>
          <p:nvPr>
            <p:ph type="ftr" idx="5"/>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08"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83126BD6-7B46-4B55-A490-12AF74922A42}"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209"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212" name="PlaceHolder 3"/>
          <p:cNvSpPr>
            <a:spLocks noGrp="1"/>
          </p:cNvSpPr>
          <p:nvPr>
            <p:ph type="ftr" idx="6"/>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50"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548266B6-C552-4ECD-876B-990E1B69390A}"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251"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254" name="PlaceHolder 3"/>
          <p:cNvSpPr>
            <a:spLocks noGrp="1"/>
          </p:cNvSpPr>
          <p:nvPr>
            <p:ph type="ftr" idx="7"/>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92"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E80A5946-370A-43B4-8C8C-7F98A9D5227B}"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293"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296" name="PlaceHolder 3"/>
          <p:cNvSpPr>
            <a:spLocks noGrp="1"/>
          </p:cNvSpPr>
          <p:nvPr>
            <p:ph type="ftr" idx="8"/>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34"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4329EEB5-1418-48EB-8CBF-DA8B153F42EA}"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335"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338" name="PlaceHolder 3"/>
          <p:cNvSpPr>
            <a:spLocks noGrp="1"/>
          </p:cNvSpPr>
          <p:nvPr>
            <p:ph type="ftr" idx="9"/>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Rechteck 3" descr=""/>
          <p:cNvPicPr/>
          <p:nvPr/>
        </p:nvPicPr>
        <p:blipFill>
          <a:blip r:embed="rId1"/>
          <a:stretch/>
        </p:blipFill>
        <p:spPr>
          <a:xfrm>
            <a:off x="1285920" y="2646360"/>
            <a:ext cx="6645240" cy="11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Mobile applications</a:t>
            </a:r>
            <a:endParaRPr b="1" lang="en-US" sz="2400" spc="-1" strike="noStrike">
              <a:solidFill>
                <a:srgbClr val="003366"/>
              </a:solidFill>
              <a:latin typeface="Verdana"/>
            </a:endParaRPr>
          </a:p>
        </p:txBody>
      </p:sp>
      <p:sp>
        <p:nvSpPr>
          <p:cNvPr id="6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Calibri"/>
              </a:rPr>
              <a:t>Mobile applications have been a domain for recommendation</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Calibri"/>
              </a:rPr>
              <a:t>small display sizes and space limitation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Calibri"/>
              </a:rPr>
              <a:t>naturally require personalized information</a:t>
            </a:r>
            <a:endParaRPr b="0" lang="en-US" sz="1800" spc="-1" strike="noStrike">
              <a:solidFill>
                <a:srgbClr val="003366"/>
              </a:solidFill>
              <a:latin typeface="Verdan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ince the end of the 1990s, research into mobile applications has focused heavily on adaptivity</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Calibri"/>
              </a:rPr>
              <a:t>Nowadays, limitative circumstances are now starting to disappear</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more powerful CPUs </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better display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modern wireless broadband</a:t>
            </a:r>
            <a:endParaRPr b="0" lang="en-US" sz="1800" spc="-1" strike="noStrike">
              <a:solidFill>
                <a:srgbClr val="003366"/>
              </a:solidFill>
              <a:latin typeface="Verdana"/>
            </a:endParaRPr>
          </a:p>
        </p:txBody>
      </p:sp>
      <p:pic>
        <p:nvPicPr>
          <p:cNvPr id="637" name="Picture 2" descr=""/>
          <p:cNvPicPr/>
          <p:nvPr/>
        </p:nvPicPr>
        <p:blipFill>
          <a:blip r:embed="rId1"/>
          <a:stretch/>
        </p:blipFill>
        <p:spPr>
          <a:xfrm>
            <a:off x="5651640" y="2060640"/>
            <a:ext cx="1412640" cy="122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RS research questions in ubiquitous domains</a:t>
            </a:r>
            <a:endParaRPr b="1" lang="en-US" sz="2400" spc="-1" strike="noStrike">
              <a:solidFill>
                <a:srgbClr val="003366"/>
              </a:solidFill>
              <a:latin typeface="Verdana"/>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Calibri"/>
              </a:rPr>
              <a:t>What are the specific goals of recommender systems in a mobile context?</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Calibri"/>
              </a:rPr>
              <a:t>do users expect serendipitous recommendations, or is it more important to be pointed to things that are close to one's current position?</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Calibri"/>
              </a:rPr>
              <a:t>What are the implications of contextual parameters such as localization for the design of recommendation algorithm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Calibri"/>
              </a:rPr>
              <a:t>is location just another preference, a requirement that is always strictly enforced, or something in between?</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Calibri"/>
              </a:rPr>
              <a:t>What role does the modality of interaction play when addressing users "on the go"?</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Calibri"/>
              </a:rPr>
              <a:t>pushing information can be useful to draw recipients' attention, but the users' permission is surely needed. how should permission protocols for "push" recommendations function?</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Context-aware recommendation</a:t>
            </a:r>
            <a:endParaRPr b="1" lang="en-US" sz="2400" spc="-1" strike="noStrike">
              <a:solidFill>
                <a:srgbClr val="003366"/>
              </a:solidFill>
              <a:latin typeface="Verdana"/>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Ranganathan and Campbell (2003) see context a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ny information about the circumstances, objects or conditions surrounding a user that is considered relevant to the interaction between the user and the ubiquitous computing environment"</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hilit et al. (1994) name the most important aspects of context a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here you are</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ho you are with</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hat resources are nearby</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Context awareness is a requirement for recommender system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articularly relevant in ubiquitous domain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Calibri"/>
              </a:rPr>
              <a:t>context as situation parameters that can be known by the system and may have an impact on the selection and ranking of recommendation results.</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Application domains</a:t>
            </a:r>
            <a:endParaRPr b="1" lang="en-US" sz="2400" spc="-1" strike="noStrike">
              <a:solidFill>
                <a:srgbClr val="003366"/>
              </a:solidFill>
              <a:latin typeface="Verdana"/>
            </a:endParaRPr>
          </a:p>
        </p:txBody>
      </p:sp>
      <p:sp>
        <p:nvSpPr>
          <p:cNvPr id="6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Commerce</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m-commerce refers to monetary transactions that are conducted via wireless networks.</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ourism and visitor guide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ravelers have specific information needs, makes this domain a natural choice for mobile information systems.</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Cultural heritage and museum guide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Calibri"/>
              </a:rPr>
              <a:t>mobile guides for </a:t>
            </a:r>
            <a:r>
              <a:rPr b="0" lang="en-US" sz="1800" spc="-1" strike="noStrike">
                <a:solidFill>
                  <a:srgbClr val="003366"/>
                </a:solidFill>
                <a:latin typeface="Calibri"/>
              </a:rPr>
              <a:t>archeological</a:t>
            </a:r>
            <a:r>
              <a:rPr b="0" lang="en-IE" sz="1800" spc="-1" strike="noStrike">
                <a:solidFill>
                  <a:srgbClr val="003366"/>
                </a:solidFill>
                <a:latin typeface="Calibri"/>
              </a:rPr>
              <a:t> sites or museums providing multimedia services.</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Home computing and entertainment</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Calibri"/>
              </a:rPr>
              <a:t>users are able to personally configure and adapt smart devices in their environment based on their preferences and on specific situations.</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Summary</a:t>
            </a:r>
            <a:endParaRPr b="1" lang="en-US" sz="2400" spc="-1" strike="noStrike">
              <a:solidFill>
                <a:srgbClr val="003366"/>
              </a:solidFill>
              <a:latin typeface="Verdana"/>
            </a:endParaRPr>
          </a:p>
        </p:txBody>
      </p:sp>
      <p:sp>
        <p:nvSpPr>
          <p:cNvPr id="6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Calibri"/>
              </a:rPr>
              <a:t>Rapid technical advancements toward ever more powerful mobile device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Calibri"/>
              </a:rPr>
              <a:t>Ubiquitous applications constitute a promising domain for different types of personalization and recommendation</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Calibri"/>
              </a:rPr>
              <a:t>Tourism application domain is by far the most active field</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Calibri"/>
              </a:rPr>
              <a:t>bottleneck: technical interoperability between ubiquitous devices themselves and the privacy concerns of users</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Literature</a:t>
            </a:r>
            <a:endParaRPr b="1" lang="en-US" sz="2400" spc="-1" strike="noStrike">
              <a:solidFill>
                <a:srgbClr val="003366"/>
              </a:solidFill>
              <a:latin typeface="Verdana"/>
            </a:endParaRPr>
          </a:p>
        </p:txBody>
      </p:sp>
      <p:sp>
        <p:nvSpPr>
          <p:cNvPr id="647" name=""/>
          <p:cNvSpPr txBox="1"/>
          <p:nvPr/>
        </p:nvSpPr>
        <p:spPr>
          <a:xfrm>
            <a:off x="457200" y="1700280"/>
            <a:ext cx="8229600" cy="3960720"/>
          </a:xfrm>
          <a:prstGeom prst="rect">
            <a:avLst/>
          </a:prstGeom>
          <a:solidFill>
            <a:srgbClr val="ffffff"/>
          </a:solid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Ranganathan and Campbell 2003]</a:t>
            </a:r>
            <a:r>
              <a:rPr b="0" lang="en-US" sz="1200" spc="-1" strike="noStrike">
                <a:solidFill>
                  <a:srgbClr val="003366"/>
                </a:solidFill>
                <a:latin typeface="Calibri"/>
              </a:rPr>
              <a:t> </a:t>
            </a:r>
            <a:r>
              <a:rPr b="0" lang="en-IE" sz="1200" spc="-1" strike="noStrike">
                <a:solidFill>
                  <a:srgbClr val="003366"/>
                </a:solidFill>
                <a:latin typeface="Calibri"/>
              </a:rPr>
              <a:t>An infrastructure for context-awareness based on first order logic, Personal Ubiquitous Computing 7 (2003), no. 6, 353–364.</a:t>
            </a:r>
            <a:endParaRPr b="0" lang="en-US" sz="12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Shilit et al. 1994]</a:t>
            </a:r>
            <a:r>
              <a:rPr b="0" lang="en-US" sz="1200" spc="-1" strike="noStrike">
                <a:solidFill>
                  <a:srgbClr val="003366"/>
                </a:solidFill>
                <a:latin typeface="Calibri"/>
              </a:rPr>
              <a:t> Context-aware computing applications, Proceedings of the 1994 First Workshop on Mobile Computing Systems and Applications (WMCSA '94) (Santa Cruz, CA) (Maria Sigala et al., ed.), IEEE Computer Society, 1994, pp. 85–90.</a:t>
            </a:r>
            <a:endParaRPr b="0" lang="en-US" sz="12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09:23:14Z</dcterms:created>
  <dc:creator>Wolfgang Schmid</dc:creator>
  <dc:description/>
  <dc:language>en-US</dc:language>
  <cp:lastModifiedBy>Wolfgang Schmid</cp:lastModifiedBy>
  <dcterms:modified xsi:type="dcterms:W3CDTF">2012-01-11T12:02:35Z</dcterms:modified>
  <cp:revision>1292</cp:revision>
  <dc:subject/>
  <dc:title>Recommender Systems</dc:title>
</cp:coreProperties>
</file>