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</p:sldMasterIdLst>
  <p:notesMasterIdLst>
    <p:notesMasterId r:id="rId47"/>
  </p:notesMasterIdLst>
  <p:sldIdLst>
    <p:sldId id="256" r:id="rId48"/>
    <p:sldId id="257" r:id="rId49"/>
    <p:sldId id="258" r:id="rId50"/>
    <p:sldId id="259" r:id="rId51"/>
    <p:sldId id="260" r:id="rId52"/>
    <p:sldId id="261" r:id="rId53"/>
    <p:sldId id="262" r:id="rId54"/>
    <p:sldId id="263" r:id="rId55"/>
    <p:sldId id="264" r:id="rId56"/>
    <p:sldId id="265" r:id="rId57"/>
    <p:sldId id="266" r:id="rId58"/>
    <p:sldId id="267" r:id="rId59"/>
    <p:sldId id="268" r:id="rId60"/>
    <p:sldId id="269" r:id="rId61"/>
    <p:sldId id="270" r:id="rId62"/>
    <p:sldId id="271" r:id="rId63"/>
    <p:sldId id="272" r:id="rId64"/>
    <p:sldId id="273" r:id="rId65"/>
    <p:sldId id="274" r:id="rId66"/>
    <p:sldId id="275" r:id="rId67"/>
    <p:sldId id="276" r:id="rId68"/>
    <p:sldId id="277" r:id="rId69"/>
    <p:sldId id="278" r:id="rId70"/>
    <p:sldId id="279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notesMaster" Target="notesMasters/notesMaster1.xml"/><Relationship Id="rId48" Type="http://schemas.openxmlformats.org/officeDocument/2006/relationships/slide" Target="slides/slide1.xml"/><Relationship Id="rId49" Type="http://schemas.openxmlformats.org/officeDocument/2006/relationships/slide" Target="slides/slide2.xml"/><Relationship Id="rId50" Type="http://schemas.openxmlformats.org/officeDocument/2006/relationships/slide" Target="slides/slide3.xml"/><Relationship Id="rId51" Type="http://schemas.openxmlformats.org/officeDocument/2006/relationships/slide" Target="slides/slide4.xml"/><Relationship Id="rId52" Type="http://schemas.openxmlformats.org/officeDocument/2006/relationships/slide" Target="slides/slide5.xml"/><Relationship Id="rId53" Type="http://schemas.openxmlformats.org/officeDocument/2006/relationships/slide" Target="slides/slide6.xml"/><Relationship Id="rId54" Type="http://schemas.openxmlformats.org/officeDocument/2006/relationships/slide" Target="slides/slide7.xml"/><Relationship Id="rId55" Type="http://schemas.openxmlformats.org/officeDocument/2006/relationships/slide" Target="slides/slide8.xml"/><Relationship Id="rId56" Type="http://schemas.openxmlformats.org/officeDocument/2006/relationships/slide" Target="slides/slide9.xml"/><Relationship Id="rId57" Type="http://schemas.openxmlformats.org/officeDocument/2006/relationships/slide" Target="slides/slide10.xml"/><Relationship Id="rId58" Type="http://schemas.openxmlformats.org/officeDocument/2006/relationships/slide" Target="slides/slide11.xml"/><Relationship Id="rId59" Type="http://schemas.openxmlformats.org/officeDocument/2006/relationships/slide" Target="slides/slide12.xml"/><Relationship Id="rId60" Type="http://schemas.openxmlformats.org/officeDocument/2006/relationships/slide" Target="slides/slide13.xml"/><Relationship Id="rId61" Type="http://schemas.openxmlformats.org/officeDocument/2006/relationships/slide" Target="slides/slide14.xml"/><Relationship Id="rId62" Type="http://schemas.openxmlformats.org/officeDocument/2006/relationships/slide" Target="slides/slide15.xml"/><Relationship Id="rId63" Type="http://schemas.openxmlformats.org/officeDocument/2006/relationships/slide" Target="slides/slide16.xml"/><Relationship Id="rId64" Type="http://schemas.openxmlformats.org/officeDocument/2006/relationships/slide" Target="slides/slide17.xml"/><Relationship Id="rId65" Type="http://schemas.openxmlformats.org/officeDocument/2006/relationships/slide" Target="slides/slide18.xml"/><Relationship Id="rId66" Type="http://schemas.openxmlformats.org/officeDocument/2006/relationships/slide" Target="slides/slide19.xml"/><Relationship Id="rId67" Type="http://schemas.openxmlformats.org/officeDocument/2006/relationships/slide" Target="slides/slide20.xml"/><Relationship Id="rId68" Type="http://schemas.openxmlformats.org/officeDocument/2006/relationships/slide" Target="slides/slide21.xml"/><Relationship Id="rId69" Type="http://schemas.openxmlformats.org/officeDocument/2006/relationships/slide" Target="slides/slide22.xml"/><Relationship Id="rId70" Type="http://schemas.openxmlformats.org/officeDocument/2006/relationships/slide" Target="slides/slide23.xml"/><Relationship Id="rId71" Type="http://schemas.openxmlformats.org/officeDocument/2006/relationships/slide" Target="slides/slide24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dt" idx="4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ftr" idx="4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6"/>
          <p:cNvSpPr>
            <a:spLocks noGrp="1"/>
          </p:cNvSpPr>
          <p:nvPr>
            <p:ph type="sldNum" idx="4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3093BD-A3A7-4A73-9D83-71DE497E389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2F336C-E850-4B67-BA2E-4D6247AC028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3F0340-51AB-4944-8B0B-DC348266FEF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D51E6D-F967-48FD-A85C-A2B0B2677D2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1013CC-C6CA-4110-A680-06F11D02B6B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FF8557-3B51-4908-A47A-48DACF8F72F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55B51B-5E51-42B4-9222-8A58E59A87D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02079A-FE83-4229-BD5B-4AC8B97DBA0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266FBE-5168-4851-90DA-5918235BFFF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9FAE63-B33A-42BD-BAB5-5AAB8AC1051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D92541-A823-48C4-89DA-BE7E6321FD9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B58566-C330-41A6-B3BC-DC3C26D7ED4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C26EEA-2599-492B-A626-3F64AADE461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A00D0A-7A6A-473D-8ED3-2E55B8DE959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E376BF-EFAB-44D6-A8E3-4C883016E5B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4D1FC7-518A-44C2-8452-44B69567625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8D591A-DBFB-478E-A169-C83D9967447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7FC9FF-52F6-43A3-B983-C50B903D661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FD44E8-9D84-4CFC-A251-7906E3E98B5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09965E-EA77-4593-9CE9-54B0D02218B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422F82-22C5-479A-80E5-0BB2CD63CB9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C1A59A-5FF5-4BC4-8097-DF34DD4AA6F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4909EE-EB69-4196-967C-3479BC616E5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59EFE-59C9-4F03-873C-838F4109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89E23-74AC-4532-875F-5E8ED729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64DD6-0D7C-4843-A5CF-3ECB3CDA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676E8-1347-4238-8BB3-49AD233A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ED101-051C-498B-9F07-631915D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5D13D-A8ED-485A-8F86-D5275705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1C878-60CF-44B5-B743-B2FABD9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57B95-94B1-4625-8098-F26C98B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587AF-69F5-4B70-B394-71ECA0E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4DD2-1803-4516-82CE-9B3A80C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B29E-4517-422C-A1E8-F529641E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FBD7E-267C-475F-A567-EB86C6B7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DD7CD76-9901-4CF4-BFE2-4D365C61773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A13AE3F-F3BD-47DC-850E-164306975CF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71397DD-9748-4AB1-8467-5ED80D32AB2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4D36AA3-D022-4359-AE14-4CB9714B91C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ACC3C16-3330-49F5-8B35-54D471E3606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C3414D6-F029-4690-B7FF-4569A56125E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BD187F8-8329-4122-8830-8727F44BB85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EED7847-516F-4632-BA57-F3F737A16CC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1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9324A9C-6D27-4934-AED3-C8FDFB5B1D8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1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BB93365-113D-476E-B2B1-85AE1F011AA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E6E5AFB-BC1F-4652-8A7A-F522AB4AF4B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hteck 8"/>
          <p:cNvSpPr/>
          <p:nvPr/>
        </p:nvSpPr>
        <p:spPr>
          <a:xfrm>
            <a:off x="42876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Dietmar Jannach and Markus Zank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795-D86C-4C39-9A6B-0AEDF98AC3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1306CFE-18DD-4691-8C4D-C26AECD158D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1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2FA9A72-9794-4B59-ADDB-7D960DFA548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1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ED5B999-A839-40AA-879B-7037A709CCD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ftr" idx="2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36BE98B-7724-489F-82C0-474F452ABA8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ftr" idx="2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A65826F-CA28-4304-A39F-2D43704BEA3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ftr" idx="2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59E8FC4-672A-48B5-B6E3-D780BE2C452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2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CA06C4C-2AB4-4C74-BDEA-6E0C8E37D02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ftr" idx="2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81D8F60-9BC1-4082-8C05-D522230F639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ftr" idx="2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B8F0A7F-5A47-4634-96A0-2705ECDBABD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2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0694320-4D75-4AD9-A318-566077796E4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ftr" idx="2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7762107-085D-4CFF-B02E-86A291DBA8A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C374800-D13E-44B6-8166-66C05A85D15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2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49BEE57-C968-430F-8702-3E98795931A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2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r. Markus Zanker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5357CCA-2286-4983-AFAB-3C66100AD75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304F270-E206-4DC7-80A7-27288D4AFA9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Rechteck 8"/>
          <p:cNvSpPr/>
          <p:nvPr/>
        </p:nvSpPr>
        <p:spPr>
          <a:xfrm>
            <a:off x="42876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Dietmar Jannach and Markus Zank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B849A16-7BF6-4120-8320-85B62DA83A2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ftr" idx="3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B8E19CC-34B9-4CBE-8091-5DE35716B2A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ftr" idx="3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C5D896D-2981-4A65-8761-EC44FB9A220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ftr" idx="3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6A39B58-566A-4274-B7F7-8B2F2A4770C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ftr" idx="3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4BC0D02-2304-4808-BEE1-ED23F4792C1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ftr" idx="3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CCC37B8-EEBE-430F-B778-759D54A5B74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ftr" idx="3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C7568D5-6205-4832-9F95-18726C39AC4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2C971E9-427C-4943-86A6-132F780AA3A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3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68DE312-25D2-4A4F-A627-8A8D25411E3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ftr" idx="3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E8CEB32-6005-498F-B6FE-34D1DF31B74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ftr" idx="3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0FC8E46-612D-42A8-B369-B51310B6986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 type="ftr" idx="3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E337E6A-EACF-42A9-9D69-CE4EDBC67A4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ftr" idx="4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BB468EC-3EE5-4ED0-AD4E-8FF1A32145A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ftr" idx="4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r. Markus Zanker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E055FD8-5645-4692-B60E-D94766315BD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92F52EB-37EA-4B7F-A122-8100A82B1DE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E9EBC77-4F49-441E-982F-81FF50B45257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2A8A112-616E-4465-A415-24C544FBDF3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E1C4B65-EF52-45BC-9BC4-7B8CC504357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Rechteck 3" descr=""/>
          <p:cNvPicPr/>
          <p:nvPr/>
        </p:nvPicPr>
        <p:blipFill>
          <a:blip r:embed="rId1"/>
          <a:stretch/>
        </p:blipFill>
        <p:spPr>
          <a:xfrm>
            <a:off x="1195560" y="2517840"/>
            <a:ext cx="68324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mproving the vector space model II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lexical knowledge, use more elaborate methods for feature sele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Remove words that are not relevant in the domai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etection of phrases as ter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More descriptive for a text than single words 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e.g. "United Nations"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imita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emantic meaning remains unknow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ample: usage of a word in a negative contex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"there is nothing on the menu that a vegetarian would like.."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The word "vegetarian" will receive a higher weight then desired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an unintended match with a user interested in vegetarian restaurants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8" name="Pfeil nach rechts 3"/>
          <p:cNvSpPr/>
          <p:nvPr/>
        </p:nvSpPr>
        <p:spPr>
          <a:xfrm>
            <a:off x="1147680" y="4724280"/>
            <a:ext cx="216000" cy="176400"/>
          </a:xfrm>
          <a:prstGeom prst="rightArrow">
            <a:avLst>
              <a:gd name="adj1" fmla="val 50000"/>
              <a:gd name="adj2" fmla="val 496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sine similarit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50" name="Rectangle 3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659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ing i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52" name="Inhaltsplatzhalter 2" descr=""/>
          <p:cNvPicPr/>
          <p:nvPr/>
        </p:nvPicPr>
        <p:blipFill>
          <a:blip r:embed="rId1"/>
          <a:stretch/>
        </p:blipFill>
        <p:spPr>
          <a:xfrm>
            <a:off x="426960" y="1384200"/>
            <a:ext cx="8272440" cy="4552920"/>
          </a:xfrm>
          <a:prstGeom prst="rect">
            <a:avLst/>
          </a:prstGeom>
          <a:ln w="0">
            <a:noFill/>
          </a:ln>
        </p:spPr>
      </p:pic>
      <p:sp>
        <p:nvSpPr>
          <p:cNvPr id="1953" name="Pfeil nach rechts 3"/>
          <p:cNvSpPr/>
          <p:nvPr/>
        </p:nvSpPr>
        <p:spPr>
          <a:xfrm>
            <a:off x="4788000" y="3716280"/>
            <a:ext cx="215640" cy="144360"/>
          </a:xfrm>
          <a:prstGeom prst="rightArrow">
            <a:avLst>
              <a:gd name="adj1" fmla="val 50000"/>
              <a:gd name="adj2" fmla="val 4979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ing i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trieval quality depends on individual capability to formulate queries  with right keyword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Query-based retrieval: Rocchio's metho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SMART System: Users are allowed to rate (relevant/irrelevant) retrieved documents (feedback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system then learns a prototype of relevant/irrelevant docume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Queries are then automatically extended with additional terms/weight of relevant docume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6" name="Picture 2" descr=""/>
          <p:cNvPicPr/>
          <p:nvPr/>
        </p:nvPicPr>
        <p:blipFill>
          <a:blip r:embed="rId1"/>
          <a:stretch/>
        </p:blipFill>
        <p:spPr>
          <a:xfrm>
            <a:off x="826920" y="2101680"/>
            <a:ext cx="3024360" cy="1903680"/>
          </a:xfrm>
          <a:prstGeom prst="rect">
            <a:avLst/>
          </a:prstGeom>
          <a:ln w="0">
            <a:noFill/>
          </a:ln>
        </p:spPr>
      </p:pic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occhio detail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ocument collections D</a:t>
            </a:r>
            <a:r>
              <a:rPr b="1" lang="en-US" sz="1800" spc="-1" strike="noStrike" baseline="30000">
                <a:solidFill>
                  <a:srgbClr val="003366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(liked) and D</a:t>
            </a:r>
            <a:r>
              <a:rPr b="1" lang="en-US" sz="1800" spc="-1" strike="noStrike" baseline="30000">
                <a:solidFill>
                  <a:srgbClr val="003366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(disliked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09120" indent="-234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alculate prototype vector for these categories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09120" indent="-2343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09120" indent="-2343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09120" indent="-2343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09120" indent="-234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mputing modified query Q</a:t>
            </a:r>
            <a:r>
              <a:rPr b="1" lang="en-US" sz="1100" spc="-1" strike="noStrike">
                <a:solidFill>
                  <a:srgbClr val="003366"/>
                </a:solidFill>
                <a:latin typeface="Calibri"/>
              </a:rPr>
              <a:t>i+1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from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urrent query Q</a:t>
            </a:r>
            <a:r>
              <a:rPr b="1" lang="en-US" sz="1100" spc="-1" strike="noStrike">
                <a:solidFill>
                  <a:srgbClr val="003366"/>
                </a:solidFill>
                <a:latin typeface="Calibri"/>
              </a:rPr>
              <a:t>i  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with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59" name="Textfeld 7" descr=""/>
          <p:cNvPicPr/>
          <p:nvPr/>
        </p:nvPicPr>
        <p:blipFill>
          <a:blip r:embed="rId2"/>
          <a:stretch/>
        </p:blipFill>
        <p:spPr>
          <a:xfrm>
            <a:off x="176040" y="4638600"/>
            <a:ext cx="5565960" cy="67176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3" descr=""/>
          <p:cNvPicPr/>
          <p:nvPr/>
        </p:nvPicPr>
        <p:blipFill>
          <a:blip r:embed="rId3"/>
          <a:stretch/>
        </p:blipFill>
        <p:spPr>
          <a:xfrm>
            <a:off x="3917880" y="2637000"/>
            <a:ext cx="2124000" cy="863280"/>
          </a:xfrm>
          <a:prstGeom prst="rect">
            <a:avLst/>
          </a:prstGeom>
          <a:ln w="0">
            <a:noFill/>
          </a:ln>
        </p:spPr>
      </p:pic>
      <p:sp>
        <p:nvSpPr>
          <p:cNvPr id="1961" name="Textfeld 2"/>
          <p:cNvSpPr/>
          <p:nvPr/>
        </p:nvSpPr>
        <p:spPr>
          <a:xfrm>
            <a:off x="4932360" y="3933720"/>
            <a:ext cx="4211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 used to fine-tune the feedback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ight for original query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ight for positive feedback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ight for negative feedback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Textfeld 8"/>
          <p:cNvSpPr/>
          <p:nvPr/>
        </p:nvSpPr>
        <p:spPr>
          <a:xfrm>
            <a:off x="546120" y="5373720"/>
            <a:ext cx="40971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ften only positive feedback is us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re valuable than negative feedback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actical challenges of Rocchio's method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64" name="Inhaltsplatzhalter 2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7461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obabilistic method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6" name="Inhaltsplatzhalter 2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commendation as classical text classification proble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ong history of using probabilistic method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imple approach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2 classes: hot/col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imple Boolean document representatio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alculate probability that document is hot/cold based on Bayes theore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7" name=""/>
          <p:cNvGraphicFramePr/>
          <p:nvPr/>
        </p:nvGraphicFramePr>
        <p:xfrm>
          <a:off x="395280" y="3716280"/>
          <a:ext cx="5329080" cy="194472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  <a:gridCol w="1008000"/>
                <a:gridCol w="863640"/>
                <a:gridCol w="720720"/>
                <a:gridCol w="647640"/>
              </a:tblGrid>
              <a:tr h="277920">
                <a:tc>
                  <a:txBody>
                    <a:bodyPr lIns="91800" rIns="9180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c-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llig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ar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o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b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7920"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77560"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77920"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77920"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77560"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77920"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1800" rIns="9180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800" marR="91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968" name="Textfeld 6" descr=""/>
          <p:cNvPicPr/>
          <p:nvPr/>
        </p:nvPicPr>
        <p:blipFill>
          <a:blip r:embed="rId1"/>
          <a:stretch/>
        </p:blipFill>
        <p:spPr>
          <a:xfrm>
            <a:off x="5005440" y="3852720"/>
            <a:ext cx="41022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Picture 4" descr=""/>
          <p:cNvPicPr/>
          <p:nvPr/>
        </p:nvPicPr>
        <p:blipFill>
          <a:blip r:embed="rId1"/>
          <a:stretch/>
        </p:blipFill>
        <p:spPr>
          <a:xfrm>
            <a:off x="5292720" y="2274840"/>
            <a:ext cx="3965760" cy="3314880"/>
          </a:xfrm>
          <a:prstGeom prst="rect">
            <a:avLst/>
          </a:prstGeom>
          <a:ln w="0">
            <a:noFill/>
          </a:ln>
        </p:spPr>
      </p:pic>
      <p:sp>
        <p:nvSpPr>
          <p:cNvPr id="1970" name="Rechteck 13"/>
          <p:cNvSpPr/>
          <p:nvPr/>
        </p:nvSpPr>
        <p:spPr>
          <a:xfrm rot="10800000">
            <a:off x="5148000" y="2259000"/>
            <a:ext cx="360360" cy="35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1" name="Rechteck 12"/>
          <p:cNvSpPr/>
          <p:nvPr/>
        </p:nvSpPr>
        <p:spPr>
          <a:xfrm rot="5400000">
            <a:off x="7203240" y="510120"/>
            <a:ext cx="360360" cy="37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Rechteck 4"/>
          <p:cNvSpPr/>
          <p:nvPr/>
        </p:nvSpPr>
        <p:spPr>
          <a:xfrm>
            <a:off x="8308800" y="4991040"/>
            <a:ext cx="64944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Rechteck 14"/>
          <p:cNvSpPr/>
          <p:nvPr/>
        </p:nvSpPr>
        <p:spPr>
          <a:xfrm rot="16200000">
            <a:off x="7191360" y="3833280"/>
            <a:ext cx="269640" cy="36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Textfeld 3"/>
          <p:cNvSpPr/>
          <p:nvPr/>
        </p:nvSpPr>
        <p:spPr>
          <a:xfrm>
            <a:off x="8244000" y="5010120"/>
            <a:ext cx="113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levant </a:t>
            </a:r>
            <a:br>
              <a:rPr sz="900"/>
            </a:b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Nonrelevant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468360" y="1476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st learning methods aim to find coefficients of a linear mod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 simplified classifier with only two dimensions can be represented by a lin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6" name="Inhaltsplatzhalter 2"/>
          <p:cNvSpPr/>
          <p:nvPr/>
        </p:nvSpPr>
        <p:spPr>
          <a:xfrm>
            <a:off x="463680" y="5359320"/>
            <a:ext cx="86407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ther linear classifiers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aive Bayes classifier, Rocchio method, Windrow-Hoff algorithm, Support vector machines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Linear classifier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78" name="Inhaltsplatzhalter 2" descr=""/>
          <p:cNvPicPr/>
          <p:nvPr/>
        </p:nvPicPr>
        <p:blipFill>
          <a:blip r:embed="rId2"/>
          <a:stretch/>
        </p:blipFill>
        <p:spPr>
          <a:xfrm>
            <a:off x="420840" y="2352600"/>
            <a:ext cx="50846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mprovemen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ide note: Conditional independence of events does in fact not hol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"New York", "Hong Kong"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till, good accuracy can be achiev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Boolean representation simplistic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ositional independence assum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eyword counts los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re elaborate probabilistic method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, estimate probability of term v occurring in a document of class C by relative frequency of v in all documents of the clas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ther linear classification algorithms (machine learning) can be u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upport Vector Machines, .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other information retrieval methods (used by search engines..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plicit decision model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ecision tree for recommendation probl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ner nodes labeled with item features (keyword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d to partition the test example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existence or non existence of a keyword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 basic setting only two classes appear at leaf nod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interesting or not interesting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ecision tree can automatically be constructed from training dat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orks best with small number of featur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 meta features like author name, genre, ...  instead of TF-IDF representation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tent-based recommend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94" name="Grafik 10" descr="UM.png"/>
          <p:cNvPicPr/>
          <p:nvPr/>
        </p:nvPicPr>
        <p:blipFill>
          <a:blip r:embed="rId1"/>
          <a:stretch/>
        </p:blipFill>
        <p:spPr>
          <a:xfrm>
            <a:off x="2827440" y="4432320"/>
            <a:ext cx="1109520" cy="595440"/>
          </a:xfrm>
          <a:prstGeom prst="rect">
            <a:avLst/>
          </a:prstGeom>
          <a:ln w="0">
            <a:noFill/>
          </a:ln>
        </p:spPr>
      </p:pic>
      <p:pic>
        <p:nvPicPr>
          <p:cNvPr id="1895" name="Grafik 11" descr="UMarrow.png"/>
          <p:cNvPicPr/>
          <p:nvPr/>
        </p:nvPicPr>
        <p:blipFill>
          <a:blip r:embed="rId2"/>
          <a:stretch/>
        </p:blipFill>
        <p:spPr>
          <a:xfrm>
            <a:off x="3981600" y="4646520"/>
            <a:ext cx="1100160" cy="534960"/>
          </a:xfrm>
          <a:prstGeom prst="rect">
            <a:avLst/>
          </a:prstGeom>
          <a:ln w="0">
            <a:noFill/>
          </a:ln>
        </p:spPr>
      </p:pic>
      <p:sp>
        <p:nvSpPr>
          <p:cNvPr id="1896" name="Wolkenförmige Legende 6"/>
          <p:cNvSpPr/>
          <p:nvPr/>
        </p:nvSpPr>
        <p:spPr>
          <a:xfrm flipH="1" flipV="1" rot="2787000">
            <a:off x="1020960" y="4344480"/>
            <a:ext cx="1525680" cy="1587240"/>
          </a:xfrm>
          <a:prstGeom prst="cloudCallout">
            <a:avLst>
              <a:gd name="adj1" fmla="val -30768"/>
              <a:gd name="adj2" fmla="val 89175"/>
            </a:avLst>
          </a:prstGeom>
          <a:solidFill>
            <a:srgbClr val="daedef"/>
          </a:solidFill>
          <a:ln w="936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Inhaltsplatzhalter 2"/>
          <p:cNvSpPr/>
          <p:nvPr/>
        </p:nvSpPr>
        <p:spPr>
          <a:xfrm>
            <a:off x="457200" y="1373040"/>
            <a:ext cx="81471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While CF – methods do not require any information about the items,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 might be reasonable to exploit such information; an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commend fantasy novels to people who liked fantasy novels in the pa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What do we need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me information about the available items such as the genre ("content")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me sort of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 profile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describing what the user likes (the preferences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he task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earn user preference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ocate/recommend items that are "similar" to the user preference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8" name="Grafik 5" descr="Box.png"/>
          <p:cNvPicPr/>
          <p:nvPr/>
        </p:nvPicPr>
        <p:blipFill>
          <a:blip r:embed="rId3"/>
          <a:stretch/>
        </p:blipFill>
        <p:spPr>
          <a:xfrm>
            <a:off x="4973760" y="5195880"/>
            <a:ext cx="1012680" cy="841320"/>
          </a:xfrm>
          <a:prstGeom prst="rect">
            <a:avLst/>
          </a:prstGeom>
          <a:ln w="0">
            <a:noFill/>
          </a:ln>
        </p:spPr>
      </p:pic>
      <p:pic>
        <p:nvPicPr>
          <p:cNvPr id="1899" name="Grafik 6" descr="Outputarrow.png"/>
          <p:cNvPicPr/>
          <p:nvPr/>
        </p:nvPicPr>
        <p:blipFill>
          <a:blip r:embed="rId4"/>
          <a:stretch/>
        </p:blipFill>
        <p:spPr>
          <a:xfrm>
            <a:off x="5854680" y="5403960"/>
            <a:ext cx="695520" cy="135000"/>
          </a:xfrm>
          <a:prstGeom prst="rect">
            <a:avLst/>
          </a:prstGeom>
          <a:ln w="0">
            <a:noFill/>
          </a:ln>
        </p:spPr>
      </p:pic>
      <p:pic>
        <p:nvPicPr>
          <p:cNvPr id="1900" name="Grafik 7" descr="Output.png"/>
          <p:cNvPicPr/>
          <p:nvPr/>
        </p:nvPicPr>
        <p:blipFill>
          <a:blip r:embed="rId5"/>
          <a:stretch/>
        </p:blipFill>
        <p:spPr>
          <a:xfrm>
            <a:off x="6558120" y="5140440"/>
            <a:ext cx="992160" cy="952560"/>
          </a:xfrm>
          <a:prstGeom prst="rect">
            <a:avLst/>
          </a:prstGeom>
          <a:ln w="0">
            <a:noFill/>
          </a:ln>
        </p:spPr>
      </p:pic>
      <p:pic>
        <p:nvPicPr>
          <p:cNvPr id="1901" name="Grafik 21" descr="PM.png"/>
          <p:cNvPicPr/>
          <p:nvPr/>
        </p:nvPicPr>
        <p:blipFill>
          <a:blip r:embed="rId6"/>
          <a:stretch/>
        </p:blipFill>
        <p:spPr>
          <a:xfrm>
            <a:off x="3036960" y="5616720"/>
            <a:ext cx="1100160" cy="455400"/>
          </a:xfrm>
          <a:prstGeom prst="rect">
            <a:avLst/>
          </a:prstGeom>
          <a:ln w="0">
            <a:noFill/>
          </a:ln>
        </p:spPr>
      </p:pic>
      <p:pic>
        <p:nvPicPr>
          <p:cNvPr id="1902" name="Grafik 22" descr="PMarrow.png"/>
          <p:cNvPicPr/>
          <p:nvPr/>
        </p:nvPicPr>
        <p:blipFill>
          <a:blip r:embed="rId7"/>
          <a:stretch/>
        </p:blipFill>
        <p:spPr>
          <a:xfrm>
            <a:off x="4268880" y="5661000"/>
            <a:ext cx="703080" cy="176400"/>
          </a:xfrm>
          <a:prstGeom prst="rect">
            <a:avLst/>
          </a:prstGeom>
          <a:ln w="0">
            <a:noFill/>
          </a:ln>
        </p:spPr>
      </p:pic>
      <p:sp>
        <p:nvSpPr>
          <p:cNvPr id="1903" name="Rechteck 15"/>
          <p:cNvSpPr/>
          <p:nvPr/>
        </p:nvSpPr>
        <p:spPr>
          <a:xfrm>
            <a:off x="1241280" y="4802040"/>
            <a:ext cx="123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4b50"/>
                </a:solidFill>
                <a:latin typeface="Verdana"/>
              </a:rPr>
              <a:t>"show me more of the same what I've liked"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75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plicit decision models II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ule indu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uilt on RIPPER algorith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good performance compared with other classification method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eloborate postpruning techniques of RIPPE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extension for e-mail classificatio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takes document structure into account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ain advantages of these decision models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ferred decision rules serve as basis for generating explanations for recommendatio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isting domain knowledge can be incorporated in model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n feature selec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86" name="Inhaltsplatzhalter 2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3390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Limitations of content-based recommendation metho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Keywords alone may not be sufficient to judge quality/relevance of a document or web pag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p-to-date-ness, usability, aesthetics, writing styl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ntent may also be limited / too shor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ntent may not be automatically extractable (multimedia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amp-up phase requir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ome training data is still requir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b 2.0: Use other sources to learn the user preferenc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Overspecializ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lgorithms tend to propose "more of the same"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r: too similar news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Discussion &amp; 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 contrast to collaborative approaches, content-based techniques do not require user community in order to wor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esented approaches aim to learn a model of user's interest preferences based on explicit </a:t>
            </a: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or implicit feedbac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eriving implicit feedback from user behavior can be problematic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valuations show that a good recommendation accuracy can be achieved with help of machine learning </a:t>
            </a: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techniq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Calibri"/>
              </a:rPr>
              <a:t>These techniques do not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quire a user communit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Calibri"/>
              </a:rPr>
              <a:t>Danger exist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at recommendation lists contain too many similar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Calibri"/>
              </a:rPr>
              <a:t>All learning techniques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quire a certain amount of training dat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Calibri"/>
              </a:rPr>
              <a:t>Some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earning methods tend to overfit the training dat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Pure content-based systems are rarely found in commercial </a:t>
            </a:r>
            <a:r>
              <a:rPr b="0" lang="de-DE" sz="2000" spc="-1" strike="noStrike">
                <a:solidFill>
                  <a:srgbClr val="003366"/>
                </a:solidFill>
                <a:latin typeface="Calibri"/>
              </a:rPr>
              <a:t>environ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Calibri"/>
              </a:rPr>
              <a:t>Literatu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[Michael Pazzani and Daniel Billsus 1997]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earning and revising user profiles: The identification of interesting web sites, Machine Learning </a:t>
            </a: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(1997), no. 3, 313-</a:t>
            </a:r>
            <a:r>
              <a:rPr b="0" lang="de-DE" sz="1600" spc="-1" strike="noStrike">
                <a:solidFill>
                  <a:srgbClr val="003366"/>
                </a:solidFill>
                <a:latin typeface="Calibri"/>
              </a:rPr>
              <a:t>331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[Soumen Chakrabarti 2002]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ining the web: Discovering knowledge from hyper-text data, Science &amp; Technology Books, 2002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hat is the "content"?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st CB-recommendation techniques were applied to recommending text document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ike web pages or newsgroup messages for example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ntent of items can also be represented as text document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ith textual descriptions of their basic characteristics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tructured: Each item is described by the same set of attribute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nstructured: free-text description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06" name="Picture 3" descr="C:\Users\Zeynep\Pictures\Recommender_Slides\book.png"/>
          <p:cNvPicPr/>
          <p:nvPr/>
        </p:nvPicPr>
        <p:blipFill>
          <a:blip r:embed="rId1"/>
          <a:stretch/>
        </p:blipFill>
        <p:spPr>
          <a:xfrm>
            <a:off x="108000" y="3500280"/>
            <a:ext cx="79200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7" name=""/>
          <p:cNvGraphicFramePr/>
          <p:nvPr/>
        </p:nvGraphicFramePr>
        <p:xfrm>
          <a:off x="1042920" y="3500280"/>
          <a:ext cx="7632720" cy="197496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  <a:gridCol w="1130400"/>
                <a:gridCol w="1130400"/>
                <a:gridCol w="1981080"/>
              </a:tblGrid>
              <a:tr h="281160"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n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tho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ywor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5960"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Night of the Gu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i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id Car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perbac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.9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s and journalism, drug addiction, personal memoirs, New Yor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14880"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Lace Read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ction, Myste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nonia Bar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rdcov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.9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ican contemporary fiction, detective, historic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62960"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o the Fi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ce, Suspen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zanne Brockman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rdcov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.9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2680" rIns="11268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ican fiction, murder, neo-Nazis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12680" marR="11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908" name="Abgerundetes Rechteck 7"/>
          <p:cNvSpPr/>
          <p:nvPr/>
        </p:nvSpPr>
        <p:spPr>
          <a:xfrm>
            <a:off x="900000" y="3429000"/>
            <a:ext cx="8004240" cy="417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9" name="Abgerundetes Rechteck 14"/>
          <p:cNvSpPr/>
          <p:nvPr/>
        </p:nvSpPr>
        <p:spPr>
          <a:xfrm>
            <a:off x="5661000" y="3073320"/>
            <a:ext cx="9428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Gerade Verbindung 12"/>
          <p:cNvSpPr/>
          <p:nvPr/>
        </p:nvSpPr>
        <p:spPr>
          <a:xfrm>
            <a:off x="6603840" y="3200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11" name="Gerade Verbindung mit Pfeil 15"/>
          <p:cNvCxnSpPr/>
          <p:nvPr/>
        </p:nvCxnSpPr>
        <p:spPr>
          <a:xfrm>
            <a:off x="6803640" y="32000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1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3"/>
          <p:cNvSpPr/>
          <p:nvPr/>
        </p:nvSpPr>
        <p:spPr>
          <a:xfrm>
            <a:off x="557280" y="1322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tem represent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ntent representation and item similariti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3360" y="4869000"/>
            <a:ext cx="4627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alibri"/>
              </a:rPr>
              <a:t>Simple approach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Calibri"/>
              </a:rPr>
              <a:t>Compute the similarity of an unseen item with the user profile based on the keyword overlap </a:t>
            </a:r>
            <a:br>
              <a:rPr sz="1300"/>
            </a:br>
            <a:r>
              <a:rPr b="0" lang="en-US" sz="1300" spc="-1" strike="noStrike">
                <a:solidFill>
                  <a:srgbClr val="003366"/>
                </a:solidFill>
                <a:latin typeface="Calibri"/>
              </a:rPr>
              <a:t>(e.g. using the Dice coefficient)</a:t>
            </a:r>
            <a:br>
              <a:rPr sz="1300"/>
            </a:br>
            <a:r>
              <a:rPr b="0" lang="en-US" sz="13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Calibri"/>
              </a:rPr>
              <a:t>Or use and combine multiple metrics</a:t>
            </a:r>
            <a:endParaRPr b="0" lang="en-US" sz="13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915" name=""/>
          <p:cNvGraphicFramePr/>
          <p:nvPr/>
        </p:nvGraphicFramePr>
        <p:xfrm>
          <a:off x="1116000" y="1800360"/>
          <a:ext cx="6060960" cy="1701720"/>
        </p:xfrm>
        <a:graphic>
          <a:graphicData uri="http://schemas.openxmlformats.org/drawingml/2006/table">
            <a:tbl>
              <a:tblPr/>
              <a:tblGrid>
                <a:gridCol w="897120"/>
                <a:gridCol w="830160"/>
                <a:gridCol w="965160"/>
                <a:gridCol w="896760"/>
                <a:gridCol w="587520"/>
                <a:gridCol w="1884240"/>
              </a:tblGrid>
              <a:tr h="2142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n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th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ywor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648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Night of the Gu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i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id Car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perbac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.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s and journalism, drug addiction, personal memoirs, New Yo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472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Lace Read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ction, Myster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nonia Barr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rdcov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.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ican contemporary fiction, detective, historic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42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o the Fir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ce, Suspens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zanne Brockman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rdcov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.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ican fiction, murder, neo-Nazis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916" name="Rectangle 3"/>
          <p:cNvSpPr/>
          <p:nvPr/>
        </p:nvSpPr>
        <p:spPr>
          <a:xfrm>
            <a:off x="603360" y="3581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User profi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7" name=""/>
          <p:cNvGraphicFramePr/>
          <p:nvPr/>
        </p:nvGraphicFramePr>
        <p:xfrm>
          <a:off x="1116000" y="4013280"/>
          <a:ext cx="6060960" cy="787320"/>
        </p:xfrm>
        <a:graphic>
          <a:graphicData uri="http://schemas.openxmlformats.org/drawingml/2006/table">
            <a:tbl>
              <a:tblPr/>
              <a:tblGrid>
                <a:gridCol w="897120"/>
                <a:gridCol w="830160"/>
                <a:gridCol w="965160"/>
                <a:gridCol w="896760"/>
                <a:gridCol w="587520"/>
                <a:gridCol w="1884240"/>
              </a:tblGrid>
              <a:tr h="24192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nr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th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yword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648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c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nonia, Barry, Ken Follet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perbac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ve, murder,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Yo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9280" marR="89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918" name="Abgerundetes Rechteck 9"/>
          <p:cNvSpPr/>
          <p:nvPr/>
        </p:nvSpPr>
        <p:spPr>
          <a:xfrm>
            <a:off x="5292720" y="1538280"/>
            <a:ext cx="1790640" cy="3475080"/>
          </a:xfrm>
          <a:custGeom>
            <a:avLst/>
            <a:gdLst>
              <a:gd name="textAreaLeft" fmla="*/ 87120 w 1790640"/>
              <a:gd name="textAreaRight" fmla="*/ 1703520 w 1790640"/>
              <a:gd name="textAreaTop" fmla="*/ 87120 h 3475080"/>
              <a:gd name="textAreaBottom" fmla="*/ 3387960 h 3475080"/>
            </a:gdLst>
            <a:ahLst/>
            <a:rect l="textAreaLeft" t="textAreaTop" r="textAreaRight" b="textAreaBottom"/>
            <a:pathLst>
              <a:path w="21600" h="41915">
                <a:moveTo>
                  <a:pt x="3600" y="0"/>
                </a:moveTo>
                <a:arcTo wR="3600" hR="3600" stAng="16200000" swAng="-5400000"/>
                <a:lnTo>
                  <a:pt x="0" y="38315"/>
                </a:lnTo>
                <a:arcTo wR="3600" hR="3600" stAng="10800000" swAng="-5400000"/>
                <a:lnTo>
                  <a:pt x="18000" y="41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Abgerundetes Rechteck 12"/>
          <p:cNvSpPr/>
          <p:nvPr/>
        </p:nvSpPr>
        <p:spPr>
          <a:xfrm>
            <a:off x="971640" y="1700280"/>
            <a:ext cx="4248000" cy="321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0" name="Textfeld 1" descr=""/>
          <p:cNvPicPr/>
          <p:nvPr/>
        </p:nvPicPr>
        <p:blipFill>
          <a:blip r:embed="rId1"/>
          <a:stretch/>
        </p:blipFill>
        <p:spPr>
          <a:xfrm>
            <a:off x="5364000" y="5059440"/>
            <a:ext cx="3170520" cy="622080"/>
          </a:xfrm>
          <a:prstGeom prst="rect">
            <a:avLst/>
          </a:prstGeom>
          <a:ln w="0">
            <a:noFill/>
          </a:ln>
        </p:spPr>
      </p:pic>
      <p:pic>
        <p:nvPicPr>
          <p:cNvPr id="1921" name="Rectangle 3" descr=""/>
          <p:cNvPicPr/>
          <p:nvPr/>
        </p:nvPicPr>
        <p:blipFill>
          <a:blip r:embed="rId2"/>
          <a:stretch/>
        </p:blipFill>
        <p:spPr>
          <a:xfrm>
            <a:off x="7291440" y="3797280"/>
            <a:ext cx="1687320" cy="1116000"/>
          </a:xfrm>
          <a:prstGeom prst="rect">
            <a:avLst/>
          </a:prstGeom>
          <a:ln w="0">
            <a:noFill/>
          </a:ln>
        </p:spPr>
      </p:pic>
      <p:sp>
        <p:nvSpPr>
          <p:cNvPr id="1922" name="Pfeil nach rechts 13"/>
          <p:cNvSpPr/>
          <p:nvPr/>
        </p:nvSpPr>
        <p:spPr>
          <a:xfrm>
            <a:off x="4915080" y="5300640"/>
            <a:ext cx="304560" cy="14436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feil nach rechts 15"/>
          <p:cNvSpPr/>
          <p:nvPr/>
        </p:nvSpPr>
        <p:spPr>
          <a:xfrm rot="16200000">
            <a:off x="7660440" y="4833000"/>
            <a:ext cx="304560" cy="14436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4" name="Titel 1" descr=""/>
          <p:cNvPicPr/>
          <p:nvPr/>
        </p:nvPicPr>
        <p:blipFill>
          <a:blip r:embed="rId1"/>
          <a:stretch/>
        </p:blipFill>
        <p:spPr>
          <a:xfrm>
            <a:off x="365040" y="231840"/>
            <a:ext cx="8321760" cy="113976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imple keyword representation has its problem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 particular when automatically extracted a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not every word has similar importance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longer documents have a higher chance to have an overlap with the user profile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tandard measure: TF-IDF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ncodes text documents in multi-dimensional Euclidian space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weighted term vector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F: Measures, how often a term appears (density in a document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assuming that important terms appear more ofte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normalization has to be done in order to take document length into account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DF: Aims to reduce the weight of terms that appear in all documen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F-IDF II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27" name="Inhaltsplatzhalter 2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583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TF-IDF represent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29" name="Rectangle 3" descr=""/>
          <p:cNvPicPr/>
          <p:nvPr/>
        </p:nvPicPr>
        <p:blipFill>
          <a:blip r:embed="rId1"/>
          <a:stretch/>
        </p:blipFill>
        <p:spPr>
          <a:xfrm>
            <a:off x="426960" y="1311120"/>
            <a:ext cx="8272440" cy="785880"/>
          </a:xfrm>
          <a:prstGeom prst="rect">
            <a:avLst/>
          </a:prstGeom>
          <a:ln w="0">
            <a:noFill/>
          </a:ln>
        </p:spPr>
      </p:pic>
      <p:sp>
        <p:nvSpPr>
          <p:cNvPr id="1930" name="Textfeld 6"/>
          <p:cNvSpPr/>
          <p:nvPr/>
        </p:nvSpPr>
        <p:spPr>
          <a:xfrm>
            <a:off x="755640" y="5867280"/>
            <a:ext cx="32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ample taken from http://informationretrieval.org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1" name=""/>
          <p:cNvGraphicFramePr/>
          <p:nvPr/>
        </p:nvGraphicFramePr>
        <p:xfrm>
          <a:off x="611280" y="2133720"/>
          <a:ext cx="6337080" cy="3076560"/>
        </p:xfrm>
        <a:graphic>
          <a:graphicData uri="http://schemas.openxmlformats.org/drawingml/2006/table">
            <a:tbl>
              <a:tblPr/>
              <a:tblGrid>
                <a:gridCol w="995400"/>
                <a:gridCol w="996840"/>
                <a:gridCol w="904680"/>
                <a:gridCol w="905040"/>
                <a:gridCol w="814320"/>
                <a:gridCol w="816120"/>
                <a:gridCol w="904680"/>
              </a:tblGrid>
              <a:tr h="56808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ony and Cleopatr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lius Caesa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Tempes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ml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hell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cbet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660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on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216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tu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180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esa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180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purn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216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opatr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180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2160"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s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9440" rIns="109440" tIns="54720" bIns="54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9440" marR="109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932" name="Abgerundetes Rechteck 1"/>
          <p:cNvSpPr/>
          <p:nvPr/>
        </p:nvSpPr>
        <p:spPr>
          <a:xfrm>
            <a:off x="2631960" y="2060640"/>
            <a:ext cx="860400" cy="3213000"/>
          </a:xfrm>
          <a:custGeom>
            <a:avLst/>
            <a:gdLst>
              <a:gd name="textAreaLeft" fmla="*/ 41760 w 860400"/>
              <a:gd name="textAreaRight" fmla="*/ 818640 w 860400"/>
              <a:gd name="textAreaTop" fmla="*/ 41760 h 3213000"/>
              <a:gd name="textAreaBottom" fmla="*/ 3171240 h 3213000"/>
            </a:gdLst>
            <a:ahLst/>
            <a:rect l="textAreaLeft" t="textAreaTop" r="textAreaRight" b="textAreaBottom"/>
            <a:pathLst>
              <a:path w="21600" h="80636">
                <a:moveTo>
                  <a:pt x="3600" y="0"/>
                </a:moveTo>
                <a:arcTo wR="3600" hR="3600" stAng="16200000" swAng="-5400000"/>
                <a:lnTo>
                  <a:pt x="0" y="77036"/>
                </a:lnTo>
                <a:arcTo wR="3600" hR="3600" stAng="10800000" swAng="-5400000"/>
                <a:lnTo>
                  <a:pt x="18000" y="80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3" name="Abgerundetes Rechteck 2"/>
          <p:cNvSpPr/>
          <p:nvPr/>
        </p:nvSpPr>
        <p:spPr>
          <a:xfrm>
            <a:off x="2916360" y="1736640"/>
            <a:ext cx="12096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34" name="Gerade Verbindung mit Pfeil 7"/>
          <p:cNvCxnSpPr/>
          <p:nvPr/>
        </p:nvCxnSpPr>
        <p:spPr>
          <a:xfrm flipH="1">
            <a:off x="2947680" y="1988640"/>
            <a:ext cx="1087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5" name="Gerade Verbindung mit Pfeil 11"/>
          <p:cNvCxnSpPr/>
          <p:nvPr/>
        </p:nvCxnSpPr>
        <p:spPr>
          <a:xfrm>
            <a:off x="3276360" y="5273280"/>
            <a:ext cx="7196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36" name="Textfeld 12" descr=""/>
          <p:cNvPicPr/>
          <p:nvPr/>
        </p:nvPicPr>
        <p:blipFill>
          <a:blip r:embed="rId2"/>
          <a:stretch/>
        </p:blipFill>
        <p:spPr>
          <a:xfrm>
            <a:off x="3706920" y="5376960"/>
            <a:ext cx="468144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1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" dur="2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TF-IDF represent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38" name="Rectangle 3" descr=""/>
          <p:cNvPicPr/>
          <p:nvPr/>
        </p:nvPicPr>
        <p:blipFill>
          <a:blip r:embed="rId1"/>
          <a:stretch/>
        </p:blipFill>
        <p:spPr>
          <a:xfrm>
            <a:off x="353880" y="1163520"/>
            <a:ext cx="8272440" cy="897120"/>
          </a:xfrm>
          <a:prstGeom prst="rect">
            <a:avLst/>
          </a:prstGeom>
          <a:ln w="0">
            <a:noFill/>
          </a:ln>
        </p:spPr>
      </p:pic>
      <p:sp>
        <p:nvSpPr>
          <p:cNvPr id="1939" name="Textfeld 6"/>
          <p:cNvSpPr/>
          <p:nvPr/>
        </p:nvSpPr>
        <p:spPr>
          <a:xfrm>
            <a:off x="755640" y="5867280"/>
            <a:ext cx="32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ample taken from http://informationretrieval.org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0" name=""/>
          <p:cNvGraphicFramePr/>
          <p:nvPr/>
        </p:nvGraphicFramePr>
        <p:xfrm>
          <a:off x="611280" y="1989000"/>
          <a:ext cx="5832360" cy="286704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833400"/>
                <a:gridCol w="833400"/>
                <a:gridCol w="749520"/>
                <a:gridCol w="749160"/>
                <a:gridCol w="833400"/>
              </a:tblGrid>
              <a:tr h="55800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ony and Cleopatr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lius Caesa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Tempes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ml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hell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cbet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on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33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tu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33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esa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33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purn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33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opatr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33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264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s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941" name="Tabelle 5" descr=""/>
          <p:cNvPicPr/>
          <p:nvPr/>
        </p:nvPicPr>
        <p:blipFill>
          <a:blip r:embed="rId2"/>
          <a:stretch/>
        </p:blipFill>
        <p:spPr>
          <a:xfrm>
            <a:off x="1755720" y="2712960"/>
            <a:ext cx="593748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mproving the vector space mode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Vectors are usually long and spar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move stop word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y will appear in nearly all documents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 "a", "the", "on", …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use stemm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ims to replace variants of words by their common st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 "went"       "go", "stemming"      "stem", …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ize cut-offs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nly use top n most representative words to remove "noise" from dat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.g. use top 100 word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4" name="Pfeil nach rechts 7"/>
          <p:cNvSpPr/>
          <p:nvPr/>
        </p:nvSpPr>
        <p:spPr>
          <a:xfrm>
            <a:off x="2243160" y="3824280"/>
            <a:ext cx="216000" cy="73080"/>
          </a:xfrm>
          <a:prstGeom prst="rightArrow">
            <a:avLst>
              <a:gd name="adj1" fmla="val 50000"/>
              <a:gd name="adj2" fmla="val 4926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Pfeil nach rechts 8"/>
          <p:cNvSpPr/>
          <p:nvPr/>
        </p:nvSpPr>
        <p:spPr>
          <a:xfrm>
            <a:off x="3995640" y="3824280"/>
            <a:ext cx="216000" cy="73080"/>
          </a:xfrm>
          <a:prstGeom prst="rightArrow">
            <a:avLst>
              <a:gd name="adj1" fmla="val 50000"/>
              <a:gd name="adj2" fmla="val 4926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0:17Z</dcterms:modified>
  <cp:revision>1187</cp:revision>
  <dc:subject/>
  <dc:title>Recommender Systems</dc:title>
</cp:coreProperties>
</file>