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Zeynep" initials="Z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1-08-16T13:23:28.190000000" idx="1">
    <p:pos x="5524" y="2934"/>
    <p:text>Punkt statt Komma als Trennzeichen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CC6BDA-5C8C-429F-8393-320A9ED3B57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112CF8-EF2A-436A-9C59-03AB8815BC4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EE9958-AA24-47DB-8A2B-716A2DD954B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2E490D-2B7D-4DE9-BAEE-693E65B2419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67D77-AE88-4087-94D7-2B5D640F052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CD6C92-D1E1-46A8-A60B-C89D32F559D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FDBE5F-C372-45CD-AD90-C4B184C1A56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00C1E1-08F7-4FC4-9717-B80A5F020F1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59327E-7F0F-49F7-AC09-CC164093B20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5CFED9-800E-47B4-B6FA-E4E2E07B328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9FCDDF-DA29-4C51-9571-51F84B15F52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6C4C87-0FBE-429E-939F-4CF86F8D3D8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4B60EB-878F-4FA0-B8E0-66B8C85C5C3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23375B-5086-4FB6-AA14-1AD8E630EA0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C72E2B-5D06-4C01-9A32-5BB32E5B95E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54ACE7-328A-4D58-885C-4E5F3A6F4A7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8BF4F1-AD4B-4B82-A9CC-2A05FDFEBB7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DD9CE0-C928-4D66-A60B-9A0E9C6909C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EDFD6B-93DA-478C-B6F3-33312106316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E992ED-1E47-4D08-9954-3B2C995F02D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B2C749-43CA-467E-8850-EB93EEE7BF0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0FB2D-327C-4934-B79A-FCF8723B869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4AE16A-D7F8-4C23-A85A-8E2E566763C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03D86D-898C-4291-AA7B-21439BAC504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48FFE7-25AE-46F6-9576-7992D3FB947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2668CC-3C86-499A-AAA2-76EA5B8B9EE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6E7CF8-06E2-4E60-A534-18570B35EA3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424420-518E-4A3E-830F-B2303DBE46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E4E601-D1ED-4B79-8F58-C3C3EE0898C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794776-F143-48A1-BC95-7AB63568E7E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892579-CC9E-4458-A2F7-DA25FC8AB40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4D0D46-4C4C-4C38-87A6-374D3D36BCC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F9500D-A020-4E68-80ED-C4BBA4311C7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10973A-76BF-4811-8C8D-5E6394C014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DABFEA-6AC3-41B9-A5F6-FC2E9FC5E0C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6FD259-C4B7-40D9-847C-5E1246EC93D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15C445-0749-4FCC-AE6F-2623F4CA165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28B454-9653-4F43-AD9E-33641C63B4B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5BF4BA-537A-4306-98B6-71E5DEF4E66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4EB58D-4F5A-4AD0-85D3-E7421229CF4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2C8884-09E3-4DF2-8EBC-414F10D8397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7B1B6E-F8E9-481F-B8A1-A6EA175F655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53FE3-ED5A-444F-BFEB-1D0DD83AB8D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07044D-D126-4CB8-9E94-353F75F8CB3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9DD060-58B1-42BF-8B3F-1F2131AC443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E228BD-C253-41AF-B86D-D476D87AE8C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E69F1E-E7B1-45DB-AEA8-DF78A5A8416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75DE-7002-4459-8E90-5596B1D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6077-FCC4-42EA-8F18-5147B6A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2F4B9-D90F-49B3-858C-B8DE531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6007-2D96-4B6C-9129-999A0CE0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F719D-8566-4317-A021-D9B6F200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DDED5-BD0D-4F07-94A3-17311750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9E21-5168-463C-AA71-FE99FB5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BBB06-6C78-4B01-B73E-1A41EA7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B2333-EFA6-4FB8-A00A-7135C22D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1310C-11BE-4F4F-BA69-B6294552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FA7A0-667F-42B2-B862-D2BC3998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6CB0-94F6-48B9-8731-24E17EAA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8B04FB4-9D38-4773-865E-D723A1E8678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6AE6B7B-2F9C-4C9B-A9CD-4A2EFD7483C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8D529520-83EC-4EDC-88C1-E7049391DEE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62B9BEA-1282-4960-8CD0-3961569ED6B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A5F2A54-B8CD-44AB-849B-86046C98A82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C738D2B-0E68-42F7-B709-F5B910B3DA8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4E1D7AD-034D-459D-8E57-76604CF9272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B26-00F7-4CB5-A2AE-CF16FCF241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6F3967D-D85E-4E5B-A83D-001B242EDAA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CDD74D30-8716-45E5-87B8-A765A260DD7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F2CC45C-93AA-4603-8FB4-A4522B633D8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D572315-D0DE-4AB4-9B35-700D20CB0B6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C5BCBB9-17C6-450F-AFAB-C65257C0589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85AC117-4E2C-45DC-B8EF-2E470FDDC12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66C16BE-C29E-4A7E-9E9D-7119391AC976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1285920" y="2646360"/>
            <a:ext cx="6645240" cy="646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C:\Users\Fatih\AppData\Local\Microsoft\Windows\Temporary Internet Files\Content.IE5\W5BAFZQE\MP900444217[1].jpg"/>
          <p:cNvPicPr/>
          <p:nvPr/>
        </p:nvPicPr>
        <p:blipFill>
          <a:blip r:embed="rId2"/>
          <a:stretch/>
        </p:blipFill>
        <p:spPr>
          <a:xfrm>
            <a:off x="2808360" y="3289320"/>
            <a:ext cx="3598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earson correl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akes differences in rating behavior into accou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Works well in usual domains, compared with alternative measur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ch as cosine similar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6" name="Chart 2" descr=""/>
          <p:cNvPicPr/>
          <p:nvPr/>
        </p:nvPicPr>
        <p:blipFill>
          <a:blip r:embed="rId1"/>
          <a:stretch/>
        </p:blipFill>
        <p:spPr>
          <a:xfrm>
            <a:off x="927000" y="2212920"/>
            <a:ext cx="5302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aking predictio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78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315280" cy="4552920"/>
          </a:xfrm>
          <a:prstGeom prst="rect">
            <a:avLst/>
          </a:prstGeom>
          <a:ln w="0">
            <a:noFill/>
          </a:ln>
        </p:spPr>
      </p:pic>
      <p:pic>
        <p:nvPicPr>
          <p:cNvPr id="679" name="Grafik 3" descr=""/>
          <p:cNvPicPr/>
          <p:nvPr/>
        </p:nvPicPr>
        <p:blipFill>
          <a:blip r:embed="rId2"/>
          <a:stretch/>
        </p:blipFill>
        <p:spPr>
          <a:xfrm>
            <a:off x="7621560" y="2143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80" name="Textfeld 4" descr=""/>
          <p:cNvPicPr/>
          <p:nvPr/>
        </p:nvPicPr>
        <p:blipFill>
          <a:blip r:embed="rId3"/>
          <a:stretch/>
        </p:blipFill>
        <p:spPr>
          <a:xfrm>
            <a:off x="768240" y="2279520"/>
            <a:ext cx="502920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mproving the metrics  / prediction func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ot all neighbor ratings might be equally "valuable"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greement on commonly liked items is not so informative as agreement on controversial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ossible solution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:  Give more weight to items that have a higher vari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Value of number of co-rated i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"significance weighting", by e.g., linearly reducing the weight when the number of co-rated items is low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ase amplific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tuition: Give more weight to "very similar" neighbors, i.e., where the similarity value is close to 1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eighborhood selec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similarity threshold or fixed number of neighbo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mory-based and model-based approach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User-based CF is said to be "memory-based"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 rating matrix is directly used to find neighbors / make predic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oes not scale for most real-world scenario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arge e-commerce sites have tens of millions of customers and millions of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del-based approach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sed on an offline pre-processing or "model-learning" pha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t run-time, only the learned model is used to make predic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dels are updated / re-trained periodicall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arge variety of techniques used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del-building and updating can be computationally expensiv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item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-based CF is an example for model-based approach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tem-based collaborative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asic idea: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the similarity between items (and not users) to make predic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ample: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ook for items that are similar to Item5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ake Alice's ratings for these items to predict the rating for Item5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42960" y="3786120"/>
          <a:ext cx="6095880" cy="22258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88" name="Abgerundetes Rechteck 5"/>
          <p:cNvSpPr/>
          <p:nvPr/>
        </p:nvSpPr>
        <p:spPr>
          <a:xfrm>
            <a:off x="5715000" y="4500720"/>
            <a:ext cx="1071720" cy="157140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571400"/>
              <a:gd name="textAreaBottom" fmla="*/ 1519200 h 1571400"/>
            </a:gdLst>
            <a:ahLst/>
            <a:rect l="textAreaLeft" t="textAreaTop" r="textAreaRight" b="textAreaBottom"/>
            <a:pathLst>
              <a:path w="21600" h="31667">
                <a:moveTo>
                  <a:pt x="3600" y="0"/>
                </a:moveTo>
                <a:arcTo wR="3600" hR="3600" stAng="16200000" swAng="-5400000"/>
                <a:lnTo>
                  <a:pt x="0" y="28067"/>
                </a:lnTo>
                <a:arcTo wR="3600" hR="3600" stAng="10800000" swAng="-5400000"/>
                <a:lnTo>
                  <a:pt x="18000" y="31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9" name="Gruppieren 8"/>
          <p:cNvGrpSpPr/>
          <p:nvPr/>
        </p:nvGrpSpPr>
        <p:grpSpPr>
          <a:xfrm>
            <a:off x="1571760" y="4500720"/>
            <a:ext cx="4143240" cy="1571400"/>
            <a:chOff x="1571760" y="4500720"/>
            <a:chExt cx="4143240" cy="1571400"/>
          </a:xfrm>
        </p:grpSpPr>
        <p:sp>
          <p:nvSpPr>
            <p:cNvPr id="690" name="Abgerundetes Rechteck 6"/>
            <p:cNvSpPr/>
            <p:nvPr/>
          </p:nvSpPr>
          <p:spPr>
            <a:xfrm>
              <a:off x="1571760" y="4500720"/>
              <a:ext cx="1071360" cy="1571400"/>
            </a:xfrm>
            <a:custGeom>
              <a:avLst/>
              <a:gdLst>
                <a:gd name="textAreaLeft" fmla="*/ 52200 w 1071360"/>
                <a:gd name="textAreaRight" fmla="*/ 1019160 w 1071360"/>
                <a:gd name="textAreaTop" fmla="*/ 52200 h 1571400"/>
                <a:gd name="textAreaBottom" fmla="*/ 1519200 h 1571400"/>
              </a:gdLst>
              <a:ahLst/>
              <a:rect l="textAreaLeft" t="textAreaTop" r="textAreaRight" b="textAreaBottom"/>
              <a:pathLst>
                <a:path w="21600" h="31678">
                  <a:moveTo>
                    <a:pt x="3600" y="0"/>
                  </a:moveTo>
                  <a:arcTo wR="3600" hR="3600" stAng="16200000" swAng="-5400000"/>
                  <a:lnTo>
                    <a:pt x="0" y="28078"/>
                  </a:lnTo>
                  <a:arcTo wR="3600" hR="3600" stAng="10800000" swAng="-5400000"/>
                  <a:lnTo>
                    <a:pt x="18000" y="316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22268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bgerundetes Rechteck 7"/>
            <p:cNvSpPr/>
            <p:nvPr/>
          </p:nvSpPr>
          <p:spPr>
            <a:xfrm>
              <a:off x="4643640" y="4500720"/>
              <a:ext cx="1071360" cy="1571400"/>
            </a:xfrm>
            <a:custGeom>
              <a:avLst/>
              <a:gdLst>
                <a:gd name="textAreaLeft" fmla="*/ 52200 w 1071360"/>
                <a:gd name="textAreaRight" fmla="*/ 1019160 w 1071360"/>
                <a:gd name="textAreaTop" fmla="*/ 52200 h 1571400"/>
                <a:gd name="textAreaBottom" fmla="*/ 1519200 h 1571400"/>
              </a:gdLst>
              <a:ahLst/>
              <a:rect l="textAreaLeft" t="textAreaTop" r="textAreaRight" b="textAreaBottom"/>
              <a:pathLst>
                <a:path w="21600" h="31678">
                  <a:moveTo>
                    <a:pt x="3600" y="0"/>
                  </a:moveTo>
                  <a:arcTo wR="3600" hR="3600" stAng="16200000" swAng="-5400000"/>
                  <a:lnTo>
                    <a:pt x="0" y="28078"/>
                  </a:lnTo>
                  <a:arcTo wR="3600" hR="3600" stAng="10800000" swAng="-5400000"/>
                  <a:lnTo>
                    <a:pt x="18000" y="316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22268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2" name="Gruppieren 15"/>
          <p:cNvGrpSpPr/>
          <p:nvPr/>
        </p:nvGrpSpPr>
        <p:grpSpPr>
          <a:xfrm>
            <a:off x="1906560" y="4060800"/>
            <a:ext cx="3560760" cy="511200"/>
            <a:chOff x="1906560" y="4060800"/>
            <a:chExt cx="3560760" cy="511200"/>
          </a:xfrm>
        </p:grpSpPr>
        <p:sp>
          <p:nvSpPr>
            <p:cNvPr id="693" name="Ellipse 13"/>
            <p:cNvSpPr/>
            <p:nvPr/>
          </p:nvSpPr>
          <p:spPr>
            <a:xfrm>
              <a:off x="1906560" y="4071960"/>
              <a:ext cx="500040" cy="500040"/>
            </a:xfrm>
            <a:prstGeom prst="ellipse">
              <a:avLst/>
            </a:prstGeom>
            <a:noFill/>
            <a:ln w="349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Ellipse 14"/>
            <p:cNvSpPr/>
            <p:nvPr/>
          </p:nvSpPr>
          <p:spPr>
            <a:xfrm>
              <a:off x="4967280" y="4060800"/>
              <a:ext cx="500040" cy="500040"/>
            </a:xfrm>
            <a:prstGeom prst="ellipse">
              <a:avLst/>
            </a:prstGeom>
            <a:noFill/>
            <a:ln w="349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he cosine similarity meas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96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278920" cy="4552920"/>
          </a:xfrm>
          <a:prstGeom prst="rect">
            <a:avLst/>
          </a:prstGeom>
          <a:ln w="0">
            <a:noFill/>
          </a:ln>
        </p:spPr>
      </p:pic>
      <p:pic>
        <p:nvPicPr>
          <p:cNvPr id="697" name="Grafik 5" descr=""/>
          <p:cNvPicPr/>
          <p:nvPr/>
        </p:nvPicPr>
        <p:blipFill>
          <a:blip r:embed="rId2"/>
          <a:stretch/>
        </p:blipFill>
        <p:spPr>
          <a:xfrm>
            <a:off x="7621560" y="493380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698" name="Grafik 6" descr=""/>
          <p:cNvPicPr/>
          <p:nvPr/>
        </p:nvPicPr>
        <p:blipFill>
          <a:blip r:embed="rId3"/>
          <a:stretch/>
        </p:blipFill>
        <p:spPr>
          <a:xfrm>
            <a:off x="7621560" y="29289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99" name="Textfeld 3" descr=""/>
          <p:cNvPicPr/>
          <p:nvPr/>
        </p:nvPicPr>
        <p:blipFill>
          <a:blip r:embed="rId4"/>
          <a:stretch/>
        </p:blipFill>
        <p:spPr>
          <a:xfrm>
            <a:off x="785880" y="2975040"/>
            <a:ext cx="2347920" cy="785880"/>
          </a:xfrm>
          <a:prstGeom prst="rect">
            <a:avLst/>
          </a:prstGeom>
          <a:ln w="0">
            <a:noFill/>
          </a:ln>
        </p:spPr>
      </p:pic>
      <p:pic>
        <p:nvPicPr>
          <p:cNvPr id="700" name="Textfeld 9" descr=""/>
          <p:cNvPicPr/>
          <p:nvPr/>
        </p:nvPicPr>
        <p:blipFill>
          <a:blip r:embed="rId5"/>
          <a:stretch/>
        </p:blipFill>
        <p:spPr>
          <a:xfrm>
            <a:off x="762120" y="5048280"/>
            <a:ext cx="553536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aking prediction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A common prediction function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Neighborhood size is typically also limited to a specific siz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Not all neighbors are taken into account for the predic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An analysis of the MovieLens dataset indicates that "in most real-world situations, a neighborhood of 20 to 50 neighbors seems reasonable" (Herlocker et al. 200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03" name="Grafik 3" descr=""/>
          <p:cNvPicPr/>
          <p:nvPr/>
        </p:nvPicPr>
        <p:blipFill>
          <a:blip r:embed="rId1"/>
          <a:stretch/>
        </p:blipFill>
        <p:spPr>
          <a:xfrm>
            <a:off x="7621560" y="2143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04" name="Textfeld 4" descr=""/>
          <p:cNvPicPr/>
          <p:nvPr/>
        </p:nvPicPr>
        <p:blipFill>
          <a:blip r:embed="rId2"/>
          <a:stretch/>
        </p:blipFill>
        <p:spPr>
          <a:xfrm>
            <a:off x="768240" y="2279520"/>
            <a:ext cx="46324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e-processing for item-based filter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tem-based filtering does not solve the scalability problem itself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e-processing approach by Amazon.com (in 2003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lculate all pair-wise item similarities in adva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 neighborhood to be used at run-time is typically rather small, because only items are taken into account which the user has rat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em similarities are supposed to be more stable than user similarit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mory require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p to N</a:t>
            </a:r>
            <a:r>
              <a:rPr b="0" lang="en-US" sz="1800" spc="-1" strike="noStrike" baseline="30000">
                <a:solidFill>
                  <a:srgbClr val="003366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pair-wise similarities to be memorized (N = number of items) in theor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 practice, this is significantly lower (items with no co-rating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urther reductions possib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Minimum threshold for co-rating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Limit the neighborhood size (might affect recommendation accuracy)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re on ratings – Explicit rating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6840" y="1206000"/>
            <a:ext cx="85438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bably the most precise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st commonly used (1 to 5, 1 to 7 Likert response scal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search topic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ptimal granularity of scale; indication that 10-point scale is better accepted in movie dom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n even more fine-grained scale was chosen in the joke recommender discussed by Goldberg et al. (2001), where a continuous scale (from −10 to +10) and a graphical input bar were us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No precision loss from the discretization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User preferences can be captured at a finer granularity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Users actually "like" the graphical interaction method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ultidimensional ratings (multiple ratings per movie such as ratings for actors and sound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in probl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s not always willing to rate many i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number of available ratings could be too small → sparse rating matrices → poor recommendation quality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ow to stimulate users to rate more items?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re on ratings – Implicit rating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6840" y="1279080"/>
            <a:ext cx="85438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ypically collected by the web shop or application in which the recommender system is embedd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hen a customer buys an item, for instance, many recommender systems interpret this behavior as a positive rat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licks, page views, time spent on some page, demo downloads 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mplicit ratings can be collected constantly and do not require additional efforts from the side of the use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in probl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ne cannot be sure whether the user behavior is correctly interpret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or example, a user might not like all the books he or she has bought; the user also might have bought a book for someone els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mplicit ratings can be used in addition to explicit ones; question of correctness of interpret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llaborative Filtering (CF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ure CF approach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-based nearest-neighbo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Pearson Correlation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emory-based and model-based approach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em-based nearest-neighbo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cosine similarity meas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ata sparsity probl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cent methods (SVD, Association Rule Mining, Slope One, RF-Rec, …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Google News personalization engin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iscussion and summar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iteratur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ata sparsity probl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ld start proble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 to recommend new items? What to recommend to new users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traightforward approach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k/force users to rate a set of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another method (e.g., content-based, demographic or simply non-personalized) in the initial pha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fault voting: assign default values to items that only one of the two users to be compared has rated (Breese et al. 199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lternativ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better algorithms (beyond nearest-neighbor approach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ample: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085760" indent="-217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In nearest-neighbor approaches, the set of sufficiently similar neighbors might be too small to make good prediction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2" marL="1085760" indent="-217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Assume "transitivity" of neighborhood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Calibri"/>
              </a:rPr>
              <a:t>Example algorithms for sparse dataset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14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278920" cy="455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5" name=""/>
          <p:cNvGraphicFramePr/>
          <p:nvPr/>
        </p:nvGraphicFramePr>
        <p:xfrm>
          <a:off x="857160" y="4071960"/>
          <a:ext cx="6096240" cy="22255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716" name="Gruppieren 18"/>
          <p:cNvGrpSpPr/>
          <p:nvPr/>
        </p:nvGrpSpPr>
        <p:grpSpPr>
          <a:xfrm>
            <a:off x="6786720" y="4572000"/>
            <a:ext cx="1706400" cy="500040"/>
            <a:chOff x="6786720" y="4572000"/>
            <a:chExt cx="1706400" cy="500040"/>
          </a:xfrm>
        </p:grpSpPr>
        <p:sp>
          <p:nvSpPr>
            <p:cNvPr id="717" name="Nach links gekrümmter Pfeil 19"/>
            <p:cNvSpPr/>
            <p:nvPr/>
          </p:nvSpPr>
          <p:spPr>
            <a:xfrm>
              <a:off x="6786720" y="4572000"/>
              <a:ext cx="428400" cy="500040"/>
            </a:xfrm>
            <a:custGeom>
              <a:avLst/>
              <a:gdLst>
                <a:gd name="textAreaLeft" fmla="*/ 57240 w 428400"/>
                <a:gd name="textAreaRight" fmla="*/ 371160 w 428400"/>
                <a:gd name="textAreaTop" fmla="*/ 84600 h 500040"/>
                <a:gd name="textAreaBottom" fmla="*/ 3618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29" stAng="-5400000" swAng="5400000"/>
                  <a:lnTo>
                    <a:pt x="21600" y="11958"/>
                  </a:lnTo>
                  <a:arcTo wR="21600" hR="7329" stAng="0" swAng="3163700"/>
                  <a:lnTo>
                    <a:pt x="5400" y="21367"/>
                  </a:lnTo>
                  <a:lnTo>
                    <a:pt x="0" y="16972"/>
                  </a:lnTo>
                  <a:lnTo>
                    <a:pt x="5400" y="12110"/>
                  </a:lnTo>
                  <a:lnTo>
                    <a:pt x="5400" y="14424"/>
                  </a:lnTo>
                  <a:arcTo wR="21600" hR="7329" stAng="3163700" swAng="-2777103"/>
                  <a:lnTo>
                    <a:pt x="20494" y="9643"/>
                  </a:lnTo>
                  <a:arcTo wR="21600" hR="7329" stAng="-386597" swAng="-5013403"/>
                  <a:close/>
                </a:path>
                <a:path fill="darkenLess" w="21600" h="21600">
                  <a:moveTo>
                    <a:pt x="0" y="0"/>
                  </a:moveTo>
                  <a:arcTo wR="21600" hR="7329" stAng="-5400000" swAng="5400000"/>
                  <a:lnTo>
                    <a:pt x="21600" y="11958"/>
                  </a:lnTo>
                  <a:arcTo wR="21600" hR="7329" stAng="0" swAng="-386597"/>
                  <a:lnTo>
                    <a:pt x="20494" y="9643"/>
                  </a:lnTo>
                  <a:arcTo wR="21600" hR="7329" stAng="-386597" swAng="-5013403"/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Textfeld 20"/>
            <p:cNvSpPr/>
            <p:nvPr/>
          </p:nvSpPr>
          <p:spPr>
            <a:xfrm>
              <a:off x="7364520" y="464328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sim = 0.85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9" name="Gruppieren 25"/>
          <p:cNvGrpSpPr/>
          <p:nvPr/>
        </p:nvGrpSpPr>
        <p:grpSpPr>
          <a:xfrm>
            <a:off x="6715080" y="4929120"/>
            <a:ext cx="2143080" cy="1274040"/>
            <a:chOff x="6715080" y="4929120"/>
            <a:chExt cx="2143080" cy="1274040"/>
          </a:xfrm>
        </p:grpSpPr>
        <p:sp>
          <p:nvSpPr>
            <p:cNvPr id="720" name="Gestreifter Pfeil nach rechts 23"/>
            <p:cNvSpPr/>
            <p:nvPr/>
          </p:nvSpPr>
          <p:spPr>
            <a:xfrm rot="12252600">
              <a:off x="6732720" y="5106600"/>
              <a:ext cx="928800" cy="285840"/>
            </a:xfrm>
            <a:custGeom>
              <a:avLst/>
              <a:gdLst/>
              <a:ahLst/>
              <a:rect l="l" t="t" r="r" b="b"/>
              <a:pathLst>
                <a:path w="928694" h="285752">
                  <a:moveTo>
                    <a:pt x="0" y="71438"/>
                  </a:moveTo>
                  <a:lnTo>
                    <a:pt x="8930" y="71438"/>
                  </a:lnTo>
                  <a:lnTo>
                    <a:pt x="8930" y="214314"/>
                  </a:lnTo>
                  <a:lnTo>
                    <a:pt x="0" y="214314"/>
                  </a:lnTo>
                  <a:lnTo>
                    <a:pt x="0" y="71438"/>
                  </a:lnTo>
                  <a:close/>
                  <a:moveTo>
                    <a:pt x="17860" y="71438"/>
                  </a:moveTo>
                  <a:lnTo>
                    <a:pt x="35719" y="71438"/>
                  </a:lnTo>
                  <a:lnTo>
                    <a:pt x="35719" y="214314"/>
                  </a:lnTo>
                  <a:lnTo>
                    <a:pt x="17860" y="214314"/>
                  </a:lnTo>
                  <a:lnTo>
                    <a:pt x="17860" y="71438"/>
                  </a:lnTo>
                  <a:close/>
                  <a:moveTo>
                    <a:pt x="44649" y="71438"/>
                  </a:moveTo>
                  <a:lnTo>
                    <a:pt x="785818" y="71438"/>
                  </a:lnTo>
                  <a:lnTo>
                    <a:pt x="785818" y="0"/>
                  </a:lnTo>
                  <a:lnTo>
                    <a:pt x="928694" y="142876"/>
                  </a:lnTo>
                  <a:lnTo>
                    <a:pt x="785818" y="285752"/>
                  </a:lnTo>
                  <a:lnTo>
                    <a:pt x="785818" y="214314"/>
                  </a:lnTo>
                  <a:lnTo>
                    <a:pt x="44649" y="214314"/>
                  </a:lnTo>
                  <a:lnTo>
                    <a:pt x="44649" y="71438"/>
                  </a:ln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Textfeld 24"/>
            <p:cNvSpPr/>
            <p:nvPr/>
          </p:nvSpPr>
          <p:spPr>
            <a:xfrm>
              <a:off x="7643520" y="5286240"/>
              <a:ext cx="12146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Predict rating for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User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aph-based methods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"Spreading activation"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(Huang et al. 20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ploit the supposed "transitivity" of customer tastes and thereby augment the matrix with additional informatio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sume that we are looking for a recommendation for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1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en using a standard CF approach,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2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ll be considered a peer for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1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ecause they both bought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Item2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nd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Item4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us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Item3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ill be recommended to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1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ecause the nearest neighbor,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2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, also bought or liked i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3270240" y="3773520"/>
            <a:ext cx="30621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aph-based methods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"Spreading activation"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(Huang et al. 20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a standard user-based or item-based CF approach, paths of length 3 will be considered – that is,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Item3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s relevant for 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1 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ecause there exists a three-step path (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User1–Item2–User2–Item3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) between the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ecause the number of such paths of length 3 is small in sparse rating databases, the idea is to also consider longer paths (indirect associations) to compute recommendation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ing path length 5, for instanc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3270240" y="3773520"/>
            <a:ext cx="30621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aph-based methods (3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"Spreading activation"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(Huang et al. 20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dea: Use paths of lengths &gt; 3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 recommend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ength 3: Recommend Item3 to User1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ength 5: Item1 also recommendabl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3433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31" name="Gruppieren 11"/>
          <p:cNvGrpSpPr/>
          <p:nvPr/>
        </p:nvGrpSpPr>
        <p:grpSpPr>
          <a:xfrm>
            <a:off x="1928880" y="4071960"/>
            <a:ext cx="1071360" cy="1214280"/>
            <a:chOff x="1928880" y="4071960"/>
            <a:chExt cx="1071360" cy="1214280"/>
          </a:xfrm>
        </p:grpSpPr>
        <p:sp>
          <p:nvSpPr>
            <p:cNvPr id="732" name="Gerade Verbindung 12"/>
            <p:cNvSpPr/>
            <p:nvPr/>
          </p:nvSpPr>
          <p:spPr>
            <a:xfrm>
              <a:off x="1928880" y="4071960"/>
              <a:ext cx="357120" cy="121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3"/>
            <p:cNvSpPr/>
            <p:nvPr/>
          </p:nvSpPr>
          <p:spPr>
            <a:xfrm flipH="1">
              <a:off x="2286000" y="4071960"/>
              <a:ext cx="357120" cy="121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Gerade Verbindung 14"/>
            <p:cNvSpPr/>
            <p:nvPr/>
          </p:nvSpPr>
          <p:spPr>
            <a:xfrm>
              <a:off x="2643120" y="4071960"/>
              <a:ext cx="357120" cy="121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5" name="Gruppieren 15"/>
          <p:cNvGrpSpPr/>
          <p:nvPr/>
        </p:nvGrpSpPr>
        <p:grpSpPr>
          <a:xfrm>
            <a:off x="1643040" y="4143240"/>
            <a:ext cx="1643040" cy="1214640"/>
            <a:chOff x="1643040" y="4143240"/>
            <a:chExt cx="1643040" cy="1214640"/>
          </a:xfrm>
        </p:grpSpPr>
        <p:grpSp>
          <p:nvGrpSpPr>
            <p:cNvPr id="736" name="Gruppieren 11"/>
            <p:cNvGrpSpPr/>
            <p:nvPr/>
          </p:nvGrpSpPr>
          <p:grpSpPr>
            <a:xfrm>
              <a:off x="1928520" y="4143240"/>
              <a:ext cx="1071720" cy="1214640"/>
              <a:chOff x="1928520" y="4143240"/>
              <a:chExt cx="1071720" cy="1214640"/>
            </a:xfrm>
          </p:grpSpPr>
          <p:sp>
            <p:nvSpPr>
              <p:cNvPr id="737" name="Gerade Verbindung 19"/>
              <p:cNvSpPr/>
              <p:nvPr/>
            </p:nvSpPr>
            <p:spPr>
              <a:xfrm>
                <a:off x="1928520" y="4143240"/>
                <a:ext cx="357120" cy="1214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8" name="Gerade Verbindung 20"/>
              <p:cNvSpPr/>
              <p:nvPr/>
            </p:nvSpPr>
            <p:spPr>
              <a:xfrm flipH="1">
                <a:off x="2285640" y="4143240"/>
                <a:ext cx="357120" cy="1214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9" name="Gerade Verbindung 21"/>
              <p:cNvSpPr/>
              <p:nvPr/>
            </p:nvSpPr>
            <p:spPr>
              <a:xfrm>
                <a:off x="2643120" y="4143240"/>
                <a:ext cx="357120" cy="1214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0" name="Gerade Verbindung 17"/>
            <p:cNvSpPr/>
            <p:nvPr/>
          </p:nvSpPr>
          <p:spPr>
            <a:xfrm flipV="1">
              <a:off x="2999880" y="4143240"/>
              <a:ext cx="285480" cy="121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Gerade Verbindung 18"/>
            <p:cNvSpPr/>
            <p:nvPr/>
          </p:nvSpPr>
          <p:spPr>
            <a:xfrm flipV="1">
              <a:off x="1643040" y="4143240"/>
              <a:ext cx="1643040" cy="121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ore model-based approach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lethora of different techniques proposed in the last years, e.g.,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atrix factorization techniques, statistic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singular value decomposition, principal component analysi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sociation rule min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compare: shopping basket analysi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babilistic mode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clustering models, Bayesian networks, probabilistic Latent Semantic Analysis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arious other machine learning approach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sts of pre-processing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ually not discusse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cremental updates possible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2000: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pplication of Dimensionality Reduction in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commender System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B. Sarwar et al., WebKDD Workshop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asic idea: Trade more complex offline model building for faster online prediction gener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ingular Value Decomposition for dimensionality reduction of rating matri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aptures important factors/aspects and their weights in the data  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actors can be genre, actors but also non-understandable on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sumption that k dimensions capture the signals and filter out noise (K = 20 to 100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stant time to make recommend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pproach also popular in IR (Latent Semantic Indexing), data compression,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Calibri"/>
              </a:rPr>
              <a:t>Matrix factoriz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47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302680" cy="455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8" name="Objekt 3"/>
              <p:cNvSpPr txBox="1"/>
              <p:nvPr/>
            </p:nvSpPr>
            <p:spPr>
              <a:xfrm>
                <a:off x="3635280" y="2421000"/>
                <a:ext cx="1676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xample for SVD-based recommenda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4140360" y="2684520"/>
          <a:ext cx="4824360" cy="1392120"/>
        </p:xfrm>
        <a:graphic>
          <a:graphicData uri="http://schemas.openxmlformats.org/drawingml/2006/table">
            <a:tbl>
              <a:tblPr/>
              <a:tblGrid>
                <a:gridCol w="803160"/>
                <a:gridCol w="804960"/>
                <a:gridCol w="803160"/>
                <a:gridCol w="804960"/>
                <a:gridCol w="803160"/>
                <a:gridCol w="8049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r>
                        <a:rPr b="1" lang="de-AT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r>
                        <a:rPr b="1" lang="de-AT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395280" y="2610000"/>
          <a:ext cx="2448000" cy="2403360"/>
        </p:xfrm>
        <a:graphic>
          <a:graphicData uri="http://schemas.openxmlformats.org/drawingml/2006/table">
            <a:tbl>
              <a:tblPr/>
              <a:tblGrid>
                <a:gridCol w="804960"/>
                <a:gridCol w="850680"/>
                <a:gridCol w="7923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r>
                        <a:rPr b="1" lang="de-AT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6588000" y="4508640"/>
          <a:ext cx="2413080" cy="1444320"/>
        </p:xfrm>
        <a:graphic>
          <a:graphicData uri="http://schemas.openxmlformats.org/drawingml/2006/table">
            <a:tbl>
              <a:tblPr/>
              <a:tblGrid>
                <a:gridCol w="804960"/>
                <a:gridCol w="803160"/>
                <a:gridCol w="804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3" name="Objekt 11"/>
              <p:cNvSpPr txBox="1"/>
              <p:nvPr/>
            </p:nvSpPr>
            <p:spPr>
              <a:xfrm>
                <a:off x="1476360" y="1844640"/>
                <a:ext cx="2735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kt 12"/>
              <p:cNvSpPr txBox="1"/>
              <p:nvPr/>
            </p:nvSpPr>
            <p:spPr>
              <a:xfrm>
                <a:off x="6788160" y="4413240"/>
                <a:ext cx="5922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5" name="Inhaltsplatzhalter 2"/>
          <p:cNvSpPr/>
          <p:nvPr/>
        </p:nvSpPr>
        <p:spPr>
          <a:xfrm>
            <a:off x="324000" y="1989000"/>
            <a:ext cx="496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VD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6" name="Gruppieren 23"/>
          <p:cNvGrpSpPr/>
          <p:nvPr/>
        </p:nvGrpSpPr>
        <p:grpSpPr>
          <a:xfrm>
            <a:off x="395280" y="2975040"/>
            <a:ext cx="8497800" cy="3384360"/>
            <a:chOff x="395280" y="2975040"/>
            <a:chExt cx="8497800" cy="3384360"/>
          </a:xfrm>
        </p:grpSpPr>
        <p:grpSp>
          <p:nvGrpSpPr>
            <p:cNvPr id="757" name="Gruppieren 21"/>
            <p:cNvGrpSpPr/>
            <p:nvPr/>
          </p:nvGrpSpPr>
          <p:grpSpPr>
            <a:xfrm>
              <a:off x="395280" y="2975040"/>
              <a:ext cx="8497800" cy="3384360"/>
              <a:chOff x="395280" y="2975040"/>
              <a:chExt cx="8497800" cy="3384360"/>
            </a:xfrm>
          </p:grpSpPr>
          <p:sp>
            <p:nvSpPr>
              <p:cNvPr id="758" name="Inhaltsplatzhalter 2"/>
              <p:cNvSpPr/>
              <p:nvPr/>
            </p:nvSpPr>
            <p:spPr>
              <a:xfrm>
                <a:off x="395280" y="5207400"/>
                <a:ext cx="49669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0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ediction: </a:t>
                </a: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lvl="3" marL="17146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0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	</a:t>
                </a:r>
                <a:r>
                  <a:rPr b="1" lang="de-AT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	</a:t>
                </a:r>
                <a:r>
                  <a:rPr b="1" lang="de-AT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= 3 + 0.84 = </a:t>
                </a:r>
                <a:r>
                  <a:rPr b="1" lang="de-AT" sz="1800" spc="-1" strike="noStrike">
                    <a:solidFill>
                      <a:srgbClr val="c00000"/>
                    </a:solidFill>
                    <a:latin typeface="Calibri"/>
                    <a:ea typeface="Calibri"/>
                  </a:rPr>
                  <a:t>3.84</a:t>
                </a: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Rechteck 18"/>
              <p:cNvSpPr/>
              <p:nvPr/>
            </p:nvSpPr>
            <p:spPr>
              <a:xfrm>
                <a:off x="7452720" y="3047040"/>
                <a:ext cx="720000" cy="958320"/>
              </a:xfrm>
              <a:prstGeom prst="rect">
                <a:avLst/>
              </a:prstGeom>
              <a:noFill/>
              <a:ln w="316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Rechteck 19"/>
              <p:cNvSpPr/>
              <p:nvPr/>
            </p:nvSpPr>
            <p:spPr>
              <a:xfrm>
                <a:off x="395280" y="2975040"/>
                <a:ext cx="2448360" cy="432000"/>
              </a:xfrm>
              <a:prstGeom prst="rect">
                <a:avLst/>
              </a:prstGeom>
              <a:noFill/>
              <a:ln w="316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Rechteck 20"/>
              <p:cNvSpPr/>
              <p:nvPr/>
            </p:nvSpPr>
            <p:spPr>
              <a:xfrm>
                <a:off x="6588720" y="4919400"/>
                <a:ext cx="2304360" cy="958320"/>
              </a:xfrm>
              <a:prstGeom prst="rect">
                <a:avLst/>
              </a:prstGeom>
              <a:noFill/>
              <a:ln w="316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2" name="Object 5"/>
                <p:cNvSpPr txBox="1"/>
                <p:nvPr/>
              </p:nvSpPr>
              <p:spPr>
                <a:xfrm>
                  <a:off x="2070360" y="5114160"/>
                  <a:ext cx="4518000" cy="47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lice</m:t>
                      </m:r>
                      <m:r>
                        <m:t xml:space="preserve">)</m:t>
                      </m:r>
                      <m:r>
                        <m:t xml:space="preserve">×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×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EPL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3" name="Rechteck 26"/>
          <p:cNvSpPr/>
          <p:nvPr/>
        </p:nvSpPr>
        <p:spPr>
          <a:xfrm rot="3580200">
            <a:off x="4453920" y="2237400"/>
            <a:ext cx="12157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53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rminator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Rechteck 27"/>
          <p:cNvSpPr/>
          <p:nvPr/>
        </p:nvSpPr>
        <p:spPr>
          <a:xfrm rot="3580200">
            <a:off x="5316120" y="2234880"/>
            <a:ext cx="12175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53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e Hard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28"/>
          <p:cNvSpPr/>
          <p:nvPr/>
        </p:nvSpPr>
        <p:spPr>
          <a:xfrm rot="3580200">
            <a:off x="6108480" y="2234880"/>
            <a:ext cx="12175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53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win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29"/>
          <p:cNvSpPr/>
          <p:nvPr/>
        </p:nvSpPr>
        <p:spPr>
          <a:xfrm rot="3580200">
            <a:off x="6900480" y="2234880"/>
            <a:ext cx="12175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53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at Pray Lov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30"/>
          <p:cNvSpPr/>
          <p:nvPr/>
        </p:nvSpPr>
        <p:spPr>
          <a:xfrm rot="3580200">
            <a:off x="7721280" y="2234880"/>
            <a:ext cx="12175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53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etty Woman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Titel 1" descr=""/>
          <p:cNvPicPr/>
          <p:nvPr/>
        </p:nvPicPr>
        <p:blipFill>
          <a:blip r:embed="rId1"/>
          <a:stretch/>
        </p:blipFill>
        <p:spPr>
          <a:xfrm>
            <a:off x="365040" y="231840"/>
            <a:ext cx="8321760" cy="1139760"/>
          </a:xfrm>
          <a:prstGeom prst="rect">
            <a:avLst/>
          </a:prstGeom>
          <a:ln w="0">
            <a:noFill/>
          </a:ln>
        </p:spPr>
      </p:pic>
      <p:pic>
        <p:nvPicPr>
          <p:cNvPr id="769" name="Diagramm 4" descr=""/>
          <p:cNvPicPr/>
          <p:nvPr/>
        </p:nvPicPr>
        <p:blipFill>
          <a:blip r:embed="rId2"/>
          <a:stretch/>
        </p:blipFill>
        <p:spPr>
          <a:xfrm>
            <a:off x="609480" y="1481040"/>
            <a:ext cx="7669440" cy="4469040"/>
          </a:xfrm>
          <a:prstGeom prst="rect">
            <a:avLst/>
          </a:prstGeom>
          <a:ln w="0">
            <a:noFill/>
          </a:ln>
        </p:spPr>
      </p:pic>
      <p:sp>
        <p:nvSpPr>
          <p:cNvPr id="770" name="Textfeld 10"/>
          <p:cNvSpPr/>
          <p:nvPr/>
        </p:nvSpPr>
        <p:spPr>
          <a:xfrm>
            <a:off x="2343240" y="3141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b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feld 11"/>
          <p:cNvSpPr/>
          <p:nvPr/>
        </p:nvSpPr>
        <p:spPr>
          <a:xfrm>
            <a:off x="6669000" y="32688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Textfeld 12"/>
          <p:cNvSpPr/>
          <p:nvPr/>
        </p:nvSpPr>
        <p:spPr>
          <a:xfrm>
            <a:off x="5457240" y="422100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li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Textfeld 13"/>
          <p:cNvSpPr/>
          <p:nvPr/>
        </p:nvSpPr>
        <p:spPr>
          <a:xfrm>
            <a:off x="5007960" y="1628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Rechteck 2"/>
          <p:cNvSpPr/>
          <p:nvPr/>
        </p:nvSpPr>
        <p:spPr>
          <a:xfrm>
            <a:off x="5494320" y="3133800"/>
            <a:ext cx="121608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at Pray Lov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Rechteck 15"/>
          <p:cNvSpPr/>
          <p:nvPr/>
        </p:nvSpPr>
        <p:spPr>
          <a:xfrm>
            <a:off x="6149880" y="4397400"/>
            <a:ext cx="121788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etty Woman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Rechteck 16"/>
          <p:cNvSpPr/>
          <p:nvPr/>
        </p:nvSpPr>
        <p:spPr>
          <a:xfrm>
            <a:off x="4237200" y="2957400"/>
            <a:ext cx="12157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win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Rechteck 17"/>
          <p:cNvSpPr/>
          <p:nvPr/>
        </p:nvSpPr>
        <p:spPr>
          <a:xfrm>
            <a:off x="1765440" y="4797360"/>
            <a:ext cx="1217520" cy="255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e Hard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Rechteck 18"/>
          <p:cNvSpPr/>
          <p:nvPr/>
        </p:nvSpPr>
        <p:spPr>
          <a:xfrm>
            <a:off x="2268360" y="2344680"/>
            <a:ext cx="1216080" cy="254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rminator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llaborative Filtering (CF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most prominent approach to generate recommend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d by large, commercial e-commerce sit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ell-understood, various algorithms and variations exis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pplicable in many domains (book, movies, DVDs, ..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pproach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 the "wisdom of the crowd" to recommend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asic assumption and ide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give ratings to catalog items (implicitly or explicitly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ustomers who had similar tastes in the past, will have similar tastes in the futur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0" name="Picture 5" descr="C:\Users\Fatih\AppData\Local\Microsoft\Windows\Temporary Internet Files\Content.IE5\8I83PG5D\MC900240341[1].wmf"/>
          <p:cNvPicPr/>
          <p:nvPr/>
        </p:nvPicPr>
        <p:blipFill>
          <a:blip r:embed="rId1"/>
          <a:stretch/>
        </p:blipFill>
        <p:spPr>
          <a:xfrm>
            <a:off x="6588000" y="2997360"/>
            <a:ext cx="15130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Discussion about dimensionality reduction 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(Sarwar et al. 2000a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Matrix factoriz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Generate low-rank approximation of matrix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tection of latent facto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rojecting items and users in the same n-dimensional spac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ediction quality can decrease because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 original ratings are not taken into accoun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Prediction quality can increase as a consequence of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filtering out some "noise" in the data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etecting nontrivial correlations in the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Depends on the right choice of the amount of data redu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umber of singular values in the SVD approach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arameters can be determined and fine-tuned only based on experiments in a certain domai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oren et al. 2009 talk about 20 to 100 factors that are derived from the rating pattern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ssociation rule min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82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4502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ation based on Association Rule Mining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implest approach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ransform 5-point ratings into binary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tings (1 = above user averag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ine rules such 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em1 → Item5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</a:rPr>
              <a:t>support (2/4), confidence (2/2) (without Alice)</a:t>
            </a:r>
            <a:endParaRPr b="0" lang="en-US" sz="17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ake recommendations for Alice (basic method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termine "relevant" rules based on Alice's transaction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the above rule will be relevant as Alice bought Item1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termine items not already bought by Ali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ort the items based on the rules' confidence val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ifferent variations possi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islike statements, user associations .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4929120" y="1214280"/>
          <a:ext cx="4143600" cy="2041560"/>
        </p:xfrm>
        <a:graphic>
          <a:graphicData uri="http://schemas.openxmlformats.org/drawingml/2006/table">
            <a:tbl>
              <a:tblPr/>
              <a:tblGrid>
                <a:gridCol w="690480"/>
                <a:gridCol w="690840"/>
                <a:gridCol w="690480"/>
                <a:gridCol w="690480"/>
                <a:gridCol w="690480"/>
                <a:gridCol w="690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obabilistic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87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278920" cy="4578480"/>
          </a:xfrm>
          <a:prstGeom prst="rect">
            <a:avLst/>
          </a:prstGeom>
          <a:ln w="0">
            <a:noFill/>
          </a:ln>
        </p:spPr>
      </p:pic>
      <p:pic>
        <p:nvPicPr>
          <p:cNvPr id="788" name="Grafik 5" descr=""/>
          <p:cNvPicPr/>
          <p:nvPr/>
        </p:nvPicPr>
        <p:blipFill>
          <a:blip r:embed="rId2"/>
          <a:stretch/>
        </p:blipFill>
        <p:spPr>
          <a:xfrm>
            <a:off x="7885080" y="4714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89" name="Textfeld 3" descr=""/>
          <p:cNvPicPr/>
          <p:nvPr/>
        </p:nvPicPr>
        <p:blipFill>
          <a:blip r:embed="rId3"/>
          <a:stretch/>
        </p:blipFill>
        <p:spPr>
          <a:xfrm>
            <a:off x="1060560" y="4896000"/>
            <a:ext cx="2792160" cy="676080"/>
          </a:xfrm>
          <a:prstGeom prst="rect">
            <a:avLst/>
          </a:prstGeom>
          <a:ln w="0">
            <a:noFill/>
          </a:ln>
        </p:spPr>
      </p:pic>
      <p:pic>
        <p:nvPicPr>
          <p:cNvPr id="790" name="Textfeld 6" descr=""/>
          <p:cNvPicPr/>
          <p:nvPr/>
        </p:nvPicPr>
        <p:blipFill>
          <a:blip r:embed="rId4"/>
          <a:stretch/>
        </p:blipFill>
        <p:spPr>
          <a:xfrm>
            <a:off x="4138560" y="4857840"/>
            <a:ext cx="33717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alculation of probabilities in simplistic approach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571680" y="1268280"/>
          <a:ext cx="4572000" cy="16671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94" name="Inhaltsplatzhalter 2"/>
          <p:cNvSpPr/>
          <p:nvPr/>
        </p:nvSpPr>
        <p:spPr>
          <a:xfrm>
            <a:off x="609480" y="3357720"/>
            <a:ext cx="82296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Inhaltsplatzhalter 2"/>
          <p:cNvSpPr/>
          <p:nvPr/>
        </p:nvSpPr>
        <p:spPr>
          <a:xfrm>
            <a:off x="357120" y="508464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re to consid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Zeros (smoothing required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ike/dislike simplification possib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6" name="Grafik 9" descr=""/>
          <p:cNvPicPr/>
          <p:nvPr/>
        </p:nvPicPr>
        <p:blipFill>
          <a:blip r:embed="rId1"/>
          <a:stretch/>
        </p:blipFill>
        <p:spPr>
          <a:xfrm>
            <a:off x="7621560" y="3357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97" name="Textfeld 4" descr=""/>
          <p:cNvPicPr/>
          <p:nvPr/>
        </p:nvPicPr>
        <p:blipFill>
          <a:blip r:embed="rId2"/>
          <a:stretch/>
        </p:blipFill>
        <p:spPr>
          <a:xfrm>
            <a:off x="249120" y="2925720"/>
            <a:ext cx="6194520" cy="2378160"/>
          </a:xfrm>
          <a:prstGeom prst="rect">
            <a:avLst/>
          </a:prstGeom>
          <a:ln w="0">
            <a:noFill/>
          </a:ln>
        </p:spPr>
      </p:pic>
      <p:sp>
        <p:nvSpPr>
          <p:cNvPr id="798" name="Rechteck 10"/>
          <p:cNvSpPr/>
          <p:nvPr/>
        </p:nvSpPr>
        <p:spPr>
          <a:xfrm>
            <a:off x="4338720" y="2082960"/>
            <a:ext cx="40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X = (Item1 =1, Item2=3, Item3= … 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actical probabilistic approach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00" name="Inhaltsplatzhalter 2" descr=""/>
          <p:cNvPicPr/>
          <p:nvPr/>
        </p:nvPicPr>
        <p:blipFill>
          <a:blip r:embed="rId1"/>
          <a:stretch/>
        </p:blipFill>
        <p:spPr>
          <a:xfrm>
            <a:off x="407880" y="1238400"/>
            <a:ext cx="82663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865080" y="2514600"/>
          <a:ext cx="2286000" cy="8431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2" name="Inhaltsplatzhalter 2"/>
          <p:cNvSpPr/>
          <p:nvPr/>
        </p:nvSpPr>
        <p:spPr>
          <a:xfrm>
            <a:off x="468360" y="1341360"/>
            <a:ext cx="82184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dea of Slope One predictors is simple and is based on a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popularity differential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between items for us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(Alice, Item5) =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Basic scheme: Take the average of these differences of the co-ratings to make the predi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 general: Find a function of the form f(x) = x + b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That is why the name is "Slope One"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lope One predictors 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(Lemire and Maclachlan 2005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4" name="Ellipse 5"/>
          <p:cNvSpPr/>
          <p:nvPr/>
        </p:nvSpPr>
        <p:spPr>
          <a:xfrm>
            <a:off x="1692360" y="2781360"/>
            <a:ext cx="576000" cy="28728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5" name="Gruppieren 34"/>
          <p:cNvGrpSpPr/>
          <p:nvPr/>
        </p:nvGrpSpPr>
        <p:grpSpPr>
          <a:xfrm>
            <a:off x="1692360" y="3068640"/>
            <a:ext cx="1366920" cy="792000"/>
            <a:chOff x="1692360" y="3068640"/>
            <a:chExt cx="1366920" cy="792000"/>
          </a:xfrm>
        </p:grpSpPr>
        <p:sp>
          <p:nvSpPr>
            <p:cNvPr id="806" name="Ellipse 7"/>
            <p:cNvSpPr/>
            <p:nvPr/>
          </p:nvSpPr>
          <p:spPr>
            <a:xfrm>
              <a:off x="1692360" y="3068640"/>
              <a:ext cx="575640" cy="280800"/>
            </a:xfrm>
            <a:prstGeom prst="ellipse">
              <a:avLst/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7" name="Ellipse 8"/>
            <p:cNvSpPr/>
            <p:nvPr/>
          </p:nvSpPr>
          <p:spPr>
            <a:xfrm>
              <a:off x="2483640" y="3072960"/>
              <a:ext cx="575640" cy="276120"/>
            </a:xfrm>
            <a:prstGeom prst="ellipse">
              <a:avLst/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Ellipse 10"/>
            <p:cNvSpPr/>
            <p:nvPr/>
          </p:nvSpPr>
          <p:spPr>
            <a:xfrm>
              <a:off x="2156400" y="3500640"/>
              <a:ext cx="398880" cy="360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Gerade Verbindung 12"/>
            <p:cNvSpPr/>
            <p:nvPr/>
          </p:nvSpPr>
          <p:spPr>
            <a:xfrm flipH="1">
              <a:off x="2156040" y="3209040"/>
              <a:ext cx="111240" cy="47160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Gerade Verbindung 13"/>
            <p:cNvSpPr/>
            <p:nvPr/>
          </p:nvSpPr>
          <p:spPr>
            <a:xfrm flipH="1" flipV="1">
              <a:off x="2483280" y="3211200"/>
              <a:ext cx="71640" cy="46944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1" name="Textfeld 23"/>
          <p:cNvSpPr/>
          <p:nvPr/>
        </p:nvSpPr>
        <p:spPr>
          <a:xfrm>
            <a:off x="262728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Textfeld 24"/>
          <p:cNvSpPr/>
          <p:nvPr/>
        </p:nvSpPr>
        <p:spPr>
          <a:xfrm>
            <a:off x="2987640" y="3933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( 2 - 1 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feld 25"/>
          <p:cNvSpPr/>
          <p:nvPr/>
        </p:nvSpPr>
        <p:spPr>
          <a:xfrm>
            <a:off x="378000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= 3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F-Rec predictors 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(Gedikli et al. 2011)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15" name="Inhaltsplatzhalter 2" descr=""/>
          <p:cNvPicPr/>
          <p:nvPr/>
        </p:nvPicPr>
        <p:blipFill>
          <a:blip r:embed="rId1"/>
          <a:stretch/>
        </p:blipFill>
        <p:spPr>
          <a:xfrm>
            <a:off x="407880" y="1384200"/>
            <a:ext cx="8278920" cy="47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6" name=""/>
          <p:cNvGraphicFramePr/>
          <p:nvPr/>
        </p:nvGraphicFramePr>
        <p:xfrm>
          <a:off x="900000" y="3705120"/>
          <a:ext cx="4572000" cy="1940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7" name="Ellipse 4"/>
          <p:cNvSpPr/>
          <p:nvPr/>
        </p:nvSpPr>
        <p:spPr>
          <a:xfrm>
            <a:off x="3203640" y="4570560"/>
            <a:ext cx="720720" cy="21564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Ellipse 7"/>
          <p:cNvSpPr/>
          <p:nvPr/>
        </p:nvSpPr>
        <p:spPr>
          <a:xfrm>
            <a:off x="3203640" y="5145120"/>
            <a:ext cx="720720" cy="21600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Ellipse 8"/>
          <p:cNvSpPr/>
          <p:nvPr/>
        </p:nvSpPr>
        <p:spPr>
          <a:xfrm>
            <a:off x="1692360" y="4005360"/>
            <a:ext cx="1439640" cy="21564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Textfeld 9"/>
          <p:cNvSpPr/>
          <p:nvPr/>
        </p:nvSpPr>
        <p:spPr>
          <a:xfrm>
            <a:off x="2627280" y="56498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2008: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ctorization meets the neighborhood: a multifaceted collaborative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ltering mode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Y. Koren, ACM SIGKDD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2252520" cy="2059200"/>
          </a:xfrm>
          <a:prstGeom prst="rect">
            <a:avLst/>
          </a:prstGeom>
          <a:ln w="0">
            <a:noFill/>
          </a:ln>
        </p:spPr>
      </p:pic>
      <p:sp>
        <p:nvSpPr>
          <p:cNvPr id="823" name="Inhaltsplatzhalter 2"/>
          <p:cNvSpPr/>
          <p:nvPr/>
        </p:nvSpPr>
        <p:spPr>
          <a:xfrm>
            <a:off x="611280" y="1685880"/>
            <a:ext cx="61214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timulated by work on Netflix competi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Prize of $1,000,000 for accuracy improvement of 10% RMSE compared to own Cinematch syste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Very large dataset (~100M ratings, ~480K users , ~18K movies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Last ratings/user withheld (set K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oot mean squared error metric optimized to 0.8567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trics measure error r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ean Absolute Error (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MAE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) computes the deviation between predicted ratings and actual rating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oot Mean Square Error (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RMSE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) is similar to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MAE</a:t>
            </a: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,   but places more emphasis on larger devi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Picture 1" descr=""/>
          <p:cNvPicPr/>
          <p:nvPr/>
        </p:nvPicPr>
        <p:blipFill>
          <a:blip r:embed="rId2"/>
          <a:stretch/>
        </p:blipFill>
        <p:spPr>
          <a:xfrm>
            <a:off x="6659640" y="4106880"/>
            <a:ext cx="2047680" cy="7621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" descr=""/>
          <p:cNvPicPr/>
          <p:nvPr/>
        </p:nvPicPr>
        <p:blipFill>
          <a:blip r:embed="rId3"/>
          <a:stretch/>
        </p:blipFill>
        <p:spPr>
          <a:xfrm>
            <a:off x="6516720" y="5016600"/>
            <a:ext cx="25430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Inhaltsplatzhalter 2"/>
          <p:cNvSpPr/>
          <p:nvPr/>
        </p:nvSpPr>
        <p:spPr>
          <a:xfrm>
            <a:off x="650880" y="1484280"/>
            <a:ext cx="80978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rges neighborhood models with latent factor mode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Latent factor mode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good to capture weak signals in the overall dat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Neighborhood mode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good at detecting strong relationships between close ite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mbination in one prediction single func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ocal search method such as stochastic gradient descent to determine parameter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dd penalty for high values to avoid over-fitti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Inhaltsplatzhalter 2"/>
          <p:cNvSpPr/>
          <p:nvPr/>
        </p:nvSpPr>
        <p:spPr>
          <a:xfrm>
            <a:off x="689040" y="4653000"/>
            <a:ext cx="69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2008: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ctorization meets the neighborhood: a multifaceted collaborative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iltering mode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Y. Koren, ACM SIGKDD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3"/>
              <p:cNvSpPr txBox="1"/>
              <p:nvPr/>
            </p:nvSpPr>
            <p:spPr>
              <a:xfrm>
                <a:off x="1336680" y="5373720"/>
                <a:ext cx="5691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/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kt 1"/>
              <p:cNvSpPr txBox="1"/>
              <p:nvPr/>
            </p:nvSpPr>
            <p:spPr>
              <a:xfrm>
                <a:off x="1344600" y="4813200"/>
                <a:ext cx="2836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ure CF Approach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pu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nly a matrix of given user–item rating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Output typ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(numerical) prediction indicating to what degree the current user will like or dislike a certain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top-N list of recommended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mmarizing recent method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ation is concerned with learning from noisy observations (x,y), where            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has to be determined such  that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is minimal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 huge variety of different learning strategies have been applied trying to estimate f(x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Non parametric neighborhood model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MF models, SVMs, Neural Networks, Bayesian Networks,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kt 3"/>
              <p:cNvSpPr txBox="1"/>
              <p:nvPr/>
            </p:nvSpPr>
            <p:spPr>
              <a:xfrm>
                <a:off x="4211640" y="2033640"/>
                <a:ext cx="84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kt 4"/>
              <p:cNvSpPr txBox="1"/>
              <p:nvPr/>
            </p:nvSpPr>
            <p:spPr>
              <a:xfrm>
                <a:off x="5076720" y="2276640"/>
                <a:ext cx="1408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/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Collaborative Filtering Issu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os: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ell-understood, works well in some domains, no knowledge engineering require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quires user community, sparsity problems, no integration of other knowledge sources, no explanation of result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What is the best CF method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which situation and which domain? Inconsistent findings; always the same domains and data sets; differences between methods are often very small (1/100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ow to evaluate the prediction quality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AE / RMSE: What does an MAE of 0.7 actually mean?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erendipity (novelty and surprising effect of recommendation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Calibri"/>
              </a:rPr>
              <a:t>Not yet fully understood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What about multi-dimensional ratings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37" name="Grafik 3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8" name="Grafik 4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he Google News personalization engin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40" name="Inhaltsplatzhalter 3" descr=""/>
          <p:cNvPicPr/>
          <p:nvPr/>
        </p:nvPicPr>
        <p:blipFill>
          <a:blip r:embed="rId1"/>
          <a:stretch/>
        </p:blipFill>
        <p:spPr>
          <a:xfrm>
            <a:off x="593640" y="1341360"/>
            <a:ext cx="786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oogle News portal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ggregates news articles from several thousand sour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isplays them to signed-in users in a personalized wa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llaborative recommendation approach based 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 click history of the active user a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 history of the larger communit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ain challeng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Vast number of articles and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enerate recommendation list in real time (at most one second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stant stream of new i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mmediately react to user intera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ignificant efforts with respect to algorithms, engineering, and parallelization are requir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oogle News portal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ure memory-based approaches are not directly applicable and for model-based approaches, the problem of continuous model updates must be solv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A combination of model- and memory-based techniques is us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odel-based part: Two clustering techniques are use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babilistic Latent Semantic Indexing (PLSI) as proposed by (Hofmann 200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inHash as a hashing metho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emory-based part: Analyze story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co-visits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for dealing with new us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Google's MapReduce technique is used for parallelization in order to make computation scala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terature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1700280"/>
            <a:ext cx="822960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Adomavicius and Tuzhilin 2005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Toward the next generation of recommender systems: A survey of the state-of-the-art and possible extensions, IEEE Transactions on Knowledge and Data Engineering 17 (2005), no. 6, 734–749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Breese et al. 1998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Empirical analysis of predictive algorithms for collaborative filtering, Proceedings of the 14th Conference on Uncertainty in Artificial Intelligence (Madison, WI) (Gregory F. Cooper and Seraf´in Moral, eds.), Morgan Kaufmann, 1998, pp. 43–52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Gedikli et al. 2011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RF-Rec: Fast and accurate computation of recommendations based on rating frequencies, Proceedings of the 13th IEEE Conference on Commerce and Enterprise Computing - CEC 2011, Luxembourg, 2011, forthcoming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Goldberg et al. 2001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Eigentaste: A constant time collaborative filtering algorithm, Information Retrieval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4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(2001), no. 2, 133–151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Golub and Kahan 1965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Calculating the singular values and pseudo-inverse of a matrix, Journal of the Society for Industrial and Applied Mathematics, Series B: Numerical Analysis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(1965), no. 2, 205–224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Herlocker et al. 2002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An empirical analysis of design choices in neighborhood-based collaborative filtering algorithms, Information Retrieval 5 (2002), no. 4, 287–310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Herlocker et al. 2004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Evaluating collaborative filtering recommender systems, ACM Transactions on Information Systems (TOIS)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22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(2004), no. 1, 5–53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Literature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457200" y="185580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Hofmann 2004]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atent semantic models for collaborative filtering, ACM Transactions on Information Systems 22 (2004), no. 1, 89–115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Huang et al. 2004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Applying associative retrieval techniques to alleviate the sparsity problem in collaborative filtering, ACM Transactions on Information Systems 22 (2004), no. 1, 116–142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Koren et al. 2009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3366"/>
                </a:solidFill>
                <a:latin typeface="Calibri"/>
              </a:rPr>
              <a:t>Matrix factorization techniques for recommender systems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, Computer </a:t>
            </a: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42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(2009), no. 8, 30–37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Lemire and Maclachlan 2005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Slope one predictors for online rating-based collaborative filtering, Proceedings of the 5th SIAM International Conference on Data Mining (SDM ’05) (Newport Beach, CA), 2005, pp. 471–480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Sarwar et al. 2000a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Application of dimensionality reduction in recommender systems – a case study, Proceedings of the ACM WebKDD Workshop (Boston), 2000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alibri"/>
              </a:rPr>
              <a:t>[Zhang and Pu 2007]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A recursive prediction algorithm for collaborative filtering recommender systems, Proceedings of the 2007 ACM Conference on Recommender Systems (RecSys ’07) (Minneapolis, MN), ACM, 2007, pp. 57–64</a:t>
            </a: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User-based nearest-neighbor collaborative filtering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4" name="Inhaltsplatzhalter 2" descr=""/>
          <p:cNvPicPr/>
          <p:nvPr/>
        </p:nvPicPr>
        <p:blipFill>
          <a:blip r:embed="rId1"/>
          <a:stretch/>
        </p:blipFill>
        <p:spPr>
          <a:xfrm>
            <a:off x="396720" y="1566720"/>
            <a:ext cx="836316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User-based nearest-neighbor collaborative filtering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xamp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database of ratings of the current user, Alice, and some other users is given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termine whether Alice will like or dislike </a:t>
            </a:r>
            <a:r>
              <a:rPr b="0" i="1" lang="en-US" sz="1800" spc="-1" strike="noStrike">
                <a:solidFill>
                  <a:srgbClr val="003366"/>
                </a:solidFill>
                <a:latin typeface="Calibri"/>
              </a:rPr>
              <a:t>Item5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, which Alice has not yet rated or see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1789200" y="2421000"/>
          <a:ext cx="6095880" cy="22255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User-based nearest-neighbor collaborative filtering (3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Some first ques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 do we measure similarity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 many neighbors should we consider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 do we generate a prediction from the neighbors' ratings?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0" name="Grafik 3" descr=""/>
          <p:cNvPicPr/>
          <p:nvPr/>
        </p:nvPicPr>
        <p:blipFill>
          <a:blip r:embed="rId1"/>
          <a:stretch/>
        </p:blipFill>
        <p:spPr>
          <a:xfrm>
            <a:off x="7885080" y="1700280"/>
            <a:ext cx="714240" cy="7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1258920" y="3645000"/>
          <a:ext cx="6095880" cy="22255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asuring user similarity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3" name="Inhaltsplatzhalter 2" descr=""/>
          <p:cNvPicPr/>
          <p:nvPr/>
        </p:nvPicPr>
        <p:blipFill>
          <a:blip r:embed="rId1"/>
          <a:stretch/>
        </p:blipFill>
        <p:spPr>
          <a:xfrm>
            <a:off x="378000" y="1468440"/>
            <a:ext cx="8278560" cy="456084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6" name="Textfeld 3" descr=""/>
          <p:cNvPicPr/>
          <p:nvPr/>
        </p:nvPicPr>
        <p:blipFill>
          <a:blip r:embed="rId2"/>
          <a:stretch/>
        </p:blipFill>
        <p:spPr>
          <a:xfrm>
            <a:off x="755640" y="3444840"/>
            <a:ext cx="54370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asuring user similarity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8" name="Inhaltsplatzhalter 2" descr=""/>
          <p:cNvPicPr/>
          <p:nvPr/>
        </p:nvPicPr>
        <p:blipFill>
          <a:blip r:embed="rId1"/>
          <a:stretch/>
        </p:blipFill>
        <p:spPr>
          <a:xfrm>
            <a:off x="378000" y="1468440"/>
            <a:ext cx="8278560" cy="456084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571680" y="3643200"/>
          <a:ext cx="6095880" cy="22258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5920"/>
                <a:gridCol w="101628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662" name="Gruppieren 4"/>
          <p:cNvGrpSpPr/>
          <p:nvPr/>
        </p:nvGrpSpPr>
        <p:grpSpPr>
          <a:xfrm>
            <a:off x="6732720" y="4167360"/>
            <a:ext cx="1648440" cy="556560"/>
            <a:chOff x="6732720" y="4167360"/>
            <a:chExt cx="1648440" cy="556560"/>
          </a:xfrm>
        </p:grpSpPr>
        <p:sp>
          <p:nvSpPr>
            <p:cNvPr id="663" name="Textfeld 16"/>
            <p:cNvSpPr/>
            <p:nvPr/>
          </p:nvSpPr>
          <p:spPr>
            <a:xfrm>
              <a:off x="7254000" y="435564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im = 0,85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Nach links gekrümmter Pfeil 3"/>
            <p:cNvSpPr/>
            <p:nvPr/>
          </p:nvSpPr>
          <p:spPr>
            <a:xfrm>
              <a:off x="6732720" y="4167360"/>
              <a:ext cx="237960" cy="471600"/>
            </a:xfrm>
            <a:custGeom>
              <a:avLst/>
              <a:gdLst>
                <a:gd name="textAreaLeft" fmla="*/ 31680 w 237960"/>
                <a:gd name="textAreaRight" fmla="*/ 206280 w 237960"/>
                <a:gd name="textAreaTop" fmla="*/ 95400 h 471600"/>
                <a:gd name="textAreaBottom" fmla="*/ 34632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759" stAng="-5400000" swAng="5400000"/>
                  <a:lnTo>
                    <a:pt x="21600" y="11481"/>
                  </a:lnTo>
                  <a:arcTo wR="21600" hR="8759" stAng="0" swAng="3450749"/>
                  <a:lnTo>
                    <a:pt x="5400" y="21322"/>
                  </a:lnTo>
                  <a:lnTo>
                    <a:pt x="0" y="18878"/>
                  </a:lnTo>
                  <a:lnTo>
                    <a:pt x="5400" y="15878"/>
                  </a:lnTo>
                  <a:lnTo>
                    <a:pt x="5400" y="17239"/>
                  </a:lnTo>
                  <a:arcTo wR="21600" hR="8759" stAng="3450749" swAng="-3231773"/>
                  <a:lnTo>
                    <a:pt x="21338" y="10120"/>
                  </a:lnTo>
                  <a:arcTo wR="21600" hR="8759" stAng="-218977" swAng="-5181023"/>
                  <a:close/>
                </a:path>
                <a:path fill="darkenLess" w="21600" h="21600">
                  <a:moveTo>
                    <a:pt x="0" y="0"/>
                  </a:moveTo>
                  <a:arcTo wR="21600" hR="8759" stAng="-5400000" swAng="5400000"/>
                  <a:lnTo>
                    <a:pt x="21600" y="11481"/>
                  </a:lnTo>
                  <a:arcTo wR="21600" hR="8759" stAng="0" swAng="-218977"/>
                  <a:lnTo>
                    <a:pt x="21338" y="10120"/>
                  </a:lnTo>
                  <a:arcTo wR="21600" hR="8759" stAng="-218977" swAng="-518102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5" name="Gruppieren 5"/>
          <p:cNvGrpSpPr/>
          <p:nvPr/>
        </p:nvGrpSpPr>
        <p:grpSpPr>
          <a:xfrm>
            <a:off x="6732720" y="4149720"/>
            <a:ext cx="1648440" cy="943920"/>
            <a:chOff x="6732720" y="4149720"/>
            <a:chExt cx="1648440" cy="943920"/>
          </a:xfrm>
        </p:grpSpPr>
        <p:sp>
          <p:nvSpPr>
            <p:cNvPr id="666" name="Nach links gekrümmter Pfeil 15"/>
            <p:cNvSpPr/>
            <p:nvPr/>
          </p:nvSpPr>
          <p:spPr>
            <a:xfrm>
              <a:off x="6732720" y="4149720"/>
              <a:ext cx="287640" cy="863640"/>
            </a:xfrm>
            <a:custGeom>
              <a:avLst/>
              <a:gdLst>
                <a:gd name="textAreaLeft" fmla="*/ 38520 w 287640"/>
                <a:gd name="textAreaRight" fmla="*/ 249120 w 287640"/>
                <a:gd name="textAreaTop" fmla="*/ 189000 h 863640"/>
                <a:gd name="textAreaBottom" fmla="*/ 639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50" stAng="-5400000" swAng="5400000"/>
                  <a:lnTo>
                    <a:pt x="21600" y="11250"/>
                  </a:lnTo>
                  <a:arcTo wR="21600" hR="9450" stAng="0" swAng="3567133"/>
                  <a:lnTo>
                    <a:pt x="5400" y="21300"/>
                  </a:lnTo>
                  <a:lnTo>
                    <a:pt x="0" y="19800"/>
                  </a:lnTo>
                  <a:lnTo>
                    <a:pt x="5400" y="17700"/>
                  </a:lnTo>
                  <a:lnTo>
                    <a:pt x="5400" y="18600"/>
                  </a:lnTo>
                  <a:arcTo wR="21600" hR="9450" stAng="3567133" swAng="-3423323"/>
                  <a:lnTo>
                    <a:pt x="21502" y="10350"/>
                  </a:lnTo>
                  <a:arcTo wR="21600" hR="9450" stAng="-143810" swAng="-5256190"/>
                  <a:close/>
                </a:path>
                <a:path fill="darkenLess" w="21600" h="21600">
                  <a:moveTo>
                    <a:pt x="0" y="0"/>
                  </a:moveTo>
                  <a:arcTo wR="21600" hR="9450" stAng="-5400000" swAng="5400000"/>
                  <a:lnTo>
                    <a:pt x="21600" y="11250"/>
                  </a:lnTo>
                  <a:arcTo wR="21600" hR="9450" stAng="0" swAng="-143810"/>
                  <a:lnTo>
                    <a:pt x="21502" y="10350"/>
                  </a:lnTo>
                  <a:arcTo wR="21600" hR="9450" stAng="-143810" swAng="-525619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Textfeld 17"/>
            <p:cNvSpPr/>
            <p:nvPr/>
          </p:nvSpPr>
          <p:spPr>
            <a:xfrm>
              <a:off x="7254000" y="472536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im = 0,00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8" name="Gruppieren 6"/>
          <p:cNvGrpSpPr/>
          <p:nvPr/>
        </p:nvGrpSpPr>
        <p:grpSpPr>
          <a:xfrm>
            <a:off x="6732720" y="4149720"/>
            <a:ext cx="1648440" cy="1304280"/>
            <a:chOff x="6732720" y="4149720"/>
            <a:chExt cx="1648440" cy="1304280"/>
          </a:xfrm>
        </p:grpSpPr>
        <p:sp>
          <p:nvSpPr>
            <p:cNvPr id="669" name="Textfeld 21"/>
            <p:cNvSpPr/>
            <p:nvPr/>
          </p:nvSpPr>
          <p:spPr>
            <a:xfrm>
              <a:off x="7254000" y="50857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im = 0,70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Nach links gekrümmter Pfeil 19"/>
            <p:cNvSpPr/>
            <p:nvPr/>
          </p:nvSpPr>
          <p:spPr>
            <a:xfrm>
              <a:off x="6732720" y="4149720"/>
              <a:ext cx="360000" cy="11926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64240 h 1192680"/>
                <a:gd name="textAreaBottom" fmla="*/ 883440 h 11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578" stAng="-5400000" swAng="5400000"/>
                  <a:lnTo>
                    <a:pt x="21600" y="11208"/>
                  </a:lnTo>
                  <a:arcTo wR="21600" hR="9578" stAng="0" swAng="3587234"/>
                  <a:lnTo>
                    <a:pt x="5400" y="21296"/>
                  </a:lnTo>
                  <a:lnTo>
                    <a:pt x="0" y="19970"/>
                  </a:lnTo>
                  <a:lnTo>
                    <a:pt x="5400" y="18036"/>
                  </a:lnTo>
                  <a:lnTo>
                    <a:pt x="5400" y="18851"/>
                  </a:lnTo>
                  <a:arcTo wR="21600" hR="9578" stAng="3587234" swAng="-3457113"/>
                  <a:lnTo>
                    <a:pt x="21522" y="10393"/>
                  </a:lnTo>
                  <a:arcTo wR="21600" hR="9578" stAng="-130121" swAng="-5269879"/>
                  <a:close/>
                </a:path>
                <a:path fill="darkenLess" w="21600" h="21600">
                  <a:moveTo>
                    <a:pt x="0" y="0"/>
                  </a:moveTo>
                  <a:arcTo wR="21600" hR="9578" stAng="-5400000" swAng="5400000"/>
                  <a:lnTo>
                    <a:pt x="21600" y="11208"/>
                  </a:lnTo>
                  <a:arcTo wR="21600" hR="9578" stAng="0" swAng="-130121"/>
                  <a:lnTo>
                    <a:pt x="21522" y="10393"/>
                  </a:lnTo>
                  <a:arcTo wR="21600" hR="9578" stAng="-130121" swAng="-526987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1" name="Gruppieren 7"/>
          <p:cNvGrpSpPr/>
          <p:nvPr/>
        </p:nvGrpSpPr>
        <p:grpSpPr>
          <a:xfrm>
            <a:off x="6732720" y="4149720"/>
            <a:ext cx="1719720" cy="1654920"/>
            <a:chOff x="6732720" y="4149720"/>
            <a:chExt cx="1719720" cy="1654920"/>
          </a:xfrm>
        </p:grpSpPr>
        <p:sp>
          <p:nvSpPr>
            <p:cNvPr id="672" name="Textfeld 24"/>
            <p:cNvSpPr/>
            <p:nvPr/>
          </p:nvSpPr>
          <p:spPr>
            <a:xfrm>
              <a:off x="7255080" y="54363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im = -0,79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Nach links gekrümmter Pfeil 25"/>
            <p:cNvSpPr/>
            <p:nvPr/>
          </p:nvSpPr>
          <p:spPr>
            <a:xfrm>
              <a:off x="6732720" y="4149720"/>
              <a:ext cx="431640" cy="162432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365400 h 1624320"/>
                <a:gd name="textAreaBottom" fmla="*/ 1204920 h 162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723" stAng="-5400000" swAng="5400000"/>
                  <a:lnTo>
                    <a:pt x="21600" y="11159"/>
                  </a:lnTo>
                  <a:arcTo wR="21600" hR="9723" stAng="0" swAng="3609690"/>
                  <a:lnTo>
                    <a:pt x="5400" y="21291"/>
                  </a:lnTo>
                  <a:lnTo>
                    <a:pt x="0" y="20164"/>
                  </a:lnTo>
                  <a:lnTo>
                    <a:pt x="5400" y="18419"/>
                  </a:lnTo>
                  <a:lnTo>
                    <a:pt x="5400" y="19137"/>
                  </a:lnTo>
                  <a:arcTo wR="21600" hR="9723" stAng="3609690" swAng="-3495146"/>
                  <a:lnTo>
                    <a:pt x="21541" y="10441"/>
                  </a:lnTo>
                  <a:arcTo wR="21600" hR="9723" stAng="-114544" swAng="-5285456"/>
                  <a:close/>
                </a:path>
                <a:path fill="darkenLess" w="21600" h="21600">
                  <a:moveTo>
                    <a:pt x="0" y="0"/>
                  </a:moveTo>
                  <a:arcTo wR="21600" hR="9723" stAng="-5400000" swAng="5400000"/>
                  <a:lnTo>
                    <a:pt x="21600" y="11159"/>
                  </a:lnTo>
                  <a:arcTo wR="21600" hR="9723" stAng="0" swAng="-114544"/>
                  <a:lnTo>
                    <a:pt x="21541" y="10441"/>
                  </a:lnTo>
                  <a:arcTo wR="21600" hR="9723" stAng="-114544" swAng="-5285456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1:58:11Z</dcterms:modified>
  <cp:revision>1113</cp:revision>
  <dc:subject/>
  <dc:title>Recommender Systems</dc:title>
</cp:coreProperties>
</file>