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E99F1F-0BF5-4AE7-A399-5DBBE1CC149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D38E33-18BC-48E7-ABD9-87BC1801E11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9C79CC-69BC-4516-A6F2-6F97655416A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A641CD-C99F-42B3-800F-306A32AF257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FEF14B-B026-43E2-8383-DAC88471C33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AC982E-EEBA-4E22-9513-340FB28F838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9BCA11-BD22-4724-9FA1-9466D198542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524C6D-085D-4500-AE5A-EC637D02A38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E4BCDC-FE14-4645-81E1-08B510EB011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D50A56-ECC9-492D-866C-268EC31CC9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E2314A-3402-4322-816C-C342BF1CBDA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87D495-1DAD-4ECB-BE8C-14D590CF45A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502A51-4A4D-44E8-9B58-52FDC320DE1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1BEBDF-DD2D-4E9C-8582-07E8F7C77E8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287589-0015-4339-8B6B-9C1E1AD88D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33CCE0-5F2F-4505-87A3-B3143ECE692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F1086E-8A07-4F19-813B-D61E5EE01E1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9B49C6-1103-4C61-90E0-4562A875A1C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6071C1-5174-45B2-8144-99AD6FF1F1F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8229AB-4A61-48EB-BBBA-5E809A65FFF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34DE28-E472-4A15-AFD8-EC562937DB2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5455DE-BEE3-4EE3-B5FB-933CEB4B668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73E940-21C4-48A5-970B-76E3D70726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44D6-1C28-4D96-B1AE-6484B0FB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F8EAA-55D1-47BC-931B-1E6A2B4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B7AD-6459-42DD-8A35-2B1859E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ECFC-3544-4BE8-AB3D-BB3D57A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99C73-A3EC-4BBA-86D4-11DEBE1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F7213-CE77-4892-B9FD-75B5009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D7F26-797E-43AA-9370-707E619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7CC58-3DF7-421F-8ADE-4FE652D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6F32F-24DA-4EDE-8530-4B46355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BB28-9BCA-4C44-8685-915A9F6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BD55-820C-4A43-9C08-6567A86B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4D782-D008-44DE-A358-695F11E3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66906EA-0E19-442A-8250-B27C198BE4C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C0AD6E9-8AB8-48B9-BA70-3D29021275D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02AB047-5FA9-45D0-B9B3-438F111F501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8546CE3-56C8-4931-A6FB-9431DD49196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D8F7F2D-9B24-4E1D-8ADA-7449C54D485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F066160-1FA4-414E-996A-ED58340630C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BA956CC-338A-4315-BF9B-ADE8FD276AE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94B5-1A5B-4198-8849-487D78B86E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E5DD64-AEA4-46F1-A96A-95597F168AB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EB9E902-8D1E-464B-BA95-0A64EFFE1E8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0F2635C-6B44-4F89-9C18-304C5B9DAE2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51A77F8-03B5-4975-A401-C2862447882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D3C9FE6-FA48-4E61-912C-F5F37568F9F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D9A86E9-9278-4F05-A4F4-61D244CCB7F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E6AD7DB-3C91-43FE-AE61-D72232037AE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1285920" y="2517840"/>
            <a:ext cx="66452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F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Metric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F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Calibri"/>
              </a:rPr>
              <a:t>1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Metric attempts to combine Precision and Recall into a single value for comparison purposes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y be used to gain a more balanced view of perform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F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Calibri"/>
              </a:rPr>
              <a:t>1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Metric gives equal weight to precision and recal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ther F</a:t>
            </a:r>
            <a:r>
              <a:rPr b="0" lang="el-GR" sz="1800" spc="-1" strike="noStrike" baseline="-25000">
                <a:solidFill>
                  <a:srgbClr val="003366"/>
                </a:solidFill>
                <a:latin typeface="Calibri"/>
              </a:rPr>
              <a:t>β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metrics weight recall with a factor of </a:t>
            </a:r>
            <a:r>
              <a:rPr b="0" lang="el-GR" sz="1800" spc="-1" strike="noStrike">
                <a:solidFill>
                  <a:srgbClr val="003366"/>
                </a:solidFill>
                <a:latin typeface="Calibri"/>
              </a:rPr>
              <a:t>β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5" name="Picture 1" descr=""/>
          <p:cNvPicPr/>
          <p:nvPr/>
        </p:nvPicPr>
        <p:blipFill>
          <a:blip r:embed="rId1"/>
          <a:stretch/>
        </p:blipFill>
        <p:spPr>
          <a:xfrm>
            <a:off x="3139920" y="2928960"/>
            <a:ext cx="28641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7200" y="414972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ank metrics extend recall and precision to take the positions of correct items in a ranked list into accou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levant items are more useful when they appear earlier in the recommendation lis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articularly important in recommender systems as lower ranked items may be overlooked by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trics: Rank position matter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971640" y="2065320"/>
          <a:ext cx="2471760" cy="1297080"/>
        </p:xfrm>
        <a:graphic>
          <a:graphicData uri="http://schemas.openxmlformats.org/drawingml/2006/table">
            <a:tbl>
              <a:tblPr/>
              <a:tblGrid>
                <a:gridCol w="2471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ly goo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23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8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5292720" y="2006640"/>
          <a:ext cx="2735280" cy="180324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predicted as good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3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23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1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70" name="Textfeld 2"/>
          <p:cNvSpPr/>
          <p:nvPr/>
        </p:nvSpPr>
        <p:spPr>
          <a:xfrm>
            <a:off x="453240" y="13460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For a use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71" name="Gerade Verbindung mit Pfeil 4"/>
          <p:cNvCxnSpPr/>
          <p:nvPr/>
        </p:nvCxnSpPr>
        <p:spPr>
          <a:xfrm>
            <a:off x="3492360" y="2727000"/>
            <a:ext cx="172800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72" name="Textfeld 7"/>
          <p:cNvSpPr/>
          <p:nvPr/>
        </p:nvSpPr>
        <p:spPr>
          <a:xfrm>
            <a:off x="4206960" y="25765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hi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ank Score extends the recall metric to take the positions of correct items in a ranked list into accou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articularly important in recommender systems as lower ranked items may be overlooked by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ank Score is defined as the ratio of the Rank Score of the correct items to best theoretical Rank Score achievable for the user, i.e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trics: Rank Sco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5" name="Textfeld 5"/>
          <p:cNvSpPr/>
          <p:nvPr/>
        </p:nvSpPr>
        <p:spPr>
          <a:xfrm>
            <a:off x="3873240" y="4071960"/>
            <a:ext cx="527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Where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is the set of correctly recommended items, i.e. h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rank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returns the position (rank) of an ite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is the set of all items of intere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α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is the </a:t>
            </a:r>
            <a:r>
              <a:rPr b="0" i="1" lang="en-US" sz="1600" spc="-1" strike="noStrike">
                <a:solidFill>
                  <a:srgbClr val="222268"/>
                </a:solidFill>
                <a:latin typeface="Calibri"/>
              </a:rPr>
              <a:t>ranking half life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, i.e. an exponential reduction facto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1"/>
              <p:cNvSpPr txBox="1"/>
              <p:nvPr/>
            </p:nvSpPr>
            <p:spPr>
              <a:xfrm>
                <a:off x="971640" y="3789360"/>
                <a:ext cx="2450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ankscore</m:t>
                          </m:r>
                        </m:e>
                        <m:e/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971640" y="4437000"/>
                <a:ext cx="2455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nkscore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t xml:space="preserve">h</m:t>
                              </m:r>
                            </m:sub>
                            <m:sup/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ank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3"/>
              <p:cNvSpPr txBox="1"/>
              <p:nvPr/>
            </p:nvSpPr>
            <p:spPr>
              <a:xfrm>
                <a:off x="971640" y="5229360"/>
                <a:ext cx="2236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nkscor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e>
                        <m:e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|</m:t>
                              </m:r>
                              <m:r>
                                <m:t xml:space="preserve">T</m:t>
                              </m:r>
                              <m:r>
                                <m:t xml:space="preserve">|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Metrics: Liftindex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80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278920" cy="455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1" name="Objekt 3"/>
              <p:cNvSpPr txBox="1"/>
              <p:nvPr/>
            </p:nvSpPr>
            <p:spPr>
              <a:xfrm>
                <a:off x="6964200" y="1989000"/>
                <a:ext cx="1265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kt 4"/>
              <p:cNvSpPr txBox="1"/>
              <p:nvPr/>
            </p:nvSpPr>
            <p:spPr>
              <a:xfrm>
                <a:off x="2268360" y="3500280"/>
                <a:ext cx="45720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ftinde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r>
                                    <m:t xml:space="preserve">×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b>
                                  </m:sSub>
                                </m:num>
                                <m:den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den>
                              </m:f>
                            </m:e>
                            <m:e>
                              <m:r>
                                <m:t xml:space="preserve">: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|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: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Metrics: Normalized Discounted Cumulative Gai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Discounted cumulative gain (DCG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Logarithmic reduction facto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Idealized discounted cumulative gain (IDCG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Assumption that items are ordered by decreasing relev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Normalized discounted cumulative gain (nDCG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Normalized to the interval [0..1]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kt 3"/>
              <p:cNvSpPr txBox="1"/>
              <p:nvPr/>
            </p:nvSpPr>
            <p:spPr>
              <a:xfrm>
                <a:off x="971640" y="2349360"/>
                <a:ext cx="2896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C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6" name="Textfeld 4"/>
          <p:cNvSpPr/>
          <p:nvPr/>
        </p:nvSpPr>
        <p:spPr>
          <a:xfrm>
            <a:off x="2771640" y="3068640"/>
            <a:ext cx="6372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Calibri"/>
              </a:rPr>
              <a:t>Where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222268"/>
                </a:solidFill>
                <a:latin typeface="Calibri"/>
              </a:rPr>
              <a:t>pos</a:t>
            </a:r>
            <a:r>
              <a:rPr b="0" lang="en-US" sz="1800" spc="-1" strike="noStrike">
                <a:solidFill>
                  <a:srgbClr val="222268"/>
                </a:solidFill>
                <a:latin typeface="Calibri"/>
              </a:rPr>
              <a:t> denotes the position up to which relevance is accumulat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222268"/>
                </a:solidFill>
                <a:latin typeface="Calibri"/>
              </a:rPr>
              <a:t>rel</a:t>
            </a:r>
            <a:r>
              <a:rPr b="0" i="1" lang="en-US" sz="1800" spc="-1" strike="noStrike" baseline="-25000">
                <a:solidFill>
                  <a:srgbClr val="222268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222268"/>
                </a:solidFill>
                <a:latin typeface="Calibri"/>
              </a:rPr>
              <a:t> returns the relevance of recommendation at position </a:t>
            </a:r>
            <a:r>
              <a:rPr b="0" i="1" lang="en-US" sz="1800" spc="-1" strike="noStrike">
                <a:solidFill>
                  <a:srgbClr val="222268"/>
                </a:solidFill>
                <a:latin typeface="Calibri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3"/>
              <p:cNvSpPr txBox="1"/>
              <p:nvPr/>
            </p:nvSpPr>
            <p:spPr>
              <a:xfrm>
                <a:off x="971640" y="4724280"/>
                <a:ext cx="3044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C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kt 6"/>
              <p:cNvSpPr txBox="1"/>
              <p:nvPr/>
            </p:nvSpPr>
            <p:spPr>
              <a:xfrm>
                <a:off x="6084720" y="5229360"/>
                <a:ext cx="19306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C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C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050560" y="134136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Assumption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|T| = 3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Ranking half life (alpha) = 2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468360" y="2205000"/>
          <a:ext cx="1476360" cy="2224080"/>
        </p:xfrm>
        <a:graphic>
          <a:graphicData uri="http://schemas.openxmlformats.org/drawingml/2006/table">
            <a:tbl>
              <a:tblPr/>
              <a:tblGrid>
                <a:gridCol w="785880"/>
                <a:gridCol w="6904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t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2" name="Objekt 4"/>
              <p:cNvSpPr txBox="1"/>
              <p:nvPr/>
            </p:nvSpPr>
            <p:spPr>
              <a:xfrm>
                <a:off x="2627280" y="5378400"/>
                <a:ext cx="3600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ftinde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kt 5"/>
              <p:cNvSpPr txBox="1"/>
              <p:nvPr/>
            </p:nvSpPr>
            <p:spPr>
              <a:xfrm>
                <a:off x="5580000" y="2565360"/>
                <a:ext cx="3149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nksco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4"/>
              <p:cNvSpPr txBox="1"/>
              <p:nvPr/>
            </p:nvSpPr>
            <p:spPr>
              <a:xfrm>
                <a:off x="5651640" y="3213000"/>
                <a:ext cx="3263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nksco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5"/>
              <p:cNvSpPr txBox="1"/>
              <p:nvPr/>
            </p:nvSpPr>
            <p:spPr>
              <a:xfrm>
                <a:off x="2484360" y="2852640"/>
                <a:ext cx="2908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ankscore</m:t>
                          </m:r>
                        </m:e>
                        <m:e/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6"/>
              <p:cNvSpPr txBox="1"/>
              <p:nvPr/>
            </p:nvSpPr>
            <p:spPr>
              <a:xfrm>
                <a:off x="5651640" y="3941640"/>
                <a:ext cx="3214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C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7"/>
              <p:cNvSpPr txBox="1"/>
              <p:nvPr/>
            </p:nvSpPr>
            <p:spPr>
              <a:xfrm>
                <a:off x="5708520" y="4581360"/>
                <a:ext cx="28702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C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8"/>
              <p:cNvSpPr txBox="1"/>
              <p:nvPr/>
            </p:nvSpPr>
            <p:spPr>
              <a:xfrm>
                <a:off x="2556000" y="4033800"/>
                <a:ext cx="200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C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C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Example cont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educing the ranking half life (alpha) = 1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ankscore (exponential reduction) </a:t>
            </a:r>
            <a:r>
              <a:rPr b="1" lang="en-GB" sz="3200" spc="-1" strike="noStrike">
                <a:solidFill>
                  <a:srgbClr val="003366"/>
                </a:solidFill>
                <a:latin typeface="Calibri"/>
              </a:rPr>
              <a:t>&lt;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 Liftscore (linear red.) </a:t>
            </a:r>
            <a:r>
              <a:rPr b="1" lang="en-GB" sz="3200" spc="-1" strike="noStrike">
                <a:solidFill>
                  <a:srgbClr val="003366"/>
                </a:solidFill>
                <a:latin typeface="Calibri"/>
              </a:rPr>
              <a:t>&lt;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 NDCG (log. red.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539640" y="2349360"/>
          <a:ext cx="1476360" cy="2224080"/>
        </p:xfrm>
        <a:graphic>
          <a:graphicData uri="http://schemas.openxmlformats.org/drawingml/2006/table">
            <a:tbl>
              <a:tblPr/>
              <a:tblGrid>
                <a:gridCol w="785880"/>
                <a:gridCol w="6904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t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450040" y="2133720"/>
                <a:ext cx="3263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nksco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3"/>
              <p:cNvSpPr txBox="1"/>
              <p:nvPr/>
            </p:nvSpPr>
            <p:spPr>
              <a:xfrm>
                <a:off x="5508720" y="2781360"/>
                <a:ext cx="3263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nksco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2455920" y="2421000"/>
                <a:ext cx="2819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ankscore</m:t>
                          </m:r>
                        </m:e>
                        <m:e/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scor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verage Precision (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P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) is a ranked precision metric that places emphasis on highly ranked correct predictions (hit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ssentially it is the average of precision values determined after each successful prediction, i.e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verage Precis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6786720" y="3560760"/>
          <a:ext cx="1476360" cy="2225520"/>
        </p:xfrm>
        <a:graphic>
          <a:graphicData uri="http://schemas.openxmlformats.org/drawingml/2006/table">
            <a:tbl>
              <a:tblPr/>
              <a:tblGrid>
                <a:gridCol w="785520"/>
                <a:gridCol w="690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t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1181160" y="3560760"/>
          <a:ext cx="1476360" cy="2225520"/>
        </p:xfrm>
        <a:graphic>
          <a:graphicData uri="http://schemas.openxmlformats.org/drawingml/2006/table">
            <a:tbl>
              <a:tblPr/>
              <a:tblGrid>
                <a:gridCol w="785880"/>
                <a:gridCol w="690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t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3038400" y="5203800"/>
            <a:ext cx="2247840" cy="3668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4500720" y="3724200"/>
            <a:ext cx="1919160" cy="336600"/>
          </a:xfrm>
          <a:prstGeom prst="rect">
            <a:avLst/>
          </a:prstGeom>
          <a:ln w="0">
            <a:noFill/>
          </a:ln>
        </p:spPr>
      </p:pic>
      <p:sp>
        <p:nvSpPr>
          <p:cNvPr id="711" name="Gebogener Pfeil 8"/>
          <p:cNvSpPr/>
          <p:nvPr/>
        </p:nvSpPr>
        <p:spPr>
          <a:xfrm>
            <a:off x="2324160" y="4346640"/>
            <a:ext cx="1285920" cy="1428840"/>
          </a:xfrm>
          <a:custGeom>
            <a:avLst/>
            <a:gdLst/>
            <a:ahLst/>
            <a:rect l="l" t="t" r="r" b="b"/>
            <a:pathLst>
              <a:path w="1285884" h="1428760">
                <a:moveTo>
                  <a:pt x="587585" y="119990"/>
                </a:moveTo>
                <a:cubicBezTo>
                  <a:pt x="842367" y="89382"/>
                  <a:pt x="1079534" y="271607"/>
                  <a:pt x="1149313" y="551588"/>
                </a:cubicBezTo>
                <a:lnTo>
                  <a:pt x="1264701" y="550984"/>
                </a:lnTo>
                <a:lnTo>
                  <a:pt x="1127317" y="711840"/>
                </a:lnTo>
                <a:lnTo>
                  <a:pt x="947581" y="552647"/>
                </a:lnTo>
                <a:lnTo>
                  <a:pt x="1062779" y="552043"/>
                </a:lnTo>
                <a:cubicBezTo>
                  <a:pt x="997004" y="322577"/>
                  <a:pt x="802380" y="177422"/>
                  <a:pt x="595356" y="203431"/>
                </a:cubicBezTo>
                <a:lnTo>
                  <a:pt x="587585" y="119990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Gebogener Pfeil 9"/>
          <p:cNvSpPr/>
          <p:nvPr/>
        </p:nvSpPr>
        <p:spPr>
          <a:xfrm rot="10800000">
            <a:off x="5786280" y="3560400"/>
            <a:ext cx="1285920" cy="1428840"/>
          </a:xfrm>
          <a:custGeom>
            <a:avLst/>
            <a:gdLst/>
            <a:ahLst/>
            <a:rect l="l" t="t" r="r" b="b"/>
            <a:pathLst>
              <a:path w="1285884" h="1428760">
                <a:moveTo>
                  <a:pt x="587585" y="119990"/>
                </a:moveTo>
                <a:cubicBezTo>
                  <a:pt x="842367" y="89382"/>
                  <a:pt x="1079534" y="271607"/>
                  <a:pt x="1149313" y="551588"/>
                </a:cubicBezTo>
                <a:lnTo>
                  <a:pt x="1264701" y="550984"/>
                </a:lnTo>
                <a:lnTo>
                  <a:pt x="1127317" y="711840"/>
                </a:lnTo>
                <a:lnTo>
                  <a:pt x="947581" y="552647"/>
                </a:lnTo>
                <a:lnTo>
                  <a:pt x="1062779" y="552043"/>
                </a:lnTo>
                <a:cubicBezTo>
                  <a:pt x="997004" y="322577"/>
                  <a:pt x="802380" y="177422"/>
                  <a:pt x="595356" y="203431"/>
                </a:cubicBezTo>
                <a:lnTo>
                  <a:pt x="587585" y="119990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59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valuation in R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267920"/>
            <a:ext cx="6694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atasets with items rated by us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vieLens datasets 100K-10M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etflix 100M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istoric user ratings constitute ground truth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trics measure error rat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ean Absolute Error (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MAE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) computes the deviation between predicted ratings and actual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oot Mean Square Error (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RMSE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) is similar to 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MAE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, but places more emphasis on larger devi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5" name="Grafik 7" descr=""/>
          <p:cNvPicPr/>
          <p:nvPr/>
        </p:nvPicPr>
        <p:blipFill>
          <a:blip r:embed="rId1"/>
          <a:stretch/>
        </p:blipFill>
        <p:spPr>
          <a:xfrm>
            <a:off x="7812000" y="1341360"/>
            <a:ext cx="10000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6" name="Object 1"/>
              <p:cNvSpPr txBox="1"/>
              <p:nvPr/>
            </p:nvSpPr>
            <p:spPr>
              <a:xfrm>
                <a:off x="4940280" y="4941720"/>
                <a:ext cx="2805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MSE</m:t>
                          </m:r>
                        </m:e>
                        <m:e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2"/>
              <p:cNvSpPr txBox="1"/>
              <p:nvPr/>
            </p:nvSpPr>
            <p:spPr>
              <a:xfrm>
                <a:off x="4932360" y="3573360"/>
                <a:ext cx="2468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E</m:t>
                          </m:r>
                        </m:e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ata sparsit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9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2659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valuating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myriad of techniques has been proposed, bu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hich one is the best in a given application domain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hat are the success factors of different techniques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mparative analysis based on an optimality criterion?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search questions are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s a RS efficient with respect to a specific criteria like accuracy, user satisfaction, response time, serendipity, online conversion, ramp-up efforts, …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o customers like/buy recommended items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o customers buy items they otherwise would have not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re they satisfied with a recommendation after purchase?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443280" y="1988640"/>
            <a:ext cx="2700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MAE = 0.46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MSE = 0.75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emoving line nr. 4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MAE = 0.29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MSE = 0.42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emoving lines 1,2,4,5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MAE = 0.1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RMSE = 0.13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24000" y="1628640"/>
          <a:ext cx="6048360" cy="3743640"/>
        </p:xfrm>
        <a:graphic>
          <a:graphicData uri="http://schemas.openxmlformats.org/drawingml/2006/table">
            <a:tbl>
              <a:tblPr/>
              <a:tblGrid>
                <a:gridCol w="431640"/>
                <a:gridCol w="792000"/>
                <a:gridCol w="936720"/>
                <a:gridCol w="1008000"/>
                <a:gridCol w="1366920"/>
                <a:gridCol w="720720"/>
                <a:gridCol w="79236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r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vie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ng (r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diction (p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|p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r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|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p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r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1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723" name="Gruppieren 11"/>
          <p:cNvGrpSpPr/>
          <p:nvPr/>
        </p:nvGrpSpPr>
        <p:grpSpPr>
          <a:xfrm>
            <a:off x="6156360" y="1989000"/>
            <a:ext cx="216000" cy="216000"/>
            <a:chOff x="6156360" y="1989000"/>
            <a:chExt cx="216000" cy="216000"/>
          </a:xfrm>
        </p:grpSpPr>
        <p:sp>
          <p:nvSpPr>
            <p:cNvPr id="724" name="Gerade Verbindung 5"/>
            <p:cNvSpPr/>
            <p:nvPr/>
          </p:nvSpPr>
          <p:spPr>
            <a:xfrm flipV="1">
              <a:off x="6156360" y="1989000"/>
              <a:ext cx="216000" cy="21600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6"/>
            <p:cNvSpPr/>
            <p:nvPr/>
          </p:nvSpPr>
          <p:spPr>
            <a:xfrm>
              <a:off x="6156360" y="1989000"/>
              <a:ext cx="216000" cy="21600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6" name="Gruppieren 12"/>
          <p:cNvGrpSpPr/>
          <p:nvPr/>
        </p:nvGrpSpPr>
        <p:grpSpPr>
          <a:xfrm>
            <a:off x="6156360" y="2276280"/>
            <a:ext cx="216000" cy="216000"/>
            <a:chOff x="6156360" y="2276280"/>
            <a:chExt cx="216000" cy="216000"/>
          </a:xfrm>
        </p:grpSpPr>
        <p:sp>
          <p:nvSpPr>
            <p:cNvPr id="727" name="Gerade Verbindung 13"/>
            <p:cNvSpPr/>
            <p:nvPr/>
          </p:nvSpPr>
          <p:spPr>
            <a:xfrm flipV="1">
              <a:off x="6156360" y="2276280"/>
              <a:ext cx="216000" cy="2156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Gerade Verbindung 14"/>
            <p:cNvSpPr/>
            <p:nvPr/>
          </p:nvSpPr>
          <p:spPr>
            <a:xfrm>
              <a:off x="6156360" y="2276640"/>
              <a:ext cx="216000" cy="2156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uppieren 15"/>
          <p:cNvGrpSpPr/>
          <p:nvPr/>
        </p:nvGrpSpPr>
        <p:grpSpPr>
          <a:xfrm>
            <a:off x="6156360" y="2924280"/>
            <a:ext cx="216000" cy="217440"/>
            <a:chOff x="6156360" y="2924280"/>
            <a:chExt cx="216000" cy="217440"/>
          </a:xfrm>
        </p:grpSpPr>
        <p:sp>
          <p:nvSpPr>
            <p:cNvPr id="730" name="Gerade Verbindung 16"/>
            <p:cNvSpPr/>
            <p:nvPr/>
          </p:nvSpPr>
          <p:spPr>
            <a:xfrm flipV="1">
              <a:off x="6156360" y="2924280"/>
              <a:ext cx="216000" cy="2174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1" name="Gerade Verbindung 17"/>
            <p:cNvSpPr/>
            <p:nvPr/>
          </p:nvSpPr>
          <p:spPr>
            <a:xfrm>
              <a:off x="6156360" y="2924280"/>
              <a:ext cx="216000" cy="2174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2" name="Gruppieren 18"/>
          <p:cNvGrpSpPr/>
          <p:nvPr/>
        </p:nvGrpSpPr>
        <p:grpSpPr>
          <a:xfrm>
            <a:off x="6156360" y="3284280"/>
            <a:ext cx="216000" cy="216000"/>
            <a:chOff x="6156360" y="3284280"/>
            <a:chExt cx="216000" cy="216000"/>
          </a:xfrm>
        </p:grpSpPr>
        <p:sp>
          <p:nvSpPr>
            <p:cNvPr id="733" name="Gerade Verbindung 19"/>
            <p:cNvSpPr/>
            <p:nvPr/>
          </p:nvSpPr>
          <p:spPr>
            <a:xfrm flipV="1">
              <a:off x="6156360" y="3284280"/>
              <a:ext cx="216000" cy="2156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Gerade Verbindung 20"/>
            <p:cNvSpPr/>
            <p:nvPr/>
          </p:nvSpPr>
          <p:spPr>
            <a:xfrm>
              <a:off x="6156360" y="3284640"/>
              <a:ext cx="216000" cy="21564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lemma of establishing ground truth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893880" y="1771560"/>
          <a:ext cx="7454880" cy="3373560"/>
        </p:xfrm>
        <a:graphic>
          <a:graphicData uri="http://schemas.openxmlformats.org/drawingml/2006/table">
            <a:tbl>
              <a:tblPr/>
              <a:tblGrid>
                <a:gridCol w="3727440"/>
                <a:gridCol w="372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fline experiment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nline experiment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ings,  transaction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ings, feedba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ic session (not all recommended items are rate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ve interaction (all recommended items are rate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ings of unrated items unknown, but interpreted as “bad” (default assumption, user tend to rate only good item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od/bad” ratings  of not recommended items are unknown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default assumption does not hold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 positives may be too small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 negatives may be too sm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/true negatives cannot be determin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sion may increase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ll may va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sion o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ll questionabl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7" name="Inhaltsplatzhalter 2"/>
          <p:cNvSpPr/>
          <p:nvPr/>
        </p:nvSpPr>
        <p:spPr>
          <a:xfrm>
            <a:off x="457200" y="1254240"/>
            <a:ext cx="85788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R measures are frequently applied, however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Inhaltsplatzhalter 2"/>
          <p:cNvSpPr/>
          <p:nvPr/>
        </p:nvSpPr>
        <p:spPr>
          <a:xfrm>
            <a:off x="325440" y="5349960"/>
            <a:ext cx="85806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sults from offline experimentation have limited predictive power for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nline user behavior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ffline experiment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etflix competi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b-based movie rental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rize of $1,000,000 for accuracy improvement (RMSE) of 10% compared to own Cinematch system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istorical dataset  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~480K users rated ~18K movies on a scale of 1 to 5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~100M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ast 9 ratings/user withhel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Probe set – for teams for evalua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Quiz set – evaluates teams’ submissions for leaderboard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Test set – used by Netflix to determine winner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Methodolog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Setting to ensure internal validity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One randomly selected share of known ratings (</a:t>
            </a:r>
            <a:r>
              <a:rPr b="1" lang="en-GB" sz="1800" spc="-1" strike="noStrike">
                <a:solidFill>
                  <a:srgbClr val="003366"/>
                </a:solidFill>
                <a:latin typeface="Calibri"/>
              </a:rPr>
              <a:t>training set</a:t>
            </a: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) used as input to train the algorithm and build the mod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Model allows the system to compute recommendations at runtim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Remaining share of withheld ratings (</a:t>
            </a:r>
            <a:r>
              <a:rPr b="1" lang="en-GB" sz="1800" spc="-1" strike="noStrike">
                <a:solidFill>
                  <a:srgbClr val="003366"/>
                </a:solidFill>
                <a:latin typeface="Calibri"/>
              </a:rPr>
              <a:t>testing set</a:t>
            </a: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) required as ground truth to evaluate the model’s qual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To ensure the reliability of measurements the random split, model building and evaluation steps are repeated several tim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N-fold cross validation is a stratified random selection procedu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N disjunct fractions of known ratings with equal size (1/N) are determin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N repetitions of the model building and evaluation steps, where each fraction is used exactly once as a testing set while the other fractions are used for train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Setting N to 5 or 10 is popula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Analysis of resul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Are observed differences statistically meaningful or due to chance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Standard procedure for testing the statistical significance of  two deviating metrics is the pairwise analysis of variance (ANOVA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Null hypothesis H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Calibri"/>
              </a:rPr>
              <a:t>0</a:t>
            </a: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: observed differences have been due to ch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If outcome of test statistics rejects H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Calibri"/>
              </a:rPr>
              <a:t>0</a:t>
            </a: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, significance of findings can be reported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Practical importance of differences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Size of the effect and its practical impac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External validity or generalizability of the observed effec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nline experiment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6840" y="1266840"/>
            <a:ext cx="56595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Effectiveness of different algorithms for recommending cell phone games  </a:t>
            </a:r>
            <a:br>
              <a:rPr sz="2000"/>
            </a:b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[Jannach, Hegelich 09]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Involved 150,000 users on a commercial mobile internet port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Comparison of  recommender metho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Random assignment of users to a specific metho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47" name="Picture 2" descr="C:\Dokumente und Einstellungen\jannach\Eigene Dateien\6 papers\itwp09\screenshots\Startseite Teaserbeschriftungen.jpg"/>
          <p:cNvPicPr/>
          <p:nvPr/>
        </p:nvPicPr>
        <p:blipFill>
          <a:blip r:embed="rId1"/>
          <a:srcRect l="0" t="0" r="41533" b="0"/>
          <a:stretch/>
        </p:blipFill>
        <p:spPr>
          <a:xfrm>
            <a:off x="6588000" y="755640"/>
            <a:ext cx="2027520" cy="5286240"/>
          </a:xfrm>
          <a:prstGeom prst="rect">
            <a:avLst/>
          </a:prstGeom>
          <a:ln w="0">
            <a:noFill/>
          </a:ln>
        </p:spPr>
      </p:pic>
      <p:sp>
        <p:nvSpPr>
          <p:cNvPr id="748" name="Abgerundetes Rechteck 7"/>
          <p:cNvSpPr/>
          <p:nvPr/>
        </p:nvSpPr>
        <p:spPr>
          <a:xfrm>
            <a:off x="6443640" y="2924280"/>
            <a:ext cx="230508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representative sample 155,000 customers were extracted from visitors to site during the evaluation perio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se were split into 6 groups of approximately 22,300 custom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re was taken to ensure that customer profiles contained enough information (ratings) for all variants to make a recommend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roups were chosen to represent similar customer seg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catalog of 1,000 games was offer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five-point ratings scale ranging from -2 to +2 was used to rate i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ue to the low number of explicit ratings, a click on the “details” link for a game was interpreted as an implicit “0” rating and a purchase as a “1” rat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ypotheses on personalized vs. non-personalized recommendation techniques and their potential t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crease conversion rate (i.e. the share of users who become buyer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timulate additional purchases (i.e. increase the average shopping basket size)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perimental Desig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Non-experimental research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Quasi-experi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ack random assignments of units to different treat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on-experimental / observational research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rveys / Questionnair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ongitudinal research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Observations over long period of time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E.g. customer life-time value, returning custome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se stud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Focus on answering research questions about how and why 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E.g. answer questions like: </a:t>
            </a:r>
            <a:r>
              <a:rPr b="0" i="1" lang="en-US" sz="1700" spc="-1" strike="noStrike">
                <a:solidFill>
                  <a:srgbClr val="003366"/>
                </a:solidFill>
                <a:latin typeface="Calibri"/>
              </a:rPr>
              <a:t>How recommendation technology contributed to Amazon.com‘s becomes the world‘s largest book retailer?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cus group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nterview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Think aloud protocol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Quasi-experimenta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kiMatcher Resort Finder introduced by Ski-Europe.com to provide users with recommendations based on their preferen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versational 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question and answer dialog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tching of user preferences with knowledge ba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elgado and Davidson evaluated the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ffectiveness of the recommender over a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4 month period in 2001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lassified as a quasi-experiment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 users decide for themselves if they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ant to use the recommender or no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6215040" y="404820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kiMatcher Resul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7" name="Textfeld 5"/>
          <p:cNvSpPr/>
          <p:nvPr/>
        </p:nvSpPr>
        <p:spPr>
          <a:xfrm>
            <a:off x="5094720" y="5143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Delgado and Davidson, ENTER 2002]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59" name="Inhaltsplatzhalter 4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150040" cy="3462480"/>
          </a:xfrm>
          <a:prstGeom prst="rect">
            <a:avLst/>
          </a:prstGeom>
          <a:ln w="0">
            <a:noFill/>
          </a:ln>
        </p:spPr>
      </p:pic>
      <p:sp>
        <p:nvSpPr>
          <p:cNvPr id="760" name="Ellipse 1"/>
          <p:cNvSpPr/>
          <p:nvPr/>
        </p:nvSpPr>
        <p:spPr>
          <a:xfrm>
            <a:off x="3276720" y="3784680"/>
            <a:ext cx="5472000" cy="12286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mpirical research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haracterizing dimension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ho is the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ubject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that is in the focus of research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hat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search method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 are applied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 which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etting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does the research take place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642960" y="3429000"/>
          <a:ext cx="7286760" cy="1851120"/>
        </p:xfrm>
        <a:graphic>
          <a:graphicData uri="http://schemas.openxmlformats.org/drawingml/2006/table">
            <a:tbl>
              <a:tblPr/>
              <a:tblGrid>
                <a:gridCol w="2214720"/>
                <a:gridCol w="5072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line customers, students, historical online sessions, computers,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earch metho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eriments, quasi-experiments, non-experimental researc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t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, real-world scenari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nterpreting the Resul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nature of this research design means that questions of causality cannot be answered (lack of random assignments), such 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re users of the recommender systems more likely convert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oes the recommender system itself cause users to convert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ome hidden exogenous variable might influence the choice of using RS as well as conversion.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owever, significant correlation between using the recommender system and making a request for a propos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ize of effect has been replicated in other domai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uris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lectronic consumer produc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hat is popular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7200" y="1326960"/>
            <a:ext cx="822960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valuations on historical datasets measuring accurac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st popular datase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vies (MovieLens, EachMovie, Netflix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eb 2.0 platforms (tags, music, papers, …)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st popular measures for accurac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ecision/Recal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tems are classified as good or bad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E (Mean Absolute Error), RMSE (Root Mean Squared Error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tems are rated on a  given scale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vailability of data heavily biases what is don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enor at RecSys conferences to foster live experi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ublic infrastructures to enable A/B tests 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hat is popular? cont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Quantitative survey in the literatu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igh ranked journal on IS and I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CM Transactions on Information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valuation designs ACM TOIS 2004-2010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 total 15 articles on 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early 50% movie domai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80% offline experiment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2 user experiments under lab condi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1 qualitative research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cussion &amp; 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eneral principles of empirical research an current state of practice in evaluating recommendation techniques were present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cus on how to perform empirical evaluations on historical datase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iscussion about different methodologies and metrics for measuring the accuracy or coverage of recommendation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verview of which research designs are commonly used 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in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actice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rom a technical point of view, measuring the accuracy of predictions is a 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well accepted evaluation goa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ut other aspects that may potentially impact the overall effectiveness of a recommendation system remain largely under </a:t>
            </a:r>
            <a:r>
              <a:rPr b="0" lang="de-DE" sz="1600" spc="-1" strike="noStrike">
                <a:solidFill>
                  <a:srgbClr val="003366"/>
                </a:solidFill>
                <a:latin typeface="Calibri"/>
              </a:rPr>
              <a:t>developed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valuation setting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ab stud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pressly created for the purpose of the stud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traneous variables can be controlled more easy by selecting study participa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ut doubts may exist about participants motivated by money or priz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articipants should behave as they would in a real-world envirom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Field stud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nducted in an preexisting real-world enviromen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s are intrinsically motivated to use a sys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search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perimental vs. non-experimental (observational) research method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eriment (test, trial)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66"/>
                </a:solidFill>
                <a:latin typeface="Calibri"/>
              </a:rPr>
              <a:t>"An experiment is a study in which at least one variable is manipulated and units are randomly assigned to different levels or categories of manipulated variable(s)."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Units: users, historic sessions, …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Manipulated variable: </a:t>
            </a: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type of RS, groups of recommended items,</a:t>
            </a:r>
            <a:br>
              <a:rPr sz="1700"/>
            </a:b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explanation strategies …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Categories of manipulated variable(s): content-based RS, collaborative 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periment desig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5" name="Inhaltsplatzhalter 4" descr="Chapter_6_experiment.png"/>
          <p:cNvPicPr/>
          <p:nvPr/>
        </p:nvPicPr>
        <p:blipFill>
          <a:blip r:embed="rId1"/>
          <a:stretch/>
        </p:blipFill>
        <p:spPr>
          <a:xfrm>
            <a:off x="714240" y="1500120"/>
            <a:ext cx="7440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59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valuation in information retrieval (IR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11280" y="141264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3366"/>
                </a:solidFill>
                <a:latin typeface="Calibri"/>
              </a:rPr>
              <a:t>Historical Cranfield collection (late 1950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Calibri"/>
              </a:rPr>
              <a:t>1,398 journal article abstrac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Calibri"/>
              </a:rPr>
              <a:t>225 quer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Calibri"/>
              </a:rPr>
              <a:t>Exhaustive relevance judgements (over 300K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Ground truth established by human domain exper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8" name="Tabelle 6" descr=""/>
          <p:cNvPicPr/>
          <p:nvPr/>
        </p:nvPicPr>
        <p:blipFill>
          <a:blip r:embed="rId1"/>
          <a:stretch/>
        </p:blipFill>
        <p:spPr>
          <a:xfrm>
            <a:off x="1328760" y="3346560"/>
            <a:ext cx="5254560" cy="2139840"/>
          </a:xfrm>
          <a:prstGeom prst="rect">
            <a:avLst/>
          </a:prstGeom>
          <a:ln w="0">
            <a:noFill/>
          </a:ln>
        </p:spPr>
      </p:pic>
      <p:sp>
        <p:nvSpPr>
          <p:cNvPr id="649" name="Textfeld 7"/>
          <p:cNvSpPr/>
          <p:nvPr/>
        </p:nvSpPr>
        <p:spPr>
          <a:xfrm>
            <a:off x="2986560" y="54687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ll good ite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9"/>
          <p:cNvSpPr/>
          <p:nvPr/>
        </p:nvSpPr>
        <p:spPr>
          <a:xfrm>
            <a:off x="6592680" y="4149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ll recommended ite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trics: Precision and Recal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ommendation is viewed as information retrieval task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trieve (recommend) all items which are predicted to be “good”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ecision: a measure of exactness, determines the fraction of relevant items retrieved out of all items retriev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.g. the proportion of recommended movies that are actually goo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all: a measure of completeness, determines the fraction of relevant items retrieved out of all relevant i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.g. the proportion of all good movies recommen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4886280" cy="552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"/>
          <p:cNvPicPr/>
          <p:nvPr/>
        </p:nvPicPr>
        <p:blipFill>
          <a:blip r:embed="rId2"/>
          <a:stretch/>
        </p:blipFill>
        <p:spPr>
          <a:xfrm>
            <a:off x="1908000" y="5300640"/>
            <a:ext cx="4673880" cy="554040"/>
          </a:xfrm>
          <a:prstGeom prst="rect">
            <a:avLst/>
          </a:prstGeom>
          <a:ln w="0">
            <a:noFill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7740720" y="3141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7" name="Grafik 7" descr=""/>
          <p:cNvPicPr/>
          <p:nvPr/>
        </p:nvPicPr>
        <p:blipFill>
          <a:blip r:embed="rId4"/>
          <a:stretch/>
        </p:blipFill>
        <p:spPr>
          <a:xfrm>
            <a:off x="7740720" y="494172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2567160" y="2143080"/>
            <a:ext cx="4009680" cy="3930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ecision vs. Recal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.g. typically when a recommender system is tuned to increase precision, recall decreases as a result (or vice versa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1:31Z</dcterms:modified>
  <cp:revision>1192</cp:revision>
  <dc:subject/>
  <dc:title>Recommender Systems</dc:title>
</cp:coreProperties>
</file>