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750F6C-D1FC-4A4E-8E31-AAA9AFFCDB3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5030D3-D9C4-4B7E-8452-F1A71A7C943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C5A455-1906-42D2-B224-936C4A470A0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29A427-3672-48AE-B7E5-2F133FF4492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01F44C-9B79-4C9A-B0BA-E567CD19CDA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C15D3C-9608-410C-91DF-B184A49DE15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C6688F-96F6-4235-B666-7CB27C9F66B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78C36D-2EF0-4406-8D90-A00B7757E09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9E3618-CD69-4B25-AA7E-76840F5D06D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F90929-0D9A-4BEF-819D-C733A9877A6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8C9EF7-2178-4D1F-AD08-595BF5413A3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06F746-F231-413F-9D78-558741CF16F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412ECA-FF61-46A3-A603-7C1BF310DF1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380302-6B4F-4F23-93D8-74484343096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1CA770-BD85-444E-BEA0-8B41AF87C73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FDD23-A5A5-4803-B93E-4A165637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DEC27-69EE-496D-ADCD-54742013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D768-CFE6-4FB9-B065-99A57145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609A0-7EA0-4CCB-9759-E3B8ECC1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08FFA-CAB3-490D-8885-E0B6A30E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3C8CD-552D-4BE5-934D-81CFCB24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424D1-BEB5-4DCD-8E91-412A6E18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1AD5E-D3F6-454D-B735-6BE10222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A465E-4F5A-4414-AF31-0F6BECD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DC1A5-634E-4388-BC50-3A45DC1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1AA42-A7F9-4AD3-862F-AB83DF55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2F190-A6F2-46FB-A641-F174A4BA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F92F558-44F6-4301-880C-9F1D529F67F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3F93EBB-21B3-4B73-96ED-1B08C52E28B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716FCC3-2C19-4AFD-815C-02A5200CB6F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2616438-8946-416B-8C54-92404E81A0C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B868CC0-CC8A-4D4C-95A2-3C99812785B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1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7703C4D-E0FA-4246-B9DA-56F860531AE3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E3E3925-48F9-4132-984F-0F304EC437B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5826-B88A-4836-ACAC-41312032F0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FAA867B0-ECDA-4A97-8C66-694481B736C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CE304EF6-6A1A-49BA-B573-4E782955832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48F4D10-B4D4-433D-B7F8-86C8CF972CB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FCD1949C-04C9-43FA-A420-9D31519D828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AAB1821-F081-43ED-A5E4-621E94B31C6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C6974F7-58E2-4E7D-858B-15A27512019D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ADB087D-2EEA-4BBC-8882-F0AD0882039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hteck 3" descr=""/>
          <p:cNvPicPr/>
          <p:nvPr/>
        </p:nvPicPr>
        <p:blipFill>
          <a:blip r:embed="rId1"/>
          <a:stretch/>
        </p:blipFill>
        <p:spPr>
          <a:xfrm>
            <a:off x="828720" y="3286080"/>
            <a:ext cx="7388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nteracting with constraint-based recommender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The user specifies his or her initial preferenc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Calibri"/>
              </a:rPr>
              <a:t>all 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at once or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incrementally in a wizard-styl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interactive dialo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The user is presented with a set of matching i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with explanation as to why a certain item was recommend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The user might revise his or her requiremen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ee alternative solution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narrow down the number of matching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efaul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upport customers to choose a reasonable alternative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nsure about which option to selec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imply do not know technical detail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ype of defaul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tatic defaul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ependent defaul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erived defaul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electing the next question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st users are not interested in specifying values for all propert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dentify properties that may be interesting for the use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Unsatisfied requiremen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"no solution could be found"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Constraint relaxation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the goal is to identify relaxations to the original set of constrai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relax constraints of a recommendation problem until a corresponding solution has been foun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Users could also be interested in repair proposals</a:t>
            </a:r>
            <a:r>
              <a:rPr b="1" lang="de-DE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recommender can calculate a solution by adapting the proposed requireme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eal with unsatisfied requirements 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Calculate 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diagnoses for unsatisfied requirements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The diagnoses derived from the conflict sets {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CS</a:t>
            </a:r>
            <a:r>
              <a:rPr b="1" i="1" lang="en-IE" sz="800" spc="-1" strike="noStrike">
                <a:solidFill>
                  <a:srgbClr val="003366"/>
                </a:solidFill>
                <a:latin typeface="Calibri"/>
              </a:rPr>
              <a:t>1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,CS</a:t>
            </a:r>
            <a:r>
              <a:rPr b="1" i="1" lang="en-IE" sz="800" spc="-1" strike="noStrike">
                <a:solidFill>
                  <a:srgbClr val="003366"/>
                </a:solidFill>
                <a:latin typeface="Calibri"/>
              </a:rPr>
              <a:t>2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,CS</a:t>
            </a:r>
            <a:r>
              <a:rPr b="1" i="1" lang="en-IE" sz="800" spc="-1" strike="noStrike">
                <a:solidFill>
                  <a:srgbClr val="003366"/>
                </a:solidFill>
                <a:latin typeface="Calibri"/>
              </a:rPr>
              <a:t>3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} are {d</a:t>
            </a:r>
            <a:r>
              <a:rPr b="1" i="1" lang="en-IE" sz="800" spc="-1" strike="noStrike">
                <a:solidFill>
                  <a:srgbClr val="003366"/>
                </a:solidFill>
                <a:latin typeface="Calibri"/>
              </a:rPr>
              <a:t>1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:{r</a:t>
            </a:r>
            <a:r>
              <a:rPr b="1" i="1" lang="en-IE" sz="800" spc="-1" strike="noStrike">
                <a:solidFill>
                  <a:srgbClr val="003366"/>
                </a:solidFill>
                <a:latin typeface="Calibri"/>
              </a:rPr>
              <a:t>1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, r</a:t>
            </a:r>
            <a:r>
              <a:rPr b="1" i="1" lang="en-IE" sz="800" spc="-1" strike="noStrike">
                <a:solidFill>
                  <a:srgbClr val="003366"/>
                </a:solidFill>
                <a:latin typeface="Calibri"/>
              </a:rPr>
              <a:t>2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}, d</a:t>
            </a:r>
            <a:r>
              <a:rPr b="1" i="1" lang="en-IE" sz="800" spc="-1" strike="noStrike">
                <a:solidFill>
                  <a:srgbClr val="003366"/>
                </a:solidFill>
                <a:latin typeface="Calibri"/>
              </a:rPr>
              <a:t>2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:{r</a:t>
            </a:r>
            <a:r>
              <a:rPr b="1" i="1" lang="en-IE" sz="800" spc="-1" strike="noStrike">
                <a:solidFill>
                  <a:srgbClr val="003366"/>
                </a:solidFill>
                <a:latin typeface="Calibri"/>
              </a:rPr>
              <a:t>1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, r</a:t>
            </a:r>
            <a:r>
              <a:rPr b="1" i="1" lang="en-IE" sz="800" spc="-1" strike="noStrike">
                <a:solidFill>
                  <a:srgbClr val="003366"/>
                </a:solidFill>
                <a:latin typeface="Calibri"/>
              </a:rPr>
              <a:t>4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},</a:t>
            </a:r>
            <a:r>
              <a:rPr b="1" i="1" lang="de-DE" sz="20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1" i="1" lang="de-DE" sz="800" spc="-1" strike="noStrike">
                <a:solidFill>
                  <a:srgbClr val="003366"/>
                </a:solidFill>
                <a:latin typeface="Calibri"/>
              </a:rPr>
              <a:t>3</a:t>
            </a:r>
            <a:r>
              <a:rPr b="1" i="1" lang="de-DE" sz="2000" spc="-1" strike="noStrike">
                <a:solidFill>
                  <a:srgbClr val="003366"/>
                </a:solidFill>
                <a:latin typeface="Calibri"/>
              </a:rPr>
              <a:t>:{r</a:t>
            </a:r>
            <a:r>
              <a:rPr b="1" i="1" lang="de-DE" sz="800" spc="-1" strike="noStrike">
                <a:solidFill>
                  <a:srgbClr val="003366"/>
                </a:solidFill>
                <a:latin typeface="Calibri"/>
              </a:rPr>
              <a:t>2</a:t>
            </a:r>
            <a:r>
              <a:rPr b="1" i="1" lang="de-DE" sz="2000" spc="-1" strike="noStrike">
                <a:solidFill>
                  <a:srgbClr val="003366"/>
                </a:solidFill>
                <a:latin typeface="Calibri"/>
              </a:rPr>
              <a:t>, r</a:t>
            </a:r>
            <a:r>
              <a:rPr b="1" i="1" lang="de-DE" sz="800" spc="-1" strike="noStrike">
                <a:solidFill>
                  <a:srgbClr val="003366"/>
                </a:solidFill>
                <a:latin typeface="Calibri"/>
              </a:rPr>
              <a:t>3</a:t>
            </a:r>
            <a:r>
              <a:rPr b="1" i="1" lang="de-DE" sz="2000" spc="-1" strike="noStrike">
                <a:solidFill>
                  <a:srgbClr val="003366"/>
                </a:solidFill>
                <a:latin typeface="Calibri"/>
              </a:rPr>
              <a:t>}}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79" name="Picture 1" descr="C:\Dokumente und Einstellungen\Mouzhi Ge\Anwendungsdaten\Tencent\Users\7204866\QQ\WinTemp\RichOle\VJ$HJ9GZ)CG8_1YVO{]JB~B.jpg"/>
          <p:cNvPicPr/>
          <p:nvPr/>
        </p:nvPicPr>
        <p:blipFill>
          <a:blip r:embed="rId1"/>
          <a:stretch/>
        </p:blipFill>
        <p:spPr>
          <a:xfrm>
            <a:off x="1979640" y="2025720"/>
            <a:ext cx="4824360" cy="29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Calibri"/>
              </a:rPr>
              <a:t>QuickXPlai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alculate conflict se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2" name="Rechteck 4"/>
          <p:cNvSpPr/>
          <p:nvPr/>
        </p:nvSpPr>
        <p:spPr>
          <a:xfrm>
            <a:off x="1998720" y="1887480"/>
            <a:ext cx="6173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Algorithm 4.1 QuickXPlain(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P, REQ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Input: trusted knowledge (items) 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P; Set of requirements REQ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Output: minimal conflict set 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C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i="1" lang="en-IE" sz="1600" spc="-1" strike="noStrike" baseline="-25000">
                <a:solidFill>
                  <a:srgbClr val="000000"/>
                </a:solidFill>
                <a:latin typeface="Calibri"/>
              </a:rPr>
              <a:t>[REQ]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(P) = ∅ or REQ = ∅ then return ∅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else return QX' (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P, ∅, ∅, REQ)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Function QX' (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P, B, </a:t>
            </a:r>
            <a:r>
              <a:rPr b="1" i="1" lang="el-GR" sz="1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, REQ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 = ∅ and σ</a:t>
            </a:r>
            <a:r>
              <a:rPr b="1" i="1" lang="en-IE" sz="1600" spc="-1" strike="noStrike" baseline="-25000">
                <a:solidFill>
                  <a:srgbClr val="000000"/>
                </a:solidFill>
                <a:latin typeface="Calibri"/>
              </a:rPr>
              <a:t>[B]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(P) = ∅ then return ∅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REQ = {r} then return {r}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let {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, . . . , r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} = REQ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k be n/2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REQ</a:t>
            </a:r>
            <a:r>
              <a:rPr b="1" i="1" lang="en-IE" sz="1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 ←r</a:t>
            </a:r>
            <a:r>
              <a:rPr b="1" i="1" lang="en-IE" sz="1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, . . . , r</a:t>
            </a:r>
            <a:r>
              <a:rPr b="1" i="1" lang="en-IE" sz="16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 and REQ</a:t>
            </a:r>
            <a:r>
              <a:rPr b="1" i="1" lang="en-IE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 ←r</a:t>
            </a:r>
            <a:r>
              <a:rPr b="1" i="1" lang="en-IE" sz="1600" spc="-1" strike="noStrike" baseline="-25000">
                <a:solidFill>
                  <a:srgbClr val="000000"/>
                </a:solidFill>
                <a:latin typeface="Calibri"/>
              </a:rPr>
              <a:t>k+1</a:t>
            </a:r>
            <a:r>
              <a:rPr b="1" i="1" lang="en-IE" sz="1600" spc="-1" strike="noStrike">
                <a:solidFill>
                  <a:srgbClr val="000000"/>
                </a:solidFill>
                <a:latin typeface="Calibri"/>
              </a:rPr>
              <a:t>, . . . , rn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 ←QX(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P, B ∪ REQ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, REQ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, REQ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 ←QX(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P, B ∪ </a:t>
            </a:r>
            <a:r>
              <a:rPr b="1" i="1" lang="el-GR" sz="1600" spc="-1" strike="noStrike">
                <a:solidFill>
                  <a:srgbClr val="000000"/>
                </a:solidFill>
                <a:latin typeface="Calibri"/>
              </a:rPr>
              <a:t>Δ 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1" i="1" lang="el-GR" sz="1600" spc="-1" strike="noStrike">
                <a:solidFill>
                  <a:srgbClr val="000000"/>
                </a:solidFill>
                <a:latin typeface="Calibri"/>
              </a:rPr>
              <a:t>Δ 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2, REQ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de-DE" sz="16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1" i="1" lang="el-GR" sz="1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 ∪ </a:t>
            </a:r>
            <a:r>
              <a:rPr b="1" i="1" lang="el-GR" sz="1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ample of </a:t>
            </a:r>
            <a:r>
              <a:rPr b="1" lang="de-DE" sz="2400" spc="-1" strike="noStrike">
                <a:solidFill>
                  <a:srgbClr val="003366"/>
                </a:solidFill>
                <a:latin typeface="Calibri"/>
              </a:rPr>
              <a:t>QuickXPlai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Calibri"/>
              </a:rPr>
              <a:t>REQ = {</a:t>
            </a:r>
            <a:r>
              <a:rPr b="1" i="1" lang="de-DE" sz="2000" spc="-1" strike="noStrike">
                <a:solidFill>
                  <a:srgbClr val="003366"/>
                </a:solidFill>
                <a:latin typeface="Calibri"/>
              </a:rPr>
              <a:t>r1:price≤150, r2:opt-zoom=5x, r3:sound=yes, r4:waterproof=yes}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85" name="Picture 1" descr="C:\Dokumente und Einstellungen\Mouzhi Ge\Anwendungsdaten\Tencent\Users\7204866\QQ\WinTemp\RichOle\`HH_XJBI[_5NL13Y4NOLGLK.jpg"/>
          <p:cNvPicPr/>
          <p:nvPr/>
        </p:nvPicPr>
        <p:blipFill>
          <a:blip r:embed="rId1"/>
          <a:stretch/>
        </p:blipFill>
        <p:spPr>
          <a:xfrm>
            <a:off x="1619280" y="3789360"/>
            <a:ext cx="6192720" cy="22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"/>
          <p:cNvGraphicFramePr/>
          <p:nvPr/>
        </p:nvGraphicFramePr>
        <p:xfrm>
          <a:off x="1619280" y="1413000"/>
          <a:ext cx="5545080" cy="1906560"/>
        </p:xfrm>
        <a:graphic>
          <a:graphicData uri="http://schemas.openxmlformats.org/drawingml/2006/table">
            <a:tbl>
              <a:tblPr/>
              <a:tblGrid>
                <a:gridCol w="612720"/>
                <a:gridCol w="690480"/>
                <a:gridCol w="611280"/>
                <a:gridCol w="708120"/>
                <a:gridCol w="679320"/>
                <a:gridCol w="612720"/>
                <a:gridCol w="679680"/>
                <a:gridCol w="950760"/>
              </a:tblGrid>
              <a:tr h="212040"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ce(€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pix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-zoo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CD-siz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vi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un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proo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36160"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48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.0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36160"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8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.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36160"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8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36160"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6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2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.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36160"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5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.1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36160"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36160"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5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.0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36160"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7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.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pairs for unsatisfied requiremen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dentify possible adapta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Or </a:t>
            </a: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query the product table 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P with π[attributes(d)]σ[REQ−d](P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π[attributes(d1)]σ[REQ−d1](P) = </a:t>
            </a:r>
            <a:r>
              <a:rPr b="0" i="1" lang="de-DE" sz="1800" spc="-1" strike="noStrike">
                <a:solidFill>
                  <a:srgbClr val="003366"/>
                </a:solidFill>
                <a:latin typeface="Calibri"/>
              </a:rPr>
              <a:t>{price=278, opt-zoom=10×}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3366"/>
                </a:solidFill>
                <a:latin typeface="Calibri"/>
              </a:rPr>
              <a:t>π[</a:t>
            </a:r>
            <a:r>
              <a:rPr b="0" i="1" lang="de-DE" sz="1800" spc="-1" strike="noStrike">
                <a:solidFill>
                  <a:srgbClr val="003366"/>
                </a:solidFill>
                <a:latin typeface="Calibri"/>
              </a:rPr>
              <a:t>attributes(d2)]</a:t>
            </a:r>
            <a:r>
              <a:rPr b="0" i="1" lang="el-GR" sz="1800" spc="-1" strike="noStrike">
                <a:solidFill>
                  <a:srgbClr val="003366"/>
                </a:solidFill>
                <a:latin typeface="Calibri"/>
              </a:rPr>
              <a:t>σ[</a:t>
            </a:r>
            <a:r>
              <a:rPr b="0" i="1" lang="de-DE" sz="1800" spc="-1" strike="noStrike">
                <a:solidFill>
                  <a:srgbClr val="003366"/>
                </a:solidFill>
                <a:latin typeface="Calibri"/>
              </a:rPr>
              <a:t>REQ−d2](P) = {price=182, waterproof=no}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3366"/>
                </a:solidFill>
                <a:latin typeface="Calibri"/>
              </a:rPr>
              <a:t>π[</a:t>
            </a:r>
            <a:r>
              <a:rPr b="0" i="1" lang="de-DE" sz="1800" spc="-1" strike="noStrike">
                <a:solidFill>
                  <a:srgbClr val="003366"/>
                </a:solidFill>
                <a:latin typeface="Calibri"/>
              </a:rPr>
              <a:t>attributes(d3)]</a:t>
            </a:r>
            <a:r>
              <a:rPr b="0" i="1" lang="el-GR" sz="1800" spc="-1" strike="noStrike">
                <a:solidFill>
                  <a:srgbClr val="003366"/>
                </a:solidFill>
                <a:latin typeface="Calibri"/>
              </a:rPr>
              <a:t>σ[</a:t>
            </a:r>
            <a:r>
              <a:rPr b="0" i="1" lang="de-DE" sz="1800" spc="-1" strike="noStrike">
                <a:solidFill>
                  <a:srgbClr val="003366"/>
                </a:solidFill>
                <a:latin typeface="Calibri"/>
              </a:rPr>
              <a:t>REQ−d3](P) = {opt-zoom=4×, sound=no}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1547640" y="3933720"/>
          <a:ext cx="5472360" cy="1511280"/>
        </p:xfrm>
        <a:graphic>
          <a:graphicData uri="http://schemas.openxmlformats.org/drawingml/2006/table">
            <a:tbl>
              <a:tblPr/>
              <a:tblGrid>
                <a:gridCol w="824040"/>
                <a:gridCol w="1031760"/>
                <a:gridCol w="1022400"/>
                <a:gridCol w="1257480"/>
                <a:gridCol w="13366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repair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price(€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opt-zoo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soun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waterproof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Rep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7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×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√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√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Rep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8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√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√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Rep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√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×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√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anking the item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ulti-attribute utility theor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ach item is evaluated according to a predefined set of dimensions that provide an aggregated view on the basic item propert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E.g. quality and economy are dimensions in </a:t>
            </a: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the domain of digital camera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2987640" y="3213000"/>
          <a:ext cx="3168720" cy="2766960"/>
        </p:xfrm>
        <a:graphic>
          <a:graphicData uri="http://schemas.openxmlformats.org/drawingml/2006/table">
            <a:tbl>
              <a:tblPr/>
              <a:tblGrid>
                <a:gridCol w="974880"/>
                <a:gridCol w="768240"/>
                <a:gridCol w="758880"/>
                <a:gridCol w="666720"/>
              </a:tblGrid>
              <a:tr h="25740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id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valu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quality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econom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0640"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ri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gt;2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1000"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pix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gt;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7120"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opt-zoom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gt;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0360"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CD-siz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.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gt;2.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0360"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ovi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1000"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ound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9080"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waterproo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tem utility for customer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ustomer specific interes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Calculation of Utilit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2700360" y="2060640"/>
          <a:ext cx="2998800" cy="852480"/>
        </p:xfrm>
        <a:graphic>
          <a:graphicData uri="http://schemas.openxmlformats.org/drawingml/2006/table">
            <a:tbl>
              <a:tblPr/>
              <a:tblGrid>
                <a:gridCol w="1260360"/>
                <a:gridCol w="816120"/>
                <a:gridCol w="922320"/>
              </a:tblGrid>
              <a:tr h="2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Custom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qual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economy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u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0%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%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u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0%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0%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0" y="1000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1763640" y="3368520"/>
          <a:ext cx="5639040" cy="2659320"/>
        </p:xfrm>
        <a:graphic>
          <a:graphicData uri="http://schemas.openxmlformats.org/drawingml/2006/table">
            <a:tbl>
              <a:tblPr/>
              <a:tblGrid>
                <a:gridCol w="1962360"/>
                <a:gridCol w="1638000"/>
                <a:gridCol w="779760"/>
                <a:gridCol w="125892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quality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economy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cu</a:t>
                      </a:r>
                      <a:r>
                        <a:rPr b="0" lang="en-US" sz="11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cu</a:t>
                      </a:r>
                      <a:r>
                        <a:rPr b="0" lang="en-US" sz="11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Σ(5,4,6,6,3,7,10) = 4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5.8 [8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5.4 [6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5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2.0 [7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8.0 [1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5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4.6 [5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7.8 [2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5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7.4 [4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6.2 [4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5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4.4 [6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7.2 [3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5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7.4 [3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6.2 [5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5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.4 [2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5.2 [7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1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Σ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5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r>
                        <a:rPr b="0" i="1" lang="de-DE" sz="900" spc="-1" strike="noStrike">
                          <a:solidFill>
                            <a:srgbClr val="000000"/>
                          </a:solidFill>
                          <a:latin typeface="MTMI"/>
                          <a:ea typeface="SimSun"/>
                        </a:rPr>
                        <a:t>,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)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MTSY"/>
                          <a:ea typeface="SimSun"/>
                        </a:rPr>
                        <a:t>= </a:t>
                      </a: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3.8 [1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3.4 [8]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ase-based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3366"/>
                </a:solidFill>
                <a:latin typeface="Calibri"/>
              </a:rPr>
              <a:t>Items are retrieved using similarity measur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3366"/>
                </a:solidFill>
                <a:latin typeface="Calibri"/>
              </a:rPr>
              <a:t>Distance similarity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3366"/>
                </a:solidFill>
                <a:latin typeface="Calibri"/>
              </a:rPr>
              <a:t>Def.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sim (p, r) expresses for each item attribute value φr (p) its distance to the customer requirement r ∈ REQ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w</a:t>
            </a:r>
            <a:r>
              <a:rPr b="0" lang="en-IE" sz="1100" spc="-1" strike="noStrike">
                <a:solidFill>
                  <a:srgbClr val="003366"/>
                </a:solidFill>
                <a:latin typeface="Calibri"/>
              </a:rPr>
              <a:t>r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 is the importance weight for requirement 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3366"/>
                </a:solidFill>
                <a:latin typeface="Calibri"/>
              </a:rPr>
              <a:t>In real world, customer  would like to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maximize certain properties. i.e. resolution of a camera, "more is better"(MIB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minimize certain properties. i.e. price of a camera, "less is better"(LIB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03" name="Picture 1" descr="C:\Dokumente und Einstellungen\Mouzhi Ge\Anwendungsdaten\Tencent\Users\7204866\QQ\WinTemp\RichOle\4E0`~KKIL~@%VB}T~SGOGUH.jpg"/>
          <p:cNvPicPr/>
          <p:nvPr/>
        </p:nvPicPr>
        <p:blipFill>
          <a:blip r:embed="rId1"/>
          <a:stretch/>
        </p:blipFill>
        <p:spPr>
          <a:xfrm>
            <a:off x="1547640" y="2492280"/>
            <a:ext cx="5256360" cy="943200"/>
          </a:xfrm>
          <a:prstGeom prst="rect">
            <a:avLst/>
          </a:prstGeom>
          <a:ln w="0">
            <a:noFill/>
          </a:ln>
        </p:spPr>
      </p:pic>
      <p:pic>
        <p:nvPicPr>
          <p:cNvPr id="704" name="Grafik 4" descr=""/>
          <p:cNvPicPr/>
          <p:nvPr/>
        </p:nvPicPr>
        <p:blipFill>
          <a:blip r:embed="rId2"/>
          <a:stretch/>
        </p:blipFill>
        <p:spPr>
          <a:xfrm>
            <a:off x="7451640" y="2428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Basic I/O Relationship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636" name="Gruppieren 12"/>
          <p:cNvGrpSpPr/>
          <p:nvPr/>
        </p:nvGrpSpPr>
        <p:grpSpPr>
          <a:xfrm>
            <a:off x="4071960" y="3000240"/>
            <a:ext cx="4181400" cy="1548000"/>
            <a:chOff x="4071960" y="3000240"/>
            <a:chExt cx="4181400" cy="1548000"/>
          </a:xfrm>
        </p:grpSpPr>
        <p:pic>
          <p:nvPicPr>
            <p:cNvPr id="637" name="Grafik 5" descr="Box.png"/>
            <p:cNvPicPr/>
            <p:nvPr/>
          </p:nvPicPr>
          <p:blipFill>
            <a:blip r:embed="rId1"/>
            <a:stretch/>
          </p:blipFill>
          <p:spPr>
            <a:xfrm>
              <a:off x="4071960" y="3143160"/>
              <a:ext cx="16430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Grafik 6" descr="Outputarrow.png"/>
            <p:cNvPicPr/>
            <p:nvPr/>
          </p:nvPicPr>
          <p:blipFill>
            <a:blip r:embed="rId2"/>
            <a:stretch/>
          </p:blipFill>
          <p:spPr>
            <a:xfrm>
              <a:off x="5500800" y="3429000"/>
              <a:ext cx="11289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Grafik 7" descr="Output.png"/>
            <p:cNvPicPr/>
            <p:nvPr/>
          </p:nvPicPr>
          <p:blipFill>
            <a:blip r:embed="rId3"/>
            <a:stretch/>
          </p:blipFill>
          <p:spPr>
            <a:xfrm>
              <a:off x="6643800" y="3000240"/>
              <a:ext cx="160956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uppieren 13"/>
          <p:cNvGrpSpPr/>
          <p:nvPr/>
        </p:nvGrpSpPr>
        <p:grpSpPr>
          <a:xfrm>
            <a:off x="698400" y="1643040"/>
            <a:ext cx="3659400" cy="1297080"/>
            <a:chOff x="698400" y="1643040"/>
            <a:chExt cx="3659400" cy="1297080"/>
          </a:xfrm>
        </p:grpSpPr>
        <p:pic>
          <p:nvPicPr>
            <p:cNvPr id="641" name="Grafik 10" descr="UM.png"/>
            <p:cNvPicPr/>
            <p:nvPr/>
          </p:nvPicPr>
          <p:blipFill>
            <a:blip r:embed="rId4"/>
            <a:stretch/>
          </p:blipFill>
          <p:spPr>
            <a:xfrm>
              <a:off x="698400" y="1643040"/>
              <a:ext cx="180144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Grafik 11" descr="UMarrow.png"/>
            <p:cNvPicPr/>
            <p:nvPr/>
          </p:nvPicPr>
          <p:blipFill>
            <a:blip r:embed="rId5"/>
            <a:stretch/>
          </p:blipFill>
          <p:spPr>
            <a:xfrm>
              <a:off x="2571480" y="2071440"/>
              <a:ext cx="1786320" cy="86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3" name="Gruppieren 23"/>
          <p:cNvGrpSpPr/>
          <p:nvPr/>
        </p:nvGrpSpPr>
        <p:grpSpPr>
          <a:xfrm>
            <a:off x="714240" y="3857760"/>
            <a:ext cx="3143520" cy="739800"/>
            <a:chOff x="714240" y="3857760"/>
            <a:chExt cx="3143520" cy="739800"/>
          </a:xfrm>
        </p:grpSpPr>
        <p:pic>
          <p:nvPicPr>
            <p:cNvPr id="644" name="Grafik 21" descr="PM.png"/>
            <p:cNvPicPr/>
            <p:nvPr/>
          </p:nvPicPr>
          <p:blipFill>
            <a:blip r:embed="rId6"/>
            <a:stretch/>
          </p:blipFill>
          <p:spPr>
            <a:xfrm>
              <a:off x="714240" y="3857760"/>
              <a:ext cx="178596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Grafik 22" descr="PMarrow.png"/>
            <p:cNvPicPr/>
            <p:nvPr/>
          </p:nvPicPr>
          <p:blipFill>
            <a:blip r:embed="rId7"/>
            <a:stretch/>
          </p:blipFill>
          <p:spPr>
            <a:xfrm>
              <a:off x="2714760" y="3929040"/>
              <a:ext cx="114300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6" name="Rechteck 24"/>
          <p:cNvSpPr/>
          <p:nvPr/>
        </p:nvSpPr>
        <p:spPr>
          <a:xfrm>
            <a:off x="4429080" y="1643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Knowledge-based: "Tell me what fits based on my needs"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uppieren 27"/>
          <p:cNvGrpSpPr/>
          <p:nvPr/>
        </p:nvGrpSpPr>
        <p:grpSpPr>
          <a:xfrm>
            <a:off x="750960" y="4500720"/>
            <a:ext cx="3349440" cy="1357200"/>
            <a:chOff x="750960" y="4500720"/>
            <a:chExt cx="3349440" cy="1357200"/>
          </a:xfrm>
        </p:grpSpPr>
        <p:pic>
          <p:nvPicPr>
            <p:cNvPr id="648" name="Grafik 25" descr="KM.png"/>
            <p:cNvPicPr/>
            <p:nvPr/>
          </p:nvPicPr>
          <p:blipFill>
            <a:blip r:embed="rId8"/>
            <a:stretch/>
          </p:blipFill>
          <p:spPr>
            <a:xfrm>
              <a:off x="750960" y="5000760"/>
              <a:ext cx="16776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Grafik 26" descr="KMarrow.png"/>
            <p:cNvPicPr/>
            <p:nvPr/>
          </p:nvPicPr>
          <p:blipFill>
            <a:blip r:embed="rId9"/>
            <a:stretch/>
          </p:blipFill>
          <p:spPr>
            <a:xfrm>
              <a:off x="2428560" y="4500720"/>
              <a:ext cx="16718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nteracting with case-based recommender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Calibri"/>
              </a:rPr>
              <a:t>Customers </a:t>
            </a: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maybe not know what they are seek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Critiquing is an effective way to support such naviga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Calibri"/>
              </a:rPr>
              <a:t>Customers specify their </a:t>
            </a: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change requests (</a:t>
            </a:r>
            <a:r>
              <a:rPr b="0" i="1" lang="en-IE" sz="2000" spc="-1" strike="noStrike">
                <a:solidFill>
                  <a:srgbClr val="003366"/>
                </a:solidFill>
                <a:latin typeface="Calibri"/>
              </a:rPr>
              <a:t>price or mpix</a:t>
            </a: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) that are not satisfied by the current item (</a:t>
            </a:r>
            <a:r>
              <a:rPr b="0" i="1" lang="en-IE" sz="2000" spc="-1" strike="noStrike">
                <a:solidFill>
                  <a:srgbClr val="003366"/>
                </a:solidFill>
                <a:latin typeface="Calibri"/>
              </a:rPr>
              <a:t>entry item</a:t>
            </a:r>
            <a:r>
              <a:rPr b="1" i="1" lang="en-IE" sz="2000" spc="-1" strike="noStrike">
                <a:solidFill>
                  <a:srgbClr val="003366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07" name="Picture 2" descr="C:\Dokumente und Einstellungen\Mouzhi Ge\Anwendungsdaten\Tencent\Users\7204866\QQ\WinTemp\RichOle\}0_$U[WBW6FI{3{_DR_3RYV.jpg"/>
          <p:cNvPicPr/>
          <p:nvPr/>
        </p:nvPicPr>
        <p:blipFill>
          <a:blip r:embed="rId1"/>
          <a:stretch/>
        </p:blipFill>
        <p:spPr>
          <a:xfrm>
            <a:off x="324000" y="3284640"/>
            <a:ext cx="3348000" cy="2604960"/>
          </a:xfrm>
          <a:prstGeom prst="rect">
            <a:avLst/>
          </a:prstGeom>
          <a:ln w="0">
            <a:noFill/>
          </a:ln>
        </p:spPr>
      </p:pic>
      <p:sp>
        <p:nvSpPr>
          <p:cNvPr id="708" name="Rechteck 5"/>
          <p:cNvSpPr/>
          <p:nvPr/>
        </p:nvSpPr>
        <p:spPr>
          <a:xfrm>
            <a:off x="3724200" y="45086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2060"/>
                </a:solidFill>
                <a:latin typeface="Calibri"/>
              </a:rPr>
              <a:t>Critique on pric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9" name="Picture 3" descr="C:\Dokumente und Einstellungen\Mouzhi Ge\Anwendungsdaten\Tencent\Users\7204866\QQ\WinTemp\RichOle\P`@%%PPW(F0DZJ(N7I$4RR6.jpg"/>
          <p:cNvPicPr/>
          <p:nvPr/>
        </p:nvPicPr>
        <p:blipFill>
          <a:blip r:embed="rId2"/>
          <a:stretch/>
        </p:blipFill>
        <p:spPr>
          <a:xfrm>
            <a:off x="5435640" y="3429000"/>
            <a:ext cx="366696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mpound critiqu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Calibri"/>
              </a:rPr>
              <a:t>Operate over multiple properties </a:t>
            </a:r>
            <a:r>
              <a:rPr b="1" lang="en-IE" sz="2000" spc="-1" strike="noStrike">
                <a:solidFill>
                  <a:srgbClr val="003366"/>
                </a:solidFill>
                <a:latin typeface="Calibri"/>
              </a:rPr>
              <a:t>can improve the efficiency of recommendation dialog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12" name="Picture 1" descr="C:\Dokumente und Einstellungen\Mouzhi Ge\Anwendungsdaten\Tencent\Users\7204866\QQ\WinTemp\RichOle\%S)54%`$5PIJBHJU7D[SN}G.jpg"/>
          <p:cNvPicPr/>
          <p:nvPr/>
        </p:nvPicPr>
        <p:blipFill>
          <a:blip r:embed="rId1"/>
          <a:stretch/>
        </p:blipFill>
        <p:spPr>
          <a:xfrm>
            <a:off x="1979640" y="2492280"/>
            <a:ext cx="5256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ynamic critiqu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Calibri"/>
              </a:rPr>
              <a:t>Association rule min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Calibri"/>
              </a:rPr>
              <a:t>Basic steps for dynamic critiqu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q: 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initial set of requireme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CI: 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all the available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K: maximum number of compound critiqu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σ</a:t>
            </a:r>
            <a:r>
              <a:rPr b="0" i="1" lang="en-IE" sz="800" spc="-1" strike="noStrike">
                <a:solidFill>
                  <a:srgbClr val="003366"/>
                </a:solidFill>
                <a:latin typeface="Calibri"/>
              </a:rPr>
              <a:t>min </a:t>
            </a:r>
            <a:r>
              <a:rPr b="0" i="1" lang="en-IE" sz="1800" spc="-1" strike="noStrike">
                <a:solidFill>
                  <a:srgbClr val="003366"/>
                </a:solidFill>
                <a:latin typeface="Calibri"/>
              </a:rPr>
              <a:t>: minimum support 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value for calculated association rule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5" name="Rechteck 4"/>
          <p:cNvSpPr/>
          <p:nvPr/>
        </p:nvSpPr>
        <p:spPr>
          <a:xfrm>
            <a:off x="5219640" y="1268280"/>
            <a:ext cx="374508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lgorithm 4.4 DynamicCritiquing(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q,CI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put: Initial user query 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q; Candidate items CI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umber of compound critiques per cycle 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k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nimum support for identified association rules 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rocedure DynamicCritiquing(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q, CI, k, σ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peat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r ←ItemRecommend(q, CI)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CC ←CompoundCritiques(r, CI, k, σ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q ←UserReview(r, CI, CC)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until empty(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q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nd procedure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rocedure ItemRecommend(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q, CI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CI ← {ci ∈ CI: satisfies(ci, q)}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r ←mostsimilar(CI, q)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r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nd procedure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rocedure UserReview(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r, CI, CC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q ←critique(r, CC)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CI ←CI − r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q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nd procedure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rocedure CompoundCritiques(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r, CI, k, σ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CP ←CritiquePatterns(r, CI)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CC ←Apriori(CP, σmin)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SC ←SelectCritiques(CC, k)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SC;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nd procedure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ample: sales dialogue financial servic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635280" y="1700280"/>
            <a:ext cx="5184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n the financial services domai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ales representatives do not know which services should be recommend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mprove the overall productivity of sales representativ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esembles call-center script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est-practice sales dialogu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tates, transitions with predicat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esearch resul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upport for KA and valid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node properties (reachable, extensible, deterministic)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6480" cy="50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3366"/>
                </a:solidFill>
                <a:latin typeface="Calibri"/>
              </a:rPr>
              <a:t>Example software: VITA sales suppor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20" name="Picture 1" descr="C:\Dokumente und Einstellungen\Mouzhi Ge\Anwendungsdaten\Tencent\Users\7204866\QQ\WinTemp\RichOle\44`8@)U0@OEW2A7I29TRY62.jpg"/>
          <p:cNvPicPr/>
          <p:nvPr/>
        </p:nvPicPr>
        <p:blipFill>
          <a:blip r:embed="rId1"/>
          <a:stretch/>
        </p:blipFill>
        <p:spPr>
          <a:xfrm>
            <a:off x="1403280" y="1268280"/>
            <a:ext cx="5915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0" y="1125360"/>
            <a:ext cx="4210200" cy="5183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3366"/>
                </a:solidFill>
                <a:latin typeface="Calibri"/>
              </a:rPr>
              <a:t>Example: Critiquing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140000" y="1125360"/>
            <a:ext cx="460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imilarity-based navigation in item spac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mpound critiqu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re efficient navigation than with unit critiqu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ining of frequent patter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ynamic critiqu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only applicable compound critiques propos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ncremental critiqu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nsiders histor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daptive sugges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uggest items that allow to best refine user's preference model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ummary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Knowledge-based recommender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nstraint-bas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ase-bas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Limita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st of knowledge acquisi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from domain expert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from user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from web resource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ccuracy of preference model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very fine granular preference models require many interaction cycle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collaborative filtering models preference implicitly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independence assumption can be challeng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preferences are not always independent from each other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Why do we need knowledge-based recommendation?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roducts with low number of available rating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ime span plays an important rol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ive-year-old ratings for comput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r lifestyle or family situation chang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ustomers want to define their requirements explicitly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"the color of the car should be black"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4716360" y="2185920"/>
            <a:ext cx="2232000" cy="1387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2"/>
          <a:stretch/>
        </p:blipFill>
        <p:spPr>
          <a:xfrm>
            <a:off x="1835280" y="2181240"/>
            <a:ext cx="20890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Knowledge-based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nstraint-base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ased on explicitly defined set of recommendation rul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ulfill recommendation rul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ase-base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ased on different types of similarity measur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trieve items that are similar to specified requireme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Both approaches are similar in their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conversational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recommendation proce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rs specify the requirement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ystems try to identify solution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f no solution can be found, users change requirement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nstraint-based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28400" y="1571760"/>
            <a:ext cx="78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Knowledge bas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ually mediates between user model and item propert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er model features (requirements), Item features (catalogue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et of constrai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ogical implications (IF user requires A THEN proposed item should possess feature B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ard and soft/weighted constrain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olution preferenc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erive a set of recommendable i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ulfilling set of applicable constrain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pplicability of constraints depends on current user mod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planations – transparent line of reason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nstraint-based recommendation task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Find a set of user requirements such that a subset of items fulfills all constrain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sk user which requirements should be relaxed/modified such that some items exist that do not violate any constrain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Find a subset of items that satisfy the maximum set of weighted constrain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imilar to find a maximally succeeding subquery (XSS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ll proposed items have to fulfill the same set of constrain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ompute relaxations based on predetermined weigh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ank items according to weights of satisfied soft constrain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ank items based on the ratio of fulfilled constrain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oes not require additional ranking schem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nstraint-based recommendation problem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elect items from this catalog that match the user's requiremen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User's requirements can, for example, b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"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the price should be lower than 300</a:t>
            </a:r>
            <a:r>
              <a:rPr b="0" lang="de-DE" sz="1800" spc="-1" strike="noStrike">
                <a:solidFill>
                  <a:srgbClr val="003366"/>
                </a:solidFill>
                <a:latin typeface="Calibri"/>
              </a:rPr>
              <a:t> €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"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"</a:t>
            </a:r>
            <a:r>
              <a:rPr b="0" lang="en-IE" sz="1800" spc="-1" strike="noStrike">
                <a:solidFill>
                  <a:srgbClr val="003366"/>
                </a:solidFill>
                <a:latin typeface="Calibri"/>
              </a:rPr>
              <a:t>the camera should be suited for sports photography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"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547640" y="2133720"/>
          <a:ext cx="5688360" cy="2450880"/>
        </p:xfrm>
        <a:graphic>
          <a:graphicData uri="http://schemas.openxmlformats.org/drawingml/2006/table">
            <a:tbl>
              <a:tblPr/>
              <a:tblGrid>
                <a:gridCol w="628920"/>
                <a:gridCol w="707760"/>
                <a:gridCol w="627120"/>
                <a:gridCol w="727200"/>
                <a:gridCol w="696960"/>
                <a:gridCol w="627120"/>
                <a:gridCol w="696960"/>
                <a:gridCol w="976320"/>
              </a:tblGrid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ce(€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pix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-zoo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CD-siz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vi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un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proo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48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.0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8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.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8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6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2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.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5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.1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5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.0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</a:t>
                      </a:r>
                      <a:r>
                        <a:rPr b="0" lang="de-DE" sz="1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7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.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×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.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684000" y="1699920"/>
            <a:ext cx="8459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 knowledge-based RS with declarative knowledge representation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ef.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,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Calibri"/>
              </a:rPr>
              <a:t>U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: Variables describing product and user model with domain 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KB: Knowledge base with domain restrictions (e.g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. if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urpose=</a:t>
            </a:r>
            <a:r>
              <a:rPr b="0" i="1" lang="en-US" sz="1800" spc="-1" strike="noStrike">
                <a:solidFill>
                  <a:srgbClr val="003366"/>
                </a:solidFill>
                <a:latin typeface="Calibri"/>
              </a:rPr>
              <a:t>on travel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then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lower focal length &lt; </a:t>
            </a:r>
            <a:r>
              <a:rPr b="0" i="1" lang="en-US" sz="1800" spc="-1" strike="noStrike">
                <a:solidFill>
                  <a:srgbClr val="003366"/>
                </a:solidFill>
                <a:latin typeface="Calibri"/>
              </a:rPr>
              <a:t>28mm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RS: Specific requirements of user (e.g. purpose = </a:t>
            </a:r>
            <a:r>
              <a:rPr b="0" i="1" lang="en-US" sz="1800" spc="-1" strike="noStrike">
                <a:solidFill>
                  <a:srgbClr val="003366"/>
                </a:solidFill>
                <a:latin typeface="Calibri"/>
              </a:rPr>
              <a:t>on travel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: Product catalog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olution: Assignment tuple    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                        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s satisfiabl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kt 3"/>
              <p:cNvSpPr txBox="1"/>
              <p:nvPr/>
            </p:nvSpPr>
            <p:spPr>
              <a:xfrm>
                <a:off x="1763640" y="2205000"/>
                <a:ext cx="4032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RS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∪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kt 4"/>
              <p:cNvSpPr txBox="1"/>
              <p:nvPr/>
            </p:nvSpPr>
            <p:spPr>
              <a:xfrm>
                <a:off x="4284720" y="4653000"/>
                <a:ext cx="3583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θ</m:t>
                    </m:r>
                    <m:r>
                      <m:t xml:space="preserve">∧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do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kt 5"/>
              <p:cNvSpPr txBox="1"/>
              <p:nvPr/>
            </p:nvSpPr>
            <p:spPr>
              <a:xfrm>
                <a:off x="1116000" y="5137200"/>
                <a:ext cx="26733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SRS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∪</m:t>
                    </m:r>
                    <m:r>
                      <m:t xml:space="preserve">I</m:t>
                    </m:r>
                    <m:r>
                      <m:t xml:space="preserve">∪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kt 10"/>
              <p:cNvSpPr txBox="1"/>
              <p:nvPr/>
            </p:nvSpPr>
            <p:spPr>
              <a:xfrm>
                <a:off x="3995640" y="4695840"/>
                <a:ext cx="266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nstraint satisfaction problem (CSP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njunctive query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ifferent from a constraint solver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t is not to find valid instantiations for a CSP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njunctive query is executed in the item catalo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 conjunctive database quer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 set of selection criteria that are connected conjunctivel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σ[criteria](P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Calibri"/>
              </a:rPr>
              <a:t>P: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oduct assortmen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ample: σ[mpix≥10, price&lt;300](P) = {p4, p7}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23:14Z</dcterms:created>
  <dc:creator>markus</dc:creator>
  <dc:description/>
  <dc:language>en-US</dc:language>
  <cp:lastModifiedBy>Wolfgang Schmid</cp:lastModifiedBy>
  <dcterms:modified xsi:type="dcterms:W3CDTF">2012-01-11T12:00:32Z</dcterms:modified>
  <cp:revision>1154</cp:revision>
  <dc:subject/>
  <dc:title>Recommender Systems</dc:title>
</cp:coreProperties>
</file>