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10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11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</p:sldMasterIdLst>
  <p:notesMasterIdLst>
    <p:notesMasterId r:id="rId47"/>
  </p:notesMasterIdLst>
  <p:sldIdLst>
    <p:sldId id="256" r:id="rId48"/>
    <p:sldId id="257" r:id="rId49"/>
    <p:sldId id="258" r:id="rId50"/>
    <p:sldId id="259" r:id="rId51"/>
    <p:sldId id="260" r:id="rId52"/>
    <p:sldId id="261" r:id="rId53"/>
    <p:sldId id="262" r:id="rId54"/>
    <p:sldId id="263" r:id="rId55"/>
    <p:sldId id="264" r:id="rId56"/>
    <p:sldId id="265" r:id="rId57"/>
    <p:sldId id="266" r:id="rId58"/>
    <p:sldId id="267" r:id="rId59"/>
    <p:sldId id="268" r:id="rId60"/>
    <p:sldId id="269" r:id="rId61"/>
    <p:sldId id="270" r:id="rId62"/>
    <p:sldId id="271" r:id="rId63"/>
    <p:sldId id="272" r:id="rId64"/>
    <p:sldId id="273" r:id="rId65"/>
    <p:sldId id="274" r:id="rId66"/>
    <p:sldId id="275" r:id="rId67"/>
    <p:sldId id="276" r:id="rId68"/>
    <p:sldId id="277" r:id="rId69"/>
    <p:sldId id="278" r:id="rId70"/>
    <p:sldId id="279" r:id="rId71"/>
    <p:sldId id="280" r:id="rId72"/>
    <p:sldId id="281" r:id="rId73"/>
    <p:sldId id="282" r:id="rId7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notesMaster" Target="notesMasters/notesMaster1.xml"/><Relationship Id="rId48" Type="http://schemas.openxmlformats.org/officeDocument/2006/relationships/slide" Target="slides/slide1.xml"/><Relationship Id="rId49" Type="http://schemas.openxmlformats.org/officeDocument/2006/relationships/slide" Target="slides/slide2.xml"/><Relationship Id="rId50" Type="http://schemas.openxmlformats.org/officeDocument/2006/relationships/slide" Target="slides/slide3.xml"/><Relationship Id="rId51" Type="http://schemas.openxmlformats.org/officeDocument/2006/relationships/slide" Target="slides/slide4.xml"/><Relationship Id="rId52" Type="http://schemas.openxmlformats.org/officeDocument/2006/relationships/slide" Target="slides/slide5.xml"/><Relationship Id="rId53" Type="http://schemas.openxmlformats.org/officeDocument/2006/relationships/slide" Target="slides/slide6.xml"/><Relationship Id="rId54" Type="http://schemas.openxmlformats.org/officeDocument/2006/relationships/slide" Target="slides/slide7.xml"/><Relationship Id="rId55" Type="http://schemas.openxmlformats.org/officeDocument/2006/relationships/slide" Target="slides/slide8.xml"/><Relationship Id="rId56" Type="http://schemas.openxmlformats.org/officeDocument/2006/relationships/slide" Target="slides/slide9.xml"/><Relationship Id="rId57" Type="http://schemas.openxmlformats.org/officeDocument/2006/relationships/slide" Target="slides/slide10.xml"/><Relationship Id="rId58" Type="http://schemas.openxmlformats.org/officeDocument/2006/relationships/slide" Target="slides/slide11.xml"/><Relationship Id="rId59" Type="http://schemas.openxmlformats.org/officeDocument/2006/relationships/slide" Target="slides/slide12.xml"/><Relationship Id="rId60" Type="http://schemas.openxmlformats.org/officeDocument/2006/relationships/slide" Target="slides/slide13.xml"/><Relationship Id="rId61" Type="http://schemas.openxmlformats.org/officeDocument/2006/relationships/slide" Target="slides/slide14.xml"/><Relationship Id="rId62" Type="http://schemas.openxmlformats.org/officeDocument/2006/relationships/slide" Target="slides/slide15.xml"/><Relationship Id="rId63" Type="http://schemas.openxmlformats.org/officeDocument/2006/relationships/slide" Target="slides/slide16.xml"/><Relationship Id="rId64" Type="http://schemas.openxmlformats.org/officeDocument/2006/relationships/slide" Target="slides/slide17.xml"/><Relationship Id="rId65" Type="http://schemas.openxmlformats.org/officeDocument/2006/relationships/slide" Target="slides/slide18.xml"/><Relationship Id="rId66" Type="http://schemas.openxmlformats.org/officeDocument/2006/relationships/slide" Target="slides/slide19.xml"/><Relationship Id="rId67" Type="http://schemas.openxmlformats.org/officeDocument/2006/relationships/slide" Target="slides/slide20.xml"/><Relationship Id="rId68" Type="http://schemas.openxmlformats.org/officeDocument/2006/relationships/slide" Target="slides/slide21.xml"/><Relationship Id="rId69" Type="http://schemas.openxmlformats.org/officeDocument/2006/relationships/slide" Target="slides/slide22.xml"/><Relationship Id="rId70" Type="http://schemas.openxmlformats.org/officeDocument/2006/relationships/slide" Target="slides/slide23.xml"/><Relationship Id="rId71" Type="http://schemas.openxmlformats.org/officeDocument/2006/relationships/slide" Target="slides/slide24.xml"/><Relationship Id="rId72" Type="http://schemas.openxmlformats.org/officeDocument/2006/relationships/slide" Target="slides/slide25.xml"/><Relationship Id="rId73" Type="http://schemas.openxmlformats.org/officeDocument/2006/relationships/slide" Target="slides/slide26.xml"/><Relationship Id="rId74" Type="http://schemas.openxmlformats.org/officeDocument/2006/relationships/slide" Target="slides/slide27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dt" idx="42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 type="ftr" idx="43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PlaceHolder 6"/>
          <p:cNvSpPr>
            <a:spLocks noGrp="1"/>
          </p:cNvSpPr>
          <p:nvPr>
            <p:ph type="sldNum" idx="44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8E524F8-2FA4-4BB8-B3D5-5C6956DACC9E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08D5D3E-51FB-402C-8F73-0704CFB9ED02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FDDAB98-A90B-44E7-BE96-F12249B6801F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DE8EF0B-A0DC-40E3-A61F-C4B0D9F3C701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0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08EC446-A9AA-4008-802C-AA6C79880F5E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3010098-35DF-48BD-AE23-1A03FA8B5160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9AD1A37-AD7A-4707-BEBC-63C8221F3A44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96A5195-87D7-41B2-AFF5-E57407FE5909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4A810B9-ADFC-427B-B1BE-1EA42C30C453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F2A6F38-C28A-490B-8202-E5340A144511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105E8A8-ACDD-478F-9B53-C9E951EB8FF6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B5CF5BC-F926-44E5-845B-52B741939BC7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5850C10-4B32-4FE4-B818-2EE5EA3D8EA5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A7BAFEF-9059-47F8-ABF3-3458DA1ED50E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1BCBAE8-331F-461E-8080-9BB90ADD2948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CB72F90-8CEF-483E-918A-8422330370BB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5E4FC82-902E-4E3C-AAD6-9F55066B2335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5F98011-530F-4633-812F-F2C44745F4F2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4CBDE2C-4677-45BA-A196-D3555C5964C1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70F7E9A-C429-4CA7-9502-34AE214EBD88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3E2A265-5E96-45A9-92D5-A9B0C215EA23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82917A8-F902-4CB3-A062-008E6FB37273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2AF244D-3FDE-4943-B5E1-6D77AFD268F6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661C627-8108-4689-9B21-6953F429FF13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9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6241945-106C-4029-8D69-7464577E55C6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5920FC3-70DA-42D2-B190-E1F44F4E359F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5BC4951-206D-43CC-B70A-4C095F23FFAE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D198707-B08D-4B9C-B705-F6B8AB4015FC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687EE-8625-4143-B86D-D214ED531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85456-303D-4F7E-8D94-5CF744E9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78BF4-4887-4D06-B548-8F0FCEAE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1CDFA-FA3A-4038-AC98-92612819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70AA9-5CAA-44A0-BF74-A0187654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FD45AD-F076-4D44-9159-4719A26F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E73ED-A0EA-4052-97CF-2850AB09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67C47-8182-43DD-A7E1-3352687A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8C31C4-5F54-42C5-A984-94AB0915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8C652-E455-4414-B09C-A87FE0FE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56C11-3CBE-4A67-A593-556CA36FF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7CA24-6E63-42AF-9A9C-AA8B25B9A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1ABF6D74-DC76-4BB9-AC7E-F1A0D5C29ACF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utorial: Introduction to Recommender Systems, ACM SAC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E609DAE3-8331-4354-AEDE-5D682E58AF48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ftr" idx="10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58E49F59-217E-4BFB-B65E-E9391AC0F1AC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ftr" idx="11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E58FE847-7434-41D9-807C-87BD1277D83F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ftr" idx="12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05CBED0D-2D19-4B52-886F-87160C7A5E15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ftr" idx="13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2CF70593-5F89-450F-9341-FDBA59A1BE12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ftr" idx="14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709211EF-7FB9-4320-B5D5-B098AC992890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ftr" idx="15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CE2FE8BB-E9AC-466A-9DEF-4AE461E1FE94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ftr" idx="16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ED8D8235-CE04-46AA-A569-B3C01464261C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ftr" idx="17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3A80533A-78CE-486B-BF13-11D19D59697E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355EED20-C624-4307-8F75-EEED2C530009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Rechteck 8"/>
          <p:cNvSpPr/>
          <p:nvPr/>
        </p:nvSpPr>
        <p:spPr>
          <a:xfrm>
            <a:off x="428760" y="635796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© Dietmar Jannach and Markus Zanker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65B3-609E-4B0A-89BE-5710F412075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70F27BBF-3D63-4109-9FB4-9027A19CA577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ftr" idx="18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56DAAC51-D79F-42E6-B859-0739DEE054B7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ftr" idx="19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099FB7A1-4E47-4576-A8EB-4BDB33574E0D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ftr" idx="20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80132BEA-7C2B-4DE0-983E-7A3BEFA06D43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 type="ftr" idx="21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3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B90DA764-2A45-4FA5-888B-8FEA5111C45C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4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 type="ftr" idx="22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5A56D048-FE8B-402E-B89E-7F02562ED728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6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 type="ftr" idx="23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42F33D28-0CC1-460A-8099-3599F2AF4072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 type="ftr" idx="24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9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4E981183-31B1-47A7-88E9-0AD049B2849E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 type="ftr" idx="25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E3AC045F-ACCC-407F-8993-596C1280DC1A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2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 type="ftr" idx="26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B98A9982-11A4-48D5-BD65-9082E25597D1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 type="ftr" idx="27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5231303B-1412-4716-8300-63B0C136E8E1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utorial: Introduction to Recommender Systems, ACM SAC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5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B377FA63-3625-4B46-B8B0-F1975A0F74E4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 type="ftr" idx="28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7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57F2B054-47DD-4DBF-BA8F-39AE1D7D205A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8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 type="ftr" idx="29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Dr. Markus Zanker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9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EA961B79-CC57-4A39-9921-30C79ABCD9A6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0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0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59DBAB9F-AA83-462A-A99E-DF35556875F6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1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2" name="Rechteck 8"/>
          <p:cNvSpPr/>
          <p:nvPr/>
        </p:nvSpPr>
        <p:spPr>
          <a:xfrm>
            <a:off x="428760" y="635796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© Dietmar Jannach and Markus Zanker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2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8F04C1D0-E9BF-4A95-9924-1692386ADB19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3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 type="ftr" idx="30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543D0351-E94E-4910-977E-5119159E4B64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5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 type="ftr" idx="31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54D57616-30EF-4382-A650-58E3DC34E866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 type="ftr" idx="32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8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DCAB7EF8-1B8F-4452-BCB7-28C81E78DE27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 type="ftr" idx="33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0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6CBE2103-A9EC-4696-8AFF-E3CD2B95C587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 type="ftr" idx="34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2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A34422BC-F2CC-4DB9-A936-BA4B62534095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3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 type="ftr" idx="35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A0A7EF34-B2FF-4AA2-9525-EC52D413CA61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6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utorial: Introduction to Recommender Systems, ACM SAC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4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8FBF62EA-025E-4B2A-B092-2C56BF7C4978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5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 type="ftr" idx="36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6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71D4FA0C-8D41-4AB2-AC81-0373F8FF375A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7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 type="ftr" idx="37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BAE3193A-D7A1-4514-AAED-72C660A555AA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9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 type="ftr" idx="38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0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21254880-DA57-4FE3-BF14-C6B25A20BDC5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1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 type="ftr" idx="39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2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B5F4919E-A293-4990-A289-161EEA8394F8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3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 type="ftr" idx="40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4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5000CA3C-F730-41CA-BF84-7EECE806B54A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5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 type="ftr" idx="41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Dr. Markus Zanker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C9AA8DAD-0799-4369-B90A-F89E1F57F72A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8224F3A1-80D8-4A4D-86EB-6D7F793DDB88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E7085290-EE8D-4AB5-A1B7-9A59B17DF25F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7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8468A4A7-E804-4A67-929A-180FD8EC0512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ftr" idx="8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BBE3D2B1-5F0B-48F8-94D5-4FC04A1EA94D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ftr" idx="9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2" name="Rechteck 3" descr=""/>
          <p:cNvPicPr/>
          <p:nvPr/>
        </p:nvPicPr>
        <p:blipFill>
          <a:blip r:embed="rId1"/>
          <a:stretch/>
        </p:blipFill>
        <p:spPr>
          <a:xfrm>
            <a:off x="1285920" y="2517840"/>
            <a:ext cx="664524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The Random Attack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36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General scheme of an attack profile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Attack models mainly differ in the way the profile sections are filled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Random attack model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Take random values for filler items 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Typical distribution of ratings is known, e.g., for the movie domain</a:t>
            </a:r>
            <a:br>
              <a:rPr sz="1400"/>
            </a:b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(Average 3.6, standard deviation around 1.1)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Idea: 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generate profiles with "typical" ratings so they are considered as neighbors to many other real profiles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High/low ratings for target item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Limited effect compared with more advanced model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3366"/>
                </a:solidFill>
                <a:latin typeface="Calibri"/>
              </a:rPr>
              <a:t>	</a:t>
            </a: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1937" name=""/>
          <p:cNvGraphicFramePr/>
          <p:nvPr/>
        </p:nvGraphicFramePr>
        <p:xfrm>
          <a:off x="971640" y="1989000"/>
          <a:ext cx="5929200" cy="935280"/>
        </p:xfrm>
        <a:graphic>
          <a:graphicData uri="http://schemas.openxmlformats.org/drawingml/2006/table">
            <a:tbl>
              <a:tblPr/>
              <a:tblGrid>
                <a:gridCol w="847800"/>
                <a:gridCol w="422280"/>
                <a:gridCol w="847440"/>
                <a:gridCol w="424080"/>
                <a:gridCol w="846000"/>
                <a:gridCol w="507960"/>
                <a:gridCol w="1101960"/>
                <a:gridCol w="931680"/>
              </a:tblGrid>
              <a:tr h="311400">
                <a:tc>
                  <a:txBody>
                    <a:bodyPr lIns="94320" rIns="9432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tem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4320" marR="9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4320" rIns="9432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4320" marR="9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4320" rIns="9432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temK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4320" marR="9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4320" rIns="9432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4320" marR="9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4320" rIns="9432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tem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4320" marR="9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4320" rIns="9432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4320" marR="9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4320" rIns="9432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tem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4320" marR="9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4320" rIns="9432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arge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4320" marR="9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12480">
                <a:tc>
                  <a:txBody>
                    <a:bodyPr lIns="94320" rIns="9432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_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4320" marR="9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4320" rIns="9432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4320" marR="9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4320" rIns="9432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_k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4320" marR="9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4320" rIns="9432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4320" marR="9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4320" rIns="9432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_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4320" marR="9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4320" rIns="9432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4320" marR="9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4320" rIns="9432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_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4320" marR="9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4320" rIns="9432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X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4320" marR="9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11400">
                <a:tc gridSpan="3">
                  <a:txBody>
                    <a:bodyPr lIns="94320" rIns="9432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lected item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4320" marR="9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4320" rIns="9432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ller item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4320" marR="9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4320" rIns="9432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rated item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4320" marR="9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4320" rIns="9432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4320" marR="9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The Average Attack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39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use the individual item's rating average for the filler item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intuitively, there should be more neighbor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additional cost involved: find out the average rating of an item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more effective than Random Attack in user-based CF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But additional knowledge is required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Quite easy to determine average rating values per item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Values explicitly provided when item is displayed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Effectivenes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By the way: what does effective mean?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Possible metrics to measure the introduced bias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Robustnes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deviation in general accuracy of algorithm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Stability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change in prediction for a target item (before/after attack)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In addition: rank metric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How often does an item appear in Top-N lists (before/after)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Bandwagon Attack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43" name=""/>
          <p:cNvSpPr txBox="1"/>
          <p:nvPr/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Exploits additional information about  the community rating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Simple idea: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Add profiles that contain high ratings for "blockbusters" (in the selected items); use random values for the filler item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Will intuitively lead to more neighbors because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popular items will have many ratings and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rating values are similar to many other user-profile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Example: Injecting a profile with high rating values for the </a:t>
            </a:r>
            <a:r>
              <a:rPr b="1" i="1" lang="en-US" sz="1800" spc="-1" strike="noStrike">
                <a:solidFill>
                  <a:srgbClr val="003366"/>
                </a:solidFill>
                <a:latin typeface="Calibri"/>
              </a:rPr>
              <a:t>Harry Potter </a:t>
            </a: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serie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Low-cost attack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Set of top-selling items/blockbusters can be easily determined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Does not require additional knowledge about mean item rating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Segment Attack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45" name=""/>
          <p:cNvSpPr txBox="1"/>
          <p:nvPr/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Designing an attack that aims to push item A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Find items that are similar to target item,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These items probably liked by the same group of people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Identify subset of user community that is interested in items similar to A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Inject profiles that have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high ratings for fantasy novels and 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random or low ratings for other genre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Thus, item will be pushed within the relevant community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For example: Push the new Harry Potter book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Attacker will inject profile with positive ratings for other popular fantasy books 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Harry Potter book will be recommended to typical fantasy book reader 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Additional knowledge (e.g. genre of a book) is required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Special nuke attack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47" name=""/>
          <p:cNvSpPr txBox="1"/>
          <p:nvPr/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Love/hate attack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Target item is given the minimum value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Filler items are given the highest possible rating value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Serious effect on system’s recommendations when goal is to nuke an item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Other way around (push an item) it is not effective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Reverse bandwagon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Associate target item with other items that are disliked by many people.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Selected item set is filled with minimum ratings 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Effectiveness analysi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Effect depends mainly on the attack size (number of fake profiles inserted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User-based recommenders: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Bandwagon / Average Attack: 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Bias shift of 1.5 points  on a 5-point scale at 3% attack size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Average Attack slightly better but requires more knowledge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1.5 points shift is significant; 3% attack size means inserting e.g., 30,000 profiles into one-million rating database …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Item-based recommender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Far more stable; only 0.15 points prediction shift achieved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Exception: Segment attack successful (was designed for item-based method)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Hybrid recommenders and other model-based algorithms cannot be easily biased (with the described/known attack models)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cxnSp>
        <p:nvCxnSpPr>
          <p:cNvPr id="1950" name="Gerade Verbindung mit Pfeil 6"/>
          <p:cNvCxnSpPr/>
          <p:nvPr/>
        </p:nvCxnSpPr>
        <p:spPr>
          <a:xfrm>
            <a:off x="4932000" y="1916280"/>
            <a:ext cx="108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Countermeasure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Use model-based or hybrid algorithm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More robust against profile injection attack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Accuracy comparable with accuracy of memory-based approache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Less vulnerable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Increase profile injection cost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Captchas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Low-cost manual insertion …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953" name="Picture 2" descr=""/>
          <p:cNvPicPr/>
          <p:nvPr/>
        </p:nvPicPr>
        <p:blipFill>
          <a:blip r:embed="rId1"/>
          <a:srcRect l="0" t="33193" r="0" b="35888"/>
          <a:stretch/>
        </p:blipFill>
        <p:spPr>
          <a:xfrm>
            <a:off x="1674720" y="3573360"/>
            <a:ext cx="304812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Countermeasures II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Use statistical attack detection method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detect groups of users who collaborate to push/nuke item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monitor development of ratings for an item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changes in average rating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changes in rating entropy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time-dependent metrics (bulk ratings)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use machine-learning methods to discriminate real from fake profile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Privacy aspect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Problem: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Store and manage sensitive customer information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Detailed customer profiles are the basis for market intelligence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Such as segmentation of consumer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Ensuring customer privacy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important for success of a recommender system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users refrain from using the application if</a:t>
            </a:r>
            <a:r>
              <a:rPr b="0" lang="en-US" sz="16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privacy leaks get publicly known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Agenda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Introduction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Charactarization of Attack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Attack model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Effectivness analysi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Countermeasure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Privacy aspect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Discussion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Privacy aspects II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Main architectural assumption of CF-Recommender system i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One central server holding the database and 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the plain (non-encrypted) ratings are stored in this database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Once an attacker achieved access to that system, all information can be directly used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Prevent such privacy breaches by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Distributing the information or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Avoiding the exchange, transfer or central storage of the raw user ratings.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Data perturbation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Main Idea: obfuscate ratings by applying random data perturbation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Server although does not know the exact values of the customer rating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Accurate recommendation can still be made because: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The range of data is known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Computation based on aggregation of obfuscated data set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Tradeoff between degree of obfuscation an accuracy of recommendation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The more "noise" in the data, 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the better users' privacy is preserved 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the harder the approximation of real data for the server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Data perturbation II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963" name="Inhaltsplatzhalter 2" descr=""/>
          <p:cNvPicPr/>
          <p:nvPr/>
        </p:nvPicPr>
        <p:blipFill>
          <a:blip r:embed="rId1"/>
          <a:stretch/>
        </p:blipFill>
        <p:spPr>
          <a:xfrm>
            <a:off x="420840" y="1573200"/>
            <a:ext cx="826596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Distributed collaborative filtering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5" name=""/>
          <p:cNvSpPr txBox="1"/>
          <p:nvPr/>
        </p:nvSpPr>
        <p:spPr>
          <a:xfrm>
            <a:off x="39528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Distribute knowledge and avoid storing the information in one central place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Peer-to-peer (P2P) CF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Exchange rating information in a scalable P2P network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Active user broadcasts a query (vector of user´s item ratings)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Peers calculate similarity between recieved and other known vector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31480" indent="-226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If similarity  &gt; threshold, known ratings returned to requester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lvl="2" marL="1131480" indent="-226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If not, query forwarded to the neighboring peers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Activ user calculates prediction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with recieved rating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966" name="Picture 2" descr=""/>
          <p:cNvPicPr/>
          <p:nvPr/>
        </p:nvPicPr>
        <p:blipFill>
          <a:blip r:embed="rId1"/>
          <a:stretch/>
        </p:blipFill>
        <p:spPr>
          <a:xfrm>
            <a:off x="4500720" y="3716280"/>
            <a:ext cx="385128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Distributed collaborative filtering with obfuscation</a:t>
            </a:r>
            <a:br>
              <a:rPr sz="2400"/>
            </a:b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8" name=""/>
          <p:cNvSpPr txBox="1"/>
          <p:nvPr/>
        </p:nvSpPr>
        <p:spPr>
          <a:xfrm>
            <a:off x="39528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Combines P2P data exchange and data obfuscation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Instead of broadcasting the "raw" profile only obfuscated version is published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Peers received this broadcast return a prediction for target item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Active user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collects these answers and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calculates a prediction using standard nearest-neighbor-method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Obfuscation will help to preserve privacy of participant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Advisable to perturb only profiles of respondent agent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Obfuscation of requester profile deteriorates recommendation accuracy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Distributed CF with estimated concordance measure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970" name="Inhaltsplatzhalter 2" descr=""/>
          <p:cNvPicPr/>
          <p:nvPr/>
        </p:nvPicPr>
        <p:blipFill>
          <a:blip r:embed="rId1"/>
          <a:stretch/>
        </p:blipFill>
        <p:spPr>
          <a:xfrm>
            <a:off x="353880" y="1238400"/>
            <a:ext cx="827244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Community-building and aggregate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Participants of knowledge communities share information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inside the community or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with outsider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Active user can derive predictions from shared information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Informations are aggregated based on e.g. SVD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Individual user ratings are not visible to users outside the community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Use of cryptographic schemes for secure communication between participants in the network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Discussion &amp; summary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Research on attack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Vulnerability of some existing methods shown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Specially-designed attack models may also exist for up-to-now rather stable method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Incorporation of more knowledge-sources /hybridization may help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Practical aspect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No public information on large-scale real-world attack available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Attack sizes are still relatively high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More research and industry-collaboration required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Introduction / Background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96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(Monetary) value of being in recommendation list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Individuals may be interested to push some items by manipulating the recommender system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Individuals might be interested to decrease the rank of other item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Some simply might may want to sabotage the system ..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Manipulation of the "Internet opinion"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Malevolent users try to influence behavior of recommender system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System should include a certain item very often/seldom in its recommendation list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A simple strategy?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(Automatically) create numerous fake accounts / profile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Issue high or low ratings to the "target item"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Calibri"/>
              </a:rPr>
              <a:t>   </a:t>
            </a:r>
            <a:r>
              <a:rPr b="1" lang="en-US" sz="1600" spc="-1" strike="noStrike">
                <a:solidFill>
                  <a:srgbClr val="003366"/>
                </a:solidFill>
                <a:latin typeface="Calibri"/>
              </a:rPr>
              <a:t>Will not work for neighbor-based recommender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alibri"/>
              </a:rPr>
              <a:t>   </a:t>
            </a:r>
            <a:r>
              <a:rPr b="1" lang="en-US" sz="1600" spc="-1" strike="noStrike">
                <a:solidFill>
                  <a:srgbClr val="003366"/>
                </a:solidFill>
                <a:latin typeface="Calibri"/>
              </a:rPr>
              <a:t>More elaborate attack models required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alibri"/>
              </a:rPr>
              <a:t>   </a:t>
            </a:r>
            <a:r>
              <a:rPr b="1" lang="en-US" sz="1600" spc="-1" strike="noStrike">
                <a:solidFill>
                  <a:srgbClr val="003366"/>
                </a:solidFill>
                <a:latin typeface="Calibri"/>
              </a:rPr>
              <a:t>Goal is to insert profiles that will appear in neighborhood of many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97" name="Pfeil nach rechts 3"/>
          <p:cNvSpPr/>
          <p:nvPr/>
        </p:nvSpPr>
        <p:spPr>
          <a:xfrm>
            <a:off x="1258920" y="5091120"/>
            <a:ext cx="218880" cy="98280"/>
          </a:xfrm>
          <a:prstGeom prst="rightArrow">
            <a:avLst>
              <a:gd name="adj1" fmla="val 50000"/>
              <a:gd name="adj2" fmla="val 5044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8" name="Pfeil nach rechts 4"/>
          <p:cNvSpPr/>
          <p:nvPr/>
        </p:nvSpPr>
        <p:spPr>
          <a:xfrm>
            <a:off x="1258920" y="5365800"/>
            <a:ext cx="218880" cy="98280"/>
          </a:xfrm>
          <a:prstGeom prst="rightArrow">
            <a:avLst>
              <a:gd name="adj1" fmla="val 50000"/>
              <a:gd name="adj2" fmla="val 5044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9" name="Pfeil nach rechts 5"/>
          <p:cNvSpPr/>
          <p:nvPr/>
        </p:nvSpPr>
        <p:spPr>
          <a:xfrm>
            <a:off x="1262160" y="5661000"/>
            <a:ext cx="218880" cy="98280"/>
          </a:xfrm>
          <a:prstGeom prst="rightArrow">
            <a:avLst>
              <a:gd name="adj1" fmla="val 50000"/>
              <a:gd name="adj2" fmla="val 5044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8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8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8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8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Example profile injection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01" name=""/>
          <p:cNvSpPr txBox="1"/>
          <p:nvPr/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Assume that a memory-based collaborative filtering is used with: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Pearson correlation as similarity measure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Neighborhood size of 1 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Only opinion of most similar user will be used to make prediction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1902" name=""/>
          <p:cNvGraphicFramePr/>
          <p:nvPr/>
        </p:nvGraphicFramePr>
        <p:xfrm>
          <a:off x="507960" y="3151080"/>
          <a:ext cx="6313680" cy="2303640"/>
        </p:xfrm>
        <a:graphic>
          <a:graphicData uri="http://schemas.openxmlformats.org/drawingml/2006/table">
            <a:tbl>
              <a:tblPr/>
              <a:tblGrid>
                <a:gridCol w="854280"/>
                <a:gridCol w="730080"/>
                <a:gridCol w="719280"/>
                <a:gridCol w="720720"/>
                <a:gridCol w="718920"/>
                <a:gridCol w="914400"/>
                <a:gridCol w="754200"/>
                <a:gridCol w="901800"/>
              </a:tblGrid>
              <a:tr h="460440"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tem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tem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tem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tem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arge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earso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0080">
                <a:tc>
                  <a:txBody>
                    <a:bodyPr lIns="87120" rIns="8712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ic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57120">
                <a:tc>
                  <a:txBody>
                    <a:bodyPr lIns="87120" rIns="8712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ser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5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98520">
                <a:tc>
                  <a:txBody>
                    <a:bodyPr lIns="87120" rIns="8712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ser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6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50640">
                <a:tc>
                  <a:txBody>
                    <a:bodyPr lIns="87120" rIns="8712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ser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7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66840">
                <a:tc>
                  <a:txBody>
                    <a:bodyPr lIns="87120" rIns="8712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ser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Example profile injection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04" name=""/>
          <p:cNvSpPr txBox="1"/>
          <p:nvPr/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Assume that a memory-based collaborative filtering is used with: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Pearson correlation as similarity measure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Neighborhood size of 1 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Only opinion of most similar user will be used to make prediction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1905" name=""/>
          <p:cNvGraphicFramePr/>
          <p:nvPr/>
        </p:nvGraphicFramePr>
        <p:xfrm>
          <a:off x="507960" y="3151080"/>
          <a:ext cx="6313680" cy="2303640"/>
        </p:xfrm>
        <a:graphic>
          <a:graphicData uri="http://schemas.openxmlformats.org/drawingml/2006/table">
            <a:tbl>
              <a:tblPr/>
              <a:tblGrid>
                <a:gridCol w="854280"/>
                <a:gridCol w="730080"/>
                <a:gridCol w="719280"/>
                <a:gridCol w="720720"/>
                <a:gridCol w="718920"/>
                <a:gridCol w="914400"/>
                <a:gridCol w="754200"/>
                <a:gridCol w="901800"/>
              </a:tblGrid>
              <a:tr h="460440"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tem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tem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tem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tem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arge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earso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0080">
                <a:tc>
                  <a:txBody>
                    <a:bodyPr lIns="87120" rIns="8712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ic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57120">
                <a:tc>
                  <a:txBody>
                    <a:bodyPr lIns="87120" rIns="8712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ser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5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98520">
                <a:tc>
                  <a:txBody>
                    <a:bodyPr lIns="87120" rIns="8712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ser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6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50640">
                <a:tc>
                  <a:txBody>
                    <a:bodyPr lIns="87120" rIns="8712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ser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7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66840">
                <a:tc>
                  <a:txBody>
                    <a:bodyPr lIns="87120" rIns="8712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ser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  <p:sp>
        <p:nvSpPr>
          <p:cNvPr id="1906" name="Ellipse 8"/>
          <p:cNvSpPr/>
          <p:nvPr/>
        </p:nvSpPr>
        <p:spPr>
          <a:xfrm>
            <a:off x="6265800" y="4352760"/>
            <a:ext cx="555840" cy="246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7" name="Textfeld 10"/>
          <p:cNvSpPr/>
          <p:nvPr/>
        </p:nvSpPr>
        <p:spPr>
          <a:xfrm>
            <a:off x="7013520" y="428796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Calibri"/>
              </a:rPr>
              <a:t>User2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 most similar to Alic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908" name="Gerade Verbindung mit Pfeil 11"/>
          <p:cNvCxnSpPr/>
          <p:nvPr/>
        </p:nvCxnSpPr>
        <p:spPr>
          <a:xfrm flipH="1" flipV="1">
            <a:off x="6894000" y="4436280"/>
            <a:ext cx="14544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Example profile injection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Assume that a memory-based collaborative filtering is used with: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Pearson correlation as similarity measure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Neighborhood size of 1 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Only opinion of most similar user will be used to make prediction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1" name="Textfeld 5"/>
          <p:cNvSpPr/>
          <p:nvPr/>
        </p:nvSpPr>
        <p:spPr>
          <a:xfrm>
            <a:off x="7013520" y="428796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Calibri"/>
              </a:rPr>
              <a:t>User2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 most similar to Alic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912" name="Gerade Verbindung mit Pfeil 7"/>
          <p:cNvCxnSpPr/>
          <p:nvPr/>
        </p:nvCxnSpPr>
        <p:spPr>
          <a:xfrm flipH="1" flipV="1">
            <a:off x="6894000" y="4436280"/>
            <a:ext cx="14544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13" name="Ellipse 8"/>
          <p:cNvSpPr/>
          <p:nvPr/>
        </p:nvSpPr>
        <p:spPr>
          <a:xfrm>
            <a:off x="6264360" y="4324320"/>
            <a:ext cx="503280" cy="23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14" name="Gruppieren 14"/>
          <p:cNvGrpSpPr/>
          <p:nvPr/>
        </p:nvGrpSpPr>
        <p:grpSpPr>
          <a:xfrm>
            <a:off x="7224480" y="4777920"/>
            <a:ext cx="1228320" cy="452880"/>
            <a:chOff x="7224480" y="4777920"/>
            <a:chExt cx="1228320" cy="452880"/>
          </a:xfrm>
        </p:grpSpPr>
        <p:pic>
          <p:nvPicPr>
            <p:cNvPr id="1915" name="Grafik 12" descr=""/>
            <p:cNvPicPr/>
            <p:nvPr/>
          </p:nvPicPr>
          <p:blipFill>
            <a:blip r:embed="rId1"/>
            <a:stretch/>
          </p:blipFill>
          <p:spPr>
            <a:xfrm rot="187800">
              <a:off x="7235640" y="4789080"/>
              <a:ext cx="430200" cy="4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6" name="Textfeld 13"/>
            <p:cNvSpPr/>
            <p:nvPr/>
          </p:nvSpPr>
          <p:spPr>
            <a:xfrm>
              <a:off x="7604640" y="4828680"/>
              <a:ext cx="84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Attack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1917" name=""/>
          <p:cNvGraphicFramePr/>
          <p:nvPr/>
        </p:nvGraphicFramePr>
        <p:xfrm>
          <a:off x="507960" y="3151080"/>
          <a:ext cx="6313680" cy="2671920"/>
        </p:xfrm>
        <a:graphic>
          <a:graphicData uri="http://schemas.openxmlformats.org/drawingml/2006/table">
            <a:tbl>
              <a:tblPr/>
              <a:tblGrid>
                <a:gridCol w="854280"/>
                <a:gridCol w="730080"/>
                <a:gridCol w="719280"/>
                <a:gridCol w="720720"/>
                <a:gridCol w="718920"/>
                <a:gridCol w="914400"/>
                <a:gridCol w="754200"/>
                <a:gridCol w="901800"/>
              </a:tblGrid>
              <a:tr h="460440"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tem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tem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tem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tem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arge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earso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0080">
                <a:tc>
                  <a:txBody>
                    <a:bodyPr lIns="87120" rIns="8712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ic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57120">
                <a:tc>
                  <a:txBody>
                    <a:bodyPr lIns="87120" rIns="8712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ser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5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98520">
                <a:tc>
                  <a:txBody>
                    <a:bodyPr lIns="87120" rIns="8712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ser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6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50640">
                <a:tc>
                  <a:txBody>
                    <a:bodyPr lIns="87120" rIns="8712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ser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7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66840">
                <a:tc>
                  <a:txBody>
                    <a:bodyPr lIns="87120" rIns="8712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ser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68280">
                <a:tc>
                  <a:txBody>
                    <a:bodyPr lIns="87120" rIns="8712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ttack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8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1918" name="Ellipse 15"/>
          <p:cNvSpPr/>
          <p:nvPr/>
        </p:nvSpPr>
        <p:spPr>
          <a:xfrm>
            <a:off x="6265800" y="4352760"/>
            <a:ext cx="555840" cy="246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9" name=""/>
          <p:cNvGraphicFramePr/>
          <p:nvPr/>
        </p:nvGraphicFramePr>
        <p:xfrm>
          <a:off x="507960" y="3151080"/>
          <a:ext cx="6313680" cy="2671920"/>
        </p:xfrm>
        <a:graphic>
          <a:graphicData uri="http://schemas.openxmlformats.org/drawingml/2006/table">
            <a:tbl>
              <a:tblPr/>
              <a:tblGrid>
                <a:gridCol w="854280"/>
                <a:gridCol w="730080"/>
                <a:gridCol w="719280"/>
                <a:gridCol w="720720"/>
                <a:gridCol w="718920"/>
                <a:gridCol w="914400"/>
                <a:gridCol w="754200"/>
                <a:gridCol w="901800"/>
              </a:tblGrid>
              <a:tr h="460440"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tem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tem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tem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tem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arge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earso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0080">
                <a:tc>
                  <a:txBody>
                    <a:bodyPr lIns="87120" rIns="8712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ic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57120">
                <a:tc>
                  <a:txBody>
                    <a:bodyPr lIns="87120" rIns="8712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ser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5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98520">
                <a:tc>
                  <a:txBody>
                    <a:bodyPr lIns="87120" rIns="8712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ser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6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50640">
                <a:tc>
                  <a:txBody>
                    <a:bodyPr lIns="87120" rIns="8712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ser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7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66840">
                <a:tc>
                  <a:txBody>
                    <a:bodyPr lIns="87120" rIns="8712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ser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68280">
                <a:tc>
                  <a:txBody>
                    <a:bodyPr lIns="87120" rIns="8712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ttack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8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Example profile injection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1" name=""/>
          <p:cNvSpPr txBox="1"/>
          <p:nvPr/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Assume that a memory-based collaborative filtering is used with: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Pearson correlation as similarity measure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Neighborhood size of 1 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Only opinion of most similar user will be used to make prediction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2" name="Textfeld 9"/>
          <p:cNvSpPr/>
          <p:nvPr/>
        </p:nvSpPr>
        <p:spPr>
          <a:xfrm>
            <a:off x="6992280" y="5445000"/>
            <a:ext cx="216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Calibri"/>
              </a:rPr>
              <a:t>Attack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 most similar to Alic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923" name="Gerade Verbindung mit Pfeil 21"/>
          <p:cNvCxnSpPr/>
          <p:nvPr/>
        </p:nvCxnSpPr>
        <p:spPr>
          <a:xfrm flipH="1" flipV="1">
            <a:off x="6875280" y="5589360"/>
            <a:ext cx="14472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24" name="Multiplizieren 16"/>
          <p:cNvSpPr/>
          <p:nvPr/>
        </p:nvSpPr>
        <p:spPr>
          <a:xfrm>
            <a:off x="6292800" y="4322880"/>
            <a:ext cx="503280" cy="307800"/>
          </a:xfrm>
          <a:custGeom>
            <a:avLst/>
            <a:gdLst/>
            <a:ahLst/>
            <a:rect l="l" t="t" r="r" b="b"/>
            <a:pathLst>
              <a:path w="504056" h="307777">
                <a:moveTo>
                  <a:pt x="102199" y="104812"/>
                </a:moveTo>
                <a:lnTo>
                  <a:pt x="139924" y="43029"/>
                </a:lnTo>
                <a:lnTo>
                  <a:pt x="252028" y="111480"/>
                </a:lnTo>
                <a:lnTo>
                  <a:pt x="364132" y="43029"/>
                </a:lnTo>
                <a:lnTo>
                  <a:pt x="401857" y="104812"/>
                </a:lnTo>
                <a:lnTo>
                  <a:pt x="321482" y="153889"/>
                </a:lnTo>
                <a:lnTo>
                  <a:pt x="401857" y="202965"/>
                </a:lnTo>
                <a:lnTo>
                  <a:pt x="364132" y="264748"/>
                </a:lnTo>
                <a:lnTo>
                  <a:pt x="252028" y="196297"/>
                </a:lnTo>
                <a:lnTo>
                  <a:pt x="139924" y="264748"/>
                </a:lnTo>
                <a:lnTo>
                  <a:pt x="102199" y="202965"/>
                </a:lnTo>
                <a:lnTo>
                  <a:pt x="182574" y="153889"/>
                </a:lnTo>
                <a:lnTo>
                  <a:pt x="102199" y="104812"/>
                </a:lnTo>
                <a:close/>
              </a:path>
            </a:pathLst>
          </a:cu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925" name="Gerade Verbindung mit Pfeil 17"/>
          <p:cNvCxnSpPr/>
          <p:nvPr/>
        </p:nvCxnSpPr>
        <p:spPr>
          <a:xfrm flipH="1" flipV="1">
            <a:off x="6894000" y="4436280"/>
            <a:ext cx="14544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926" name="Gruppieren 18"/>
          <p:cNvGrpSpPr/>
          <p:nvPr/>
        </p:nvGrpSpPr>
        <p:grpSpPr>
          <a:xfrm>
            <a:off x="7224480" y="4777920"/>
            <a:ext cx="1228320" cy="452880"/>
            <a:chOff x="7224480" y="4777920"/>
            <a:chExt cx="1228320" cy="452880"/>
          </a:xfrm>
        </p:grpSpPr>
        <p:pic>
          <p:nvPicPr>
            <p:cNvPr id="1927" name="Grafik 19" descr=""/>
            <p:cNvPicPr/>
            <p:nvPr/>
          </p:nvPicPr>
          <p:blipFill>
            <a:blip r:embed="rId1"/>
            <a:stretch/>
          </p:blipFill>
          <p:spPr>
            <a:xfrm rot="187800">
              <a:off x="7235640" y="4789080"/>
              <a:ext cx="430200" cy="4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8" name="Textfeld 20"/>
            <p:cNvSpPr/>
            <p:nvPr/>
          </p:nvSpPr>
          <p:spPr>
            <a:xfrm>
              <a:off x="7604640" y="4828680"/>
              <a:ext cx="84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Attack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29" name="Textfeld 22"/>
          <p:cNvSpPr/>
          <p:nvPr/>
        </p:nvSpPr>
        <p:spPr>
          <a:xfrm>
            <a:off x="7013520" y="428796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Calibri"/>
              </a:rPr>
              <a:t>User2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 most similar to Alic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0" name="Ellipse 23"/>
          <p:cNvSpPr/>
          <p:nvPr/>
        </p:nvSpPr>
        <p:spPr>
          <a:xfrm>
            <a:off x="6265800" y="4352760"/>
            <a:ext cx="555840" cy="246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Characterization of profile insertion attack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32" name=""/>
          <p:cNvSpPr txBox="1"/>
          <p:nvPr/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Attack dimension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Push attack: 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Increase the prediction value of a target item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Nuke attack: 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Decrease the prediction value of a target item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Make the recommender system unusable as a whole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No technical difference between push and nuke attack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Nevertheless Push and Nuke attacks are not always equally effective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Another differentiation factor between attacks: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Where is the focus of an attack? Only on particular users and items?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Targeting a subset of items or users might be less suspiciou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More focused attacks may be more effective (attack profile more precisely defined)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Characterization of profile insertion attack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Classification criteria for recommender system attacks include: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alibri"/>
              </a:rPr>
              <a:t>Cost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How costly is it to make an attack?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How many profiles have to be inserted? 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Is knowledge about the ratings matrix required?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usually it is not public, but estimates can be made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alibri"/>
              </a:rPr>
              <a:t>Algorithm dependability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Is the attack designed for a particular recommendation algorithm?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alibri"/>
              </a:rPr>
              <a:t>Detectability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How easy is it to detect the attack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09:23:14Z</dcterms:created>
  <dc:creator>markus</dc:creator>
  <dc:description/>
  <dc:language>en-US</dc:language>
  <cp:lastModifiedBy>Wolfgang Schmid</cp:lastModifiedBy>
  <dcterms:modified xsi:type="dcterms:W3CDTF">2012-01-11T12:01:58Z</dcterms:modified>
  <cp:revision>1199</cp:revision>
  <dc:subject/>
  <dc:title>Recommender Systems</dc:title>
</cp:coreProperties>
</file>