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5BD9A2-7CD8-42D9-8EAD-3A333A49CC2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EE235F-E909-41DB-890C-928C31E6A09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B82D9C-22F1-4DAB-8E4D-889EA66BD2E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C48F05-2A5E-428A-A334-8D553643479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8B49D2-3986-4162-9043-3B5BA83E4E4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6E80AD-166E-41F2-824F-632DD510219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F1C3BD-03FE-4CB8-8145-0FC6686ABAC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55AB7B-4275-4CA4-878D-C96C4C4B52F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FAFDC-2131-418A-83F5-C474C184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312FF-FDD5-4678-8021-641BB4F6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11399-8DF6-4FFF-93B1-661F5858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CBE7F-D3E0-4792-9D05-38F7E4A8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1D753-94FC-46FD-9ADD-25CD992B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E6A35-8AEB-492B-B506-89E25D6A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AEA56-3ADE-4F53-841A-14299B0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51224-7E0B-4100-830C-6ED2540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ACEC8-2243-4CE0-92F9-A779D78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3415D-A3CE-4C2A-91F5-A899A136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1FA76-F598-4D8F-9791-A65E3216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B39C-99C9-4F29-B751-8028D85E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EC5D9F2-4A6B-4C7A-B95A-BE2965EB864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utorial: Introduction to Recommender Systems, ACM SA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E10BF3E9-ED73-4BE6-B35A-055A7C68FE22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0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2401474-D0F6-4646-B5EB-C4D5ED323F1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F109DE14-C0F7-4A28-ADAD-7B2E2F4CF5E1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2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C28FD83-1A3F-41A7-BCC1-B123047AFCFD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13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A9D96C9E-1019-4857-834E-E5A9880ED3C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356FA520-49EE-4FEA-9E64-D63A2C712F4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EF02-7864-4215-8A64-96711B67A5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B601AA63-30A1-41AB-B47D-8F69F1B257E3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5CB8B1D-5908-429C-A60B-0A2C4F8FB68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4A1CC195-8235-44D5-8850-AEEC390E987F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26530B69-FA12-4296-B84E-809293E9729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6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920982E3-0796-422F-A0A2-7891D83C128A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7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1A7CED11-8B78-4612-AD03-EA3AA65C233C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8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781760" y="6248520"/>
            <a:ext cx="9486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- </a:t>
            </a:r>
            <a:fld id="{D14F39D3-60B8-41EE-85F8-4D3AE87696A8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Markus Zanker, University Klagenfurt, markus.zanker@uni-klu.ac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hteck 3" descr=""/>
          <p:cNvPicPr/>
          <p:nvPr/>
        </p:nvPicPr>
        <p:blipFill>
          <a:blip r:embed="rId1"/>
          <a:stretch/>
        </p:blipFill>
        <p:spPr>
          <a:xfrm>
            <a:off x="1285920" y="2517840"/>
            <a:ext cx="6645240" cy="1090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D:\projects\000-papers\general\acmsac10\slides\Bigstock_3403911.jpg"/>
          <p:cNvPicPr/>
          <p:nvPr/>
        </p:nvPicPr>
        <p:blipFill>
          <a:blip r:embed="rId2"/>
          <a:srcRect l="0" t="0" r="0" b="8386"/>
          <a:stretch/>
        </p:blipFill>
        <p:spPr>
          <a:xfrm>
            <a:off x="2808360" y="3289320"/>
            <a:ext cx="3598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ummary and outloo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ummar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utlook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ferenc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mmary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commender systems have their roots in various research areas, such a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formation retrieval,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formation filtering, an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ext classification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commender systems apply methods from different fields, such a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achine learning,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ata mining, an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nowledge-based systems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Addressed main topic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Basic recommendation algorithm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nowledge-based and hybrid approach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valuation of recommender systems and their business valu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Recent research topic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utlook on the next-generation recommenders (1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Improved collaborative filtering techniqu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 more data sources such as tagging data, demographic information, and time dat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ombine different techniques (predictors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utomatic fine-tuning of paramete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re scalable and more accurate algorith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etflix Prize competition (www.netflixprize.com) gave CF research an additional boos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ulticriteria recommender system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xploiting multicriteria ratings containing contextual information as an additional source of knowledge for improving the accuracy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Context awarenes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aking time aspects, geographical location and additional context aspects of the user into accoun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motional context (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"I fell in love with a boy. I want to watch a romantic movie."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Group recommendation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65360" indent="-3733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ccompanying persons? (</a:t>
            </a:r>
            <a:r>
              <a:rPr b="0" i="1" lang="en-US" sz="1600" spc="-1" strike="noStrike">
                <a:solidFill>
                  <a:srgbClr val="003366"/>
                </a:solidFill>
                <a:latin typeface="Calibri"/>
              </a:rPr>
              <a:t>"Recommendations for a couple or for friends?"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utlook on the next-generation recommenders (2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Better explanations that change the way the user interface work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More elaborate user interaction model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Natural language processing techniques,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dialog-based systems for interactive preference, and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ultimodal and multimedia-enhanced rich interface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re important steps in the transition between classical recommender systems and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virtual advisors</a:t>
            </a: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Recommendation techniques will merge into other research field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User modeling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ersonalized reasoning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4" name="Rechteck 3"/>
          <p:cNvSpPr/>
          <p:nvPr/>
        </p:nvSpPr>
        <p:spPr>
          <a:xfrm>
            <a:off x="611280" y="5013360"/>
            <a:ext cx="7993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ext-generation recommenders might someday be able to simulate 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ehavior of an experienced salesperson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nstead of only filtering and ranking items from a given catalog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66"/>
                </a:solidFill>
                <a:latin typeface="Calibri"/>
              </a:rPr>
              <a:t>Credits</a:t>
            </a:r>
            <a:r>
              <a:rPr b="1" lang="en-AU" sz="2400" spc="-1" strike="noStrike">
                <a:solidFill>
                  <a:srgbClr val="003366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366"/>
                </a:solidFill>
                <a:latin typeface="Calibri"/>
              </a:rPr>
              <a:t>Slide author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Mouzhi Ge, TU Dortmu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Fatih Gedikli, TU Dortmu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Dietmar Jannach, TU Dortmu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Zeynep Karakaya, TU Dortmund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Markus Zanker, Alpen-Adria-Universitaet Klagenfur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hank you for your attention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303516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Questions?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Questions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9" name="Textfeld 6"/>
          <p:cNvSpPr/>
          <p:nvPr/>
        </p:nvSpPr>
        <p:spPr>
          <a:xfrm>
            <a:off x="108000" y="3108240"/>
            <a:ext cx="4321080" cy="2892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ttp://www.recommenderbook.ne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ommender Systems –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 Introduc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etmar Jannach, Markus Zanker,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exander Felfernig and Gerhard Friedrich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ridge University Press, 20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feld 7"/>
          <p:cNvSpPr/>
          <p:nvPr/>
        </p:nvSpPr>
        <p:spPr>
          <a:xfrm>
            <a:off x="4429080" y="1341360"/>
            <a:ext cx="4929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M RecSy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commender System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ttp://recsys.acm.o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M SIGI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formation Retrieva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ttp://www.sigir.o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M SIGKD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nowledge Discovery and Data Mini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ww.sigkdd.o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UI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lligent User Interface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ttp://iuiconf.o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1" name="Picture 2" descr="D:\projects\000-papers\general\acmsac10\slides\Bigstock_3403911.jpg"/>
          <p:cNvPicPr/>
          <p:nvPr/>
        </p:nvPicPr>
        <p:blipFill>
          <a:blip r:embed="rId1"/>
          <a:srcRect l="3150" t="9225" r="3150" b="46134"/>
          <a:stretch/>
        </p:blipFill>
        <p:spPr>
          <a:xfrm>
            <a:off x="179280" y="3471840"/>
            <a:ext cx="4176720" cy="110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23:14Z</dcterms:created>
  <dc:creator>markus</dc:creator>
  <dc:description/>
  <dc:language>en-US</dc:language>
  <cp:lastModifiedBy>Wolfgang Schmid</cp:lastModifiedBy>
  <dcterms:modified xsi:type="dcterms:W3CDTF">2012-01-11T12:02:49Z</dcterms:modified>
  <cp:revision>1062</cp:revision>
  <dc:subject/>
  <dc:title>Recommender Systems</dc:title>
</cp:coreProperties>
</file>