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AF632-1010-4366-9EFD-23F120789A6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DCEC94-9E6C-4178-8FF5-2BB79B0CC2C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35BA73-CBB0-4E21-AFFF-8B245E21709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07F775-1634-4253-9816-9A868B13F67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6C7D24-A930-4339-A813-CE3B4C0E4B6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C38EA3-EA93-4247-9162-B82B939E45F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4350DB-76AA-4D7F-9182-711E6120498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D2BF8A-7591-4806-979A-CEEA08327F0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2910C0-F1A5-441A-9D31-1B40407273F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D30B16-226E-41B5-B772-4BC62AEC629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83112C-29BE-4310-8B5F-F654AED1F53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AEF18C-2429-4121-BAEF-B559B68A84B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52BCB1-9338-4E27-9C89-D6F668E54A9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6D6233-58D0-4C75-82B2-96C21202B58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522F7-FBB9-4A49-870E-3264018AADD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B86608-F4A6-43CC-8AD6-394971ECABF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FF6EE9-8BE7-4A35-9CB9-66589B81578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51843E-699F-4B62-A862-E8F126161A5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C5CF5E-82D0-42E9-B6D1-4BFBDE2BE84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EE427-CD06-4865-AB87-4268C118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E2C55-5197-4F42-85A2-56D520ED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2500-C535-4FC2-9469-ED50F7D9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C2A84-4C12-4330-83A9-452A14C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89824-A540-4713-8F6B-78C44CF1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68111-58C7-48AB-9E7F-3E386E3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0CAFB-D088-4BB4-8489-816E7E16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B416-8368-497E-B8FA-A4EE0F7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A3EB4-A394-4D5F-8D6E-D2CBC14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98FAC-1246-434B-8034-6885701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482D4-9081-4294-89F2-DAC89F41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7B960-AB70-4642-BFE7-A972A815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57BB984-FA6C-4CC5-A884-467CB1A2311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50CA367-AB35-40CB-8B5D-E0EFB034A2F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1E46BBC-85F0-4D12-B06F-468DFC29C16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96A616E-78D9-485F-B22D-69D4A370232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21FDE90-51CA-4ACD-8FBB-007C7BB545C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899B8E7-E84B-4C38-A1E7-42784472576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0B1A98E-7E85-459B-9040-213291A49AF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C3A6-8550-497E-940D-F9849187AF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F525043-5ED5-45FB-A3E3-7E8FD0FC4EF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C6CA3FF-E88F-485E-A2ED-A42F4D426E1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B00B8D7-90D5-4CED-9283-EFE3B6705B2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4DCC473-239E-4260-8970-8CAA045CF19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F3F8386-44B1-4F37-B1D2-9CD852642B1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A373F27-DEED-424A-821E-2C9017572DB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1DACBE3-10D4-4AB9-85AC-425B2DDEC05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1285920" y="2517840"/>
            <a:ext cx="66452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llelized hybridization design: Weighte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et's assume Alice actually bought/clicked on items 1 and 4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dentify weighting that minimizes Mean Absolute Error (MAE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86" name="Grafik 8" descr=""/>
          <p:cNvPicPr/>
          <p:nvPr/>
        </p:nvPicPr>
        <p:blipFill>
          <a:blip r:embed="rId1"/>
          <a:stretch/>
        </p:blipFill>
        <p:spPr>
          <a:xfrm>
            <a:off x="7740720" y="1341360"/>
            <a:ext cx="10000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7" name="Objekt 1"/>
              <p:cNvSpPr txBox="1"/>
              <p:nvPr/>
            </p:nvSpPr>
            <p:spPr>
              <a:xfrm>
                <a:off x="5538960" y="3573360"/>
                <a:ext cx="2952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×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250920" y="2513160"/>
          <a:ext cx="5113080" cy="3292200"/>
        </p:xfrm>
        <a:graphic>
          <a:graphicData uri="http://schemas.openxmlformats.org/drawingml/2006/table">
            <a:tbl>
              <a:tblPr/>
              <a:tblGrid>
                <a:gridCol w="731880"/>
                <a:gridCol w="730080"/>
                <a:gridCol w="730440"/>
                <a:gridCol w="730080"/>
                <a:gridCol w="730440"/>
                <a:gridCol w="730080"/>
                <a:gridCol w="730080"/>
              </a:tblGrid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solute errors and MA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a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a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9" name="Oval 8"/>
          <p:cNvSpPr/>
          <p:nvPr/>
        </p:nvSpPr>
        <p:spPr>
          <a:xfrm>
            <a:off x="4572000" y="3068640"/>
            <a:ext cx="792000" cy="2872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Oval 9"/>
          <p:cNvSpPr/>
          <p:nvPr/>
        </p:nvSpPr>
        <p:spPr>
          <a:xfrm>
            <a:off x="34920" y="2997360"/>
            <a:ext cx="1657440" cy="4316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91" name="Gerade Verbindung mit Pfeil 4"/>
          <p:cNvCxnSpPr/>
          <p:nvPr/>
        </p:nvCxnSpPr>
        <p:spPr>
          <a:xfrm flipH="1">
            <a:off x="863280" y="2060640"/>
            <a:ext cx="1405440" cy="937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2" name="Abgerundetes Rechteck 5"/>
          <p:cNvSpPr/>
          <p:nvPr/>
        </p:nvSpPr>
        <p:spPr>
          <a:xfrm>
            <a:off x="1979640" y="1841400"/>
            <a:ext cx="792000" cy="219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93" name="Gerade Verbindung mit Pfeil 7"/>
          <p:cNvCxnSpPr>
            <a:endCxn id="689" idx="6"/>
          </p:cNvCxnSpPr>
          <p:nvPr/>
        </p:nvCxnSpPr>
        <p:spPr>
          <a:xfrm flipH="1">
            <a:off x="5363280" y="2060280"/>
            <a:ext cx="793080" cy="1152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4" name="Rectangle 3"/>
          <p:cNvSpPr/>
          <p:nvPr/>
        </p:nvSpPr>
        <p:spPr>
          <a:xfrm>
            <a:off x="5508720" y="2529000"/>
            <a:ext cx="35272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AE improves as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rec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2 is weighted more strongl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llelized hybridization design: Weighte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BUT: didn't rec1 actually rank Items 1 and 4 higher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Be careful when weighting!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commenders need to assign comparable scores over all users and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me score transformation could be necessar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table weights require several user rating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971640" y="2276640"/>
          <a:ext cx="3168720" cy="182880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5148360" y="2276640"/>
          <a:ext cx="3168720" cy="1828800"/>
        </p:xfrm>
        <a:graphic>
          <a:graphicData uri="http://schemas.openxmlformats.org/drawingml/2006/table">
            <a:tbl>
              <a:tblPr/>
              <a:tblGrid>
                <a:gridCol w="1055520"/>
                <a:gridCol w="1055880"/>
                <a:gridCol w="1057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99" name="Oval 6"/>
          <p:cNvSpPr/>
          <p:nvPr/>
        </p:nvSpPr>
        <p:spPr>
          <a:xfrm>
            <a:off x="2916360" y="2637000"/>
            <a:ext cx="647640" cy="2156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Oval 8"/>
          <p:cNvSpPr/>
          <p:nvPr/>
        </p:nvSpPr>
        <p:spPr>
          <a:xfrm>
            <a:off x="2916360" y="3573360"/>
            <a:ext cx="647640" cy="2160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Oval 7"/>
          <p:cNvSpPr/>
          <p:nvPr/>
        </p:nvSpPr>
        <p:spPr>
          <a:xfrm>
            <a:off x="7093080" y="2637000"/>
            <a:ext cx="647640" cy="2156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7093080" y="3500280"/>
            <a:ext cx="647640" cy="2160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llelized hybridization design: Switch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quires an oracle that decides on recommende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pecial case of dynamic weights (all except one Beta is 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rdering on recommenders and switch based on some quality criteri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 if too few ratings in the system use knowledge-based, else collaborativ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re complex conditions based on contextual parameters, apply classification techniqu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5" name="Grafik 4" descr=""/>
          <p:cNvPicPr/>
          <p:nvPr/>
        </p:nvPicPr>
        <p:blipFill>
          <a:blip r:embed="rId1"/>
          <a:stretch/>
        </p:blipFill>
        <p:spPr>
          <a:xfrm>
            <a:off x="7621560" y="1751040"/>
            <a:ext cx="10000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6" name="Objekt 2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kt 3"/>
              <p:cNvSpPr txBox="1"/>
              <p:nvPr/>
            </p:nvSpPr>
            <p:spPr>
              <a:xfrm>
                <a:off x="847800" y="2205000"/>
                <a:ext cx="4037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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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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itchin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llelized hybridization design: Mixe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9" name="Inhaltsplatzhalter 2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265960" cy="455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Objekt 3"/>
              <p:cNvSpPr txBox="1"/>
              <p:nvPr/>
            </p:nvSpPr>
            <p:spPr>
              <a:xfrm>
                <a:off x="971640" y="3573360"/>
                <a:ext cx="3409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xed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ipelined hybridization design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ne recommender system pre-processes some input for the subsequent on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ascad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eta-level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finement of recommendation lists (cascade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earning of model (e.g. collaborative knowledge-based meta-level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3" name="Picture 4" descr="Chapter_5_pipelined_hybrid"/>
          <p:cNvPicPr/>
          <p:nvPr/>
        </p:nvPicPr>
        <p:blipFill>
          <a:blip r:embed="rId1"/>
          <a:stretch/>
        </p:blipFill>
        <p:spPr>
          <a:xfrm>
            <a:off x="539640" y="4005360"/>
            <a:ext cx="655344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ipelined hybridization designs: Casca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uccessor's recommendations are restricted by predecessor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Where forall k &gt; 1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ubsequent recommender may not introduce additional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hus produces very precise resul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6" name="Grafik 5" descr=""/>
          <p:cNvPicPr/>
          <p:nvPr/>
        </p:nvPicPr>
        <p:blipFill>
          <a:blip r:embed="rId1"/>
          <a:stretch/>
        </p:blipFill>
        <p:spPr>
          <a:xfrm>
            <a:off x="7621560" y="2989440"/>
            <a:ext cx="10000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7" name="Objekt 1"/>
              <p:cNvSpPr txBox="1"/>
              <p:nvPr/>
            </p:nvSpPr>
            <p:spPr>
              <a:xfrm>
                <a:off x="1685880" y="2162160"/>
                <a:ext cx="2598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scad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kt 2"/>
              <p:cNvSpPr txBox="1"/>
              <p:nvPr/>
            </p:nvSpPr>
            <p:spPr>
              <a:xfrm>
                <a:off x="969840" y="3390840"/>
                <a:ext cx="4000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c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: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c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: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ipelined hybridization designs: Casca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commendation list is continually reduced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First recommender excludes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move absolute no-go items (e.g. knowledge-based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econd recommender assigns scor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rdering and refinement (e.g. collaborative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ipelined hybridization designs: Casca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39640" y="1628640"/>
          <a:ext cx="3168720" cy="1828800"/>
        </p:xfrm>
        <a:graphic>
          <a:graphicData uri="http://schemas.openxmlformats.org/drawingml/2006/table">
            <a:tbl>
              <a:tblPr/>
              <a:tblGrid>
                <a:gridCol w="1055880"/>
                <a:gridCol w="1055520"/>
                <a:gridCol w="1057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219640" y="1628640"/>
          <a:ext cx="3168720" cy="182880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55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3203640" y="3933720"/>
          <a:ext cx="3168720" cy="182880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25" name="Line 10"/>
          <p:cNvSpPr/>
          <p:nvPr/>
        </p:nvSpPr>
        <p:spPr>
          <a:xfrm>
            <a:off x="1908000" y="2492280"/>
            <a:ext cx="2376720" cy="2160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Line 8"/>
          <p:cNvSpPr/>
          <p:nvPr/>
        </p:nvSpPr>
        <p:spPr>
          <a:xfrm flipH="1">
            <a:off x="4787640" y="2205000"/>
            <a:ext cx="1655640" cy="20876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Oval 7"/>
          <p:cNvSpPr/>
          <p:nvPr/>
        </p:nvSpPr>
        <p:spPr>
          <a:xfrm>
            <a:off x="6227640" y="1989000"/>
            <a:ext cx="648000" cy="2160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Oval 9"/>
          <p:cNvSpPr/>
          <p:nvPr/>
        </p:nvSpPr>
        <p:spPr>
          <a:xfrm>
            <a:off x="1403280" y="2276640"/>
            <a:ext cx="647640" cy="2156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647640" y="3573360"/>
            <a:ext cx="2808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Removing no-go items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5237280" y="3500280"/>
            <a:ext cx="32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Ordering and refinemen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ipelined hybridization designs: Meta-leve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uccessor exploits a model delta built by predecessor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Examples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ab: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nline news domai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B recommender builds user models based on weighted term vecto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F identifies similar peers based on these user models but makes recommendations based on rating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llaborative constraint-based meta-level 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llaborative filtering learns a constraint bas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nowledge-based RS computes recommendation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33" name="Grafik 4" descr=""/>
          <p:cNvPicPr/>
          <p:nvPr/>
        </p:nvPicPr>
        <p:blipFill>
          <a:blip r:embed="rId1"/>
          <a:stretch/>
        </p:blipFill>
        <p:spPr>
          <a:xfrm>
            <a:off x="7621560" y="1871640"/>
            <a:ext cx="10000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4" name="Objekt 1"/>
              <p:cNvSpPr txBox="1"/>
              <p:nvPr/>
            </p:nvSpPr>
            <p:spPr>
              <a:xfrm>
                <a:off x="826920" y="2133720"/>
                <a:ext cx="3529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t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eve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Limitations of hybridization strategi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nly few works that compare strategies from the meta-perspectiv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ike for instance, [Robin Burke 2002]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st datasets do not allow to compare different recommendation paradig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.e. ratings, requirements, item features, domain knowledge, critiques rarely available in a single datase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us few conclusions that are supported by empirical finding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nolithic: some preprocessing effort traded-in for more knowledge included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arallel: requires careful matching of scores from different predicto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ipelined: works well for two antithetic approach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Netflix competition – "stacking" recommender sys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ighted design based on &gt;100 predictors – recommendation function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daptive switching of weights based on user model, context and meta-featur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Hybrid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36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637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641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3" name="Gruppieren 18"/>
          <p:cNvGrpSpPr/>
          <p:nvPr/>
        </p:nvGrpSpPr>
        <p:grpSpPr>
          <a:xfrm>
            <a:off x="785880" y="2722680"/>
            <a:ext cx="3252600" cy="920520"/>
            <a:chOff x="785880" y="2722680"/>
            <a:chExt cx="3252600" cy="920520"/>
          </a:xfrm>
        </p:grpSpPr>
        <p:pic>
          <p:nvPicPr>
            <p:cNvPr id="644" name="Grafik 16" descr="Commarrow.png"/>
            <p:cNvPicPr/>
            <p:nvPr/>
          </p:nvPicPr>
          <p:blipFill>
            <a:blip r:embed="rId6"/>
            <a:stretch/>
          </p:blipFill>
          <p:spPr>
            <a:xfrm>
              <a:off x="2071800" y="3143520"/>
              <a:ext cx="196668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Grafik 15" descr="Community.png"/>
            <p:cNvPicPr/>
            <p:nvPr/>
          </p:nvPicPr>
          <p:blipFill>
            <a:blip r:embed="rId7"/>
            <a:stretch/>
          </p:blipFill>
          <p:spPr>
            <a:xfrm>
              <a:off x="785880" y="2722680"/>
              <a:ext cx="1428480" cy="84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Gruppieren 23"/>
          <p:cNvGrpSpPr/>
          <p:nvPr/>
        </p:nvGrpSpPr>
        <p:grpSpPr>
          <a:xfrm>
            <a:off x="714240" y="3857760"/>
            <a:ext cx="3143520" cy="739800"/>
            <a:chOff x="714240" y="3857760"/>
            <a:chExt cx="3143520" cy="739800"/>
          </a:xfrm>
        </p:grpSpPr>
        <p:pic>
          <p:nvPicPr>
            <p:cNvPr id="647" name="Grafik 21" descr="PM.png"/>
            <p:cNvPicPr/>
            <p:nvPr/>
          </p:nvPicPr>
          <p:blipFill>
            <a:blip r:embed="rId8"/>
            <a:stretch/>
          </p:blipFill>
          <p:spPr>
            <a:xfrm>
              <a:off x="714240" y="3857760"/>
              <a:ext cx="178596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Grafik 22" descr="PMarrow.png"/>
            <p:cNvPicPr/>
            <p:nvPr/>
          </p:nvPicPr>
          <p:blipFill>
            <a:blip r:embed="rId9"/>
            <a:stretch/>
          </p:blipFill>
          <p:spPr>
            <a:xfrm>
              <a:off x="2714760" y="3929040"/>
              <a:ext cx="114300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Gruppieren 27"/>
          <p:cNvGrpSpPr/>
          <p:nvPr/>
        </p:nvGrpSpPr>
        <p:grpSpPr>
          <a:xfrm>
            <a:off x="750960" y="4500720"/>
            <a:ext cx="3349440" cy="1357200"/>
            <a:chOff x="750960" y="4500720"/>
            <a:chExt cx="3349440" cy="1357200"/>
          </a:xfrm>
        </p:grpSpPr>
        <p:pic>
          <p:nvPicPr>
            <p:cNvPr id="650" name="Grafik 25" descr="KM.png"/>
            <p:cNvPicPr/>
            <p:nvPr/>
          </p:nvPicPr>
          <p:blipFill>
            <a:blip r:embed="rId10"/>
            <a:stretch/>
          </p:blipFill>
          <p:spPr>
            <a:xfrm>
              <a:off x="750960" y="5000760"/>
              <a:ext cx="1677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Grafik 26" descr="KMarrow.png"/>
            <p:cNvPicPr/>
            <p:nvPr/>
          </p:nvPicPr>
          <p:blipFill>
            <a:blip r:embed="rId11"/>
            <a:stretch/>
          </p:blipFill>
          <p:spPr>
            <a:xfrm>
              <a:off x="2428560" y="4500720"/>
              <a:ext cx="167184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Rechteck 28"/>
          <p:cNvSpPr/>
          <p:nvPr/>
        </p:nvSpPr>
        <p:spPr>
          <a:xfrm>
            <a:off x="4429080" y="12859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ybrid: combinations of various inputs and/or composition of different mechanis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Rechteck 24"/>
          <p:cNvSpPr/>
          <p:nvPr/>
        </p:nvSpPr>
        <p:spPr>
          <a:xfrm>
            <a:off x="4140360" y="5516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Knowledge-based: "Tell me what fits based on my needs"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Rechteck 19"/>
          <p:cNvSpPr/>
          <p:nvPr/>
        </p:nvSpPr>
        <p:spPr>
          <a:xfrm>
            <a:off x="4140360" y="5013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Content-based: "Show me more of the same what I've lik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Rechteck 8"/>
          <p:cNvSpPr/>
          <p:nvPr/>
        </p:nvSpPr>
        <p:spPr>
          <a:xfrm>
            <a:off x="4140360" y="4508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Collaborative: "Tell me what's popular among my peers"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Literatu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[Robin Burke 2002]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Hybrid recommender systems: Survey and experiments, User Modeling and User-Adapted Interaction </a:t>
            </a: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12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(2002), no. 4, 331-370.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[Prem Melville et al. 2002]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Content-Boosted Collaborative Filtering for Improved Recommendations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, Proceedings of the 18th National Conference on Artificial Intelligence (AAAI) (Edmonton,CAN), American Association for Artificial Intelligence, 2002, pp. 187-192.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Calibri"/>
              </a:rPr>
              <a:t>[Roberto Torres et al. 2004]</a:t>
            </a: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Enhancing digital libraries with techlens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, International Joint Con</a:t>
            </a:r>
            <a:r>
              <a:rPr b="0" lang="de-DE" sz="1400" spc="-1" strike="noStrike">
                <a:solidFill>
                  <a:srgbClr val="003366"/>
                </a:solidFill>
                <a:latin typeface="Calibri"/>
              </a:rPr>
              <a:t>ference on Digital Libraries (JCDL'04) (Tucson, AZ), 2004, pp. 228-236.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[Chumki Basuet al. 1998] </a:t>
            </a:r>
            <a:r>
              <a:rPr b="0" i="1" lang="en-US" sz="1400" spc="-1" strike="noStrike">
                <a:solidFill>
                  <a:srgbClr val="003366"/>
                </a:solidFill>
                <a:latin typeface="Calibri"/>
              </a:rPr>
              <a:t>Recommendation as classification: using social and content-based information in recommendation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, In Proceedings of the 15th National Conference on Artificial Intelligence (AAAI'98) (Madison, Wisconsin, USA States), American Association for Ar</a:t>
            </a:r>
            <a:r>
              <a:rPr b="0" lang="de-DE" sz="1400" spc="-1" strike="noStrike">
                <a:solidFill>
                  <a:srgbClr val="003366"/>
                </a:solidFill>
                <a:latin typeface="Calibri"/>
              </a:rPr>
              <a:t>tificial Intelligence, 1998, pp. 714-720.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Hybrid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ll three base techniques are naturally incorporated by a good sales assistant (at different stages of the sales act) but have their shortcom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or instance, cold start problems 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dea of crossing two (or more) species/implementa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hybrida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[lat.]: denotes an object made by combining two different eleme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void some of the shortcoming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ach desirable properties not (or only inconsistently) present in parent individual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ifferent hybridization design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arallel use of several sys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nolithic exploiting different featur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ipelined invocation of different system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onolithic hybridization desig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nly a single recommendation componen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Hybridization is "virtual" in the sense tha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eatures/knowledge sources of different paradigms are combin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60" name="Picture 5" descr="Chapter_5_fusioned_hybrid"/>
          <p:cNvPicPr/>
          <p:nvPr/>
        </p:nvPicPr>
        <p:blipFill>
          <a:blip r:embed="rId1"/>
          <a:stretch/>
        </p:blipFill>
        <p:spPr>
          <a:xfrm>
            <a:off x="1187280" y="2492280"/>
            <a:ext cx="56898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onolithic hybridization designs: Feature combin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mbination of several knowledge sourc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: Ratings and user demographics or explicit requirements and needs used for similarity computatio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"Hybrid" content features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cial features: Movies liked by use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ntent features: Comedies liked by user, dramas liked by use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ybrid features: user likes many movies that are comedies, …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the common knowledge engineering effort that involves inventing good features to enable successful learning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” [Chumki Basuet al. 1998]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onolithic hybridization designs: Feature augment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ntent-boosted collaborative filtering [Prem Melville et al. 2002]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ased on content features additional ratings are creat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 Alice likes Items 1 and 3 (unary rating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em7 is similar to 1 and 3 by a degree of 0.75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us Alice likes Item7 by 0.75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em matrices become less spars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ignificance weighting and adjustment facto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ers with more co-rated items are more importan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igher confidence in content-based prediction, if higher number of own rating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commendation of research papers </a:t>
            </a: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[Roberto Torres et al. 2004]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itations interpreted as collaborative recommendation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llelized hybridization desig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utput of several existing implementations combin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east invasive desig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ome weighting or voting schem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ights can be learned dynamicall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treme case of dynamic weighting is switching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67" name="Picture 4" descr="Chapter_5_parallel_hybrid"/>
          <p:cNvPicPr/>
          <p:nvPr/>
        </p:nvPicPr>
        <p:blipFill>
          <a:blip r:embed="rId1"/>
          <a:stretch/>
        </p:blipFill>
        <p:spPr>
          <a:xfrm>
            <a:off x="539640" y="3747960"/>
            <a:ext cx="546912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8" name=""/>
          <p:cNvGraphicFramePr/>
          <p:nvPr/>
        </p:nvGraphicFramePr>
        <p:xfrm>
          <a:off x="2556000" y="4221000"/>
          <a:ext cx="3816360" cy="1828800"/>
        </p:xfrm>
        <a:graphic>
          <a:graphicData uri="http://schemas.openxmlformats.org/drawingml/2006/table">
            <a:tbl>
              <a:tblPr/>
              <a:tblGrid>
                <a:gridCol w="1271520"/>
                <a:gridCol w="1272960"/>
                <a:gridCol w="127188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weighted(0.5:0.5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llelized hybridization design: Weighte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4683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Compute weighted sum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kt 1"/>
              <p:cNvSpPr txBox="1"/>
              <p:nvPr/>
            </p:nvSpPr>
            <p:spPr>
              <a:xfrm>
                <a:off x="3029040" y="1173240"/>
                <a:ext cx="37083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72" name="Bild 2" descr=""/>
          <p:cNvPicPr/>
          <p:nvPr/>
        </p:nvPicPr>
        <p:blipFill>
          <a:blip r:embed="rId1"/>
          <a:stretch/>
        </p:blipFill>
        <p:spPr>
          <a:xfrm>
            <a:off x="1440" y="1413000"/>
            <a:ext cx="3405240" cy="1020600"/>
          </a:xfrm>
          <a:prstGeom prst="rect">
            <a:avLst/>
          </a:prstGeom>
          <a:ln w="0">
            <a:noFill/>
          </a:ln>
        </p:spPr>
      </p:pic>
      <p:pic>
        <p:nvPicPr>
          <p:cNvPr id="673" name="Bild 4" descr=""/>
          <p:cNvPicPr/>
          <p:nvPr/>
        </p:nvPicPr>
        <p:blipFill>
          <a:blip r:embed="rId2"/>
          <a:stretch/>
        </p:blipFill>
        <p:spPr>
          <a:xfrm>
            <a:off x="20520" y="1989000"/>
            <a:ext cx="207036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4" name=""/>
          <p:cNvGraphicFramePr/>
          <p:nvPr/>
        </p:nvGraphicFramePr>
        <p:xfrm>
          <a:off x="684360" y="2133720"/>
          <a:ext cx="3166920" cy="1828800"/>
        </p:xfrm>
        <a:graphic>
          <a:graphicData uri="http://schemas.openxmlformats.org/drawingml/2006/table">
            <a:tbl>
              <a:tblPr/>
              <a:tblGrid>
                <a:gridCol w="1055520"/>
                <a:gridCol w="1055880"/>
                <a:gridCol w="10555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5364000" y="2133720"/>
          <a:ext cx="3168720" cy="1828800"/>
        </p:xfrm>
        <a:graphic>
          <a:graphicData uri="http://schemas.openxmlformats.org/drawingml/2006/table">
            <a:tbl>
              <a:tblPr/>
              <a:tblGrid>
                <a:gridCol w="1055880"/>
                <a:gridCol w="1055520"/>
                <a:gridCol w="1057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76" name="Oval 14"/>
          <p:cNvSpPr/>
          <p:nvPr/>
        </p:nvSpPr>
        <p:spPr>
          <a:xfrm>
            <a:off x="1692360" y="2492280"/>
            <a:ext cx="647640" cy="216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195640" y="2708280"/>
            <a:ext cx="1512720" cy="1944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Line 18"/>
          <p:cNvSpPr/>
          <p:nvPr/>
        </p:nvSpPr>
        <p:spPr>
          <a:xfrm flipH="1">
            <a:off x="4500720" y="2708280"/>
            <a:ext cx="2016000" cy="1944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Oval 16"/>
          <p:cNvSpPr/>
          <p:nvPr/>
        </p:nvSpPr>
        <p:spPr>
          <a:xfrm>
            <a:off x="3780000" y="4581360"/>
            <a:ext cx="647640" cy="216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Oval 15"/>
          <p:cNvSpPr/>
          <p:nvPr/>
        </p:nvSpPr>
        <p:spPr>
          <a:xfrm>
            <a:off x="6300720" y="2492280"/>
            <a:ext cx="647640" cy="216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alibri"/>
              </a:rPr>
              <a:t>Parallelized hybridization design: Weighte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BUT, how to derive weights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Estimate, e.g. by empirical bootstrapp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Dynamic adjustment of weigh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Empirical bootstrapp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Historic data is need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Compute different weigh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Decide which one does bes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Dynamic adjustment of weight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Start with for instance uniform weight distribu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For each user adapt weights to minimize error of predi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3" name="Fußzeilenplatzhalter 3"/>
          <p:cNvSpPr/>
          <p:nvPr/>
        </p:nvSpPr>
        <p:spPr>
          <a:xfrm>
            <a:off x="539640" y="6245280"/>
            <a:ext cx="446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rkus Zanker, University Klagenfurt, markus.zanker@uni-klu.ac.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0:45Z</dcterms:modified>
  <cp:revision>1168</cp:revision>
  <dc:subject/>
  <dc:title>Recommender Systems</dc:title>
</cp:coreProperties>
</file>