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68CF84-6AC5-440A-96EB-E69C1F238D6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7FDDF8-5B56-4D4B-BE26-019A00E752D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B3FFA8-D914-4924-B12D-23AEA07E19E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CFF0FB-98E0-4E57-AC63-76D4524EE70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A62976-7AFF-4A2B-8197-29BC3D76A20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E32654-D453-49FD-BDD5-D1D62900B8E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13B0A2-2381-4566-A198-6C8E8623785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26D14C-5C0B-4B4B-9330-30FF4056198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C02393-398E-479B-8527-FEE318D6F8F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22202B-84C1-4020-9335-72CA437F593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2F6A87-6A79-407B-A04D-8EE3915112D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39D7C0-4328-432B-A0FE-DD79106F48D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1A1631-347A-49CA-A6B2-624B8A94F5A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790D97-A7A0-4593-88CF-9EECCD791FF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BF62BD-B795-49DD-B879-95A080A84FF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5019D9-411C-43BC-B793-E14EAA6813A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4C2029-21C6-41DE-93BC-B78E3F0A139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E354BC-4FF5-4B94-B45D-E7A050ADABD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A3BF2E-7741-457E-A16B-B97D86BDE69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66DAAB-700D-46B0-B3CF-8E50239CD7D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97465B-1C12-4411-8E65-116C6CC9CF9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07655D-A924-4E92-8FFF-EF2068FDFA8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E5D66D-DF8F-4140-B2DE-11D25D49185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24CDAC-FA6A-44D8-80EB-F2808534230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249774-FB46-4A15-BC5B-2E2C730A37A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9167FF-3986-4A62-8015-408D8C8B319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AA4BA-A75B-48E9-8091-DD096171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E6D01-EFAA-45FC-BCA7-F3BC4A91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99FED-7526-4D3C-95AC-803BC272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0BF27-8E15-4447-86C2-FDF62FC5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E08E3-8266-45B0-83F1-C20C9F2E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B2409-641B-42EF-8905-6708A6F5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16137-9395-405D-A214-1631C118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56691-0DDA-43C9-A80B-DC56263F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3F5DA-62AB-4807-996A-542925A8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06AB9-2119-4235-9157-02E2DAFD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7973E-F811-4023-8CED-DB7043DE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ED268-8832-4FEB-A779-2FBCE266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6C038417-28CE-4439-B895-9D9D40D2632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F2CA34BB-73D9-4B4B-8021-9230CE20F34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CC7BD96-C46C-4A87-BB02-5F01FCE467D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632EB3B8-97AF-4C43-B65C-99F8EE08BF29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2BDA488-A6A6-4A8E-9303-F5FDEB1DCFE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1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83D4D90-FCA9-479C-BC31-CB8A289CDD0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A28B4025-B914-493E-BB65-856E09335753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A9DC-970F-4967-9659-17640B3442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B7127ED-4A36-4963-ADDE-C6419AB6A01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FA84594A-EBDC-4907-99EE-AEAB3D3D6E1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B21BE93-7543-4A97-BF6A-8E7572D59DB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FD22129-D72E-4221-81AC-3A6A3994C50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C65617E9-EAA2-467C-9079-2D36B1A5BD0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4D4D876-8350-4D9A-9DE9-407F2C7D9132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CD31524-51EE-4619-9FBF-646F0B6293B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hteck 3" descr=""/>
          <p:cNvPicPr/>
          <p:nvPr/>
        </p:nvPicPr>
        <p:blipFill>
          <a:blip r:embed="rId1"/>
          <a:stretch/>
        </p:blipFill>
        <p:spPr>
          <a:xfrm>
            <a:off x="1285920" y="2646360"/>
            <a:ext cx="66452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feld 3"/>
          <p:cNvSpPr/>
          <p:nvPr/>
        </p:nvSpPr>
        <p:spPr>
          <a:xfrm>
            <a:off x="609480" y="5925960"/>
            <a:ext cx="81392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S, social networks and trus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33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Hybrids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Information from various sources might be combined to generate personalized information services (Hess et al. 2006),</a:t>
            </a:r>
            <a:br>
              <a:rPr sz="1800"/>
            </a:b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i.e. combine trust networks of researchers and visibility of scientific pap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Implicit trus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One will ask friends who have similar tastes for a recommendation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Trustworthiness is measured by how often a user has been a reliable predictor in the past (Massa and Avesani 2007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Recommending new friend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Another form of cold-start proble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Many of today's social web platforms aim to increase the connectivity of their members by suggesting other users as friends, </a:t>
            </a:r>
            <a:br>
              <a:rPr sz="1800"/>
            </a:b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e.g. "close a trust triangle" by similarity measure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Calibri"/>
              </a:rPr>
              <a:t>Folksonomi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Folk taxonomi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rs add tags to resources (such as image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ags can describe different aspects of a resource such as content, genre but also personal impressions such as </a:t>
            </a:r>
            <a:r>
              <a:rPr b="0" i="1" lang="en-US" sz="1800" spc="-1" strike="noStrike">
                <a:solidFill>
                  <a:srgbClr val="003366"/>
                </a:solidFill>
                <a:latin typeface="Calibri"/>
              </a:rPr>
              <a:t>bor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olksonomies are based on freely-used keywords (e.g. on flickr.com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Not as formal as ontologies, but more easy to acquir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emantic Web approach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ormal, defined, and machine-processible annotatio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ormal ontologies have the advantages of preciseness and definedness, they are hard to acquir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ecommender systems and folksonomi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Exploit the information of how items are tagged by the communit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commend tags to us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Folksonomies and content-based method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Recommendations based on tag cloud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Linguistic methods for tag-based recommend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merge tags assigned by users to descriptions in special slots (Gemmis et al. 2008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67" name="Picture 1" descr="C:\Dokumente und Einstellungen\Mouzhi Ge\Anwendungsdaten\Tencent\Users\7204866\QQ\WinTemp\RichOle\FY0Q5OL`M8J5{V$6W%%9}ZA.jpg"/>
          <p:cNvPicPr/>
          <p:nvPr/>
        </p:nvPicPr>
        <p:blipFill>
          <a:blip r:embed="rId1"/>
          <a:stretch/>
        </p:blipFill>
        <p:spPr>
          <a:xfrm>
            <a:off x="2124000" y="2073240"/>
            <a:ext cx="4775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Calibri"/>
              </a:rPr>
              <a:t>Recommendations based on tag cloud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69" name="Inhaltsplatzhalter 2" descr=""/>
          <p:cNvPicPr/>
          <p:nvPr/>
        </p:nvPicPr>
        <p:blipFill>
          <a:blip r:embed="rId1"/>
          <a:stretch/>
        </p:blipFill>
        <p:spPr>
          <a:xfrm>
            <a:off x="407880" y="1560600"/>
            <a:ext cx="82789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Calibri"/>
              </a:rPr>
              <a:t>Recommendations based on tag clouds (cont.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71" name="Inhaltsplatzhalter 2" descr=""/>
          <p:cNvPicPr/>
          <p:nvPr/>
        </p:nvPicPr>
        <p:blipFill>
          <a:blip r:embed="rId1"/>
          <a:stretch/>
        </p:blipFill>
        <p:spPr>
          <a:xfrm>
            <a:off x="396720" y="1573200"/>
            <a:ext cx="8290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Calibri"/>
              </a:rPr>
              <a:t>Recommendations based on tag clouds (cont.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73" name="Inhaltsplatzhalter 2" descr=""/>
          <p:cNvPicPr/>
          <p:nvPr/>
        </p:nvPicPr>
        <p:blipFill>
          <a:blip r:embed="rId1"/>
          <a:stretch/>
        </p:blipFill>
        <p:spPr>
          <a:xfrm>
            <a:off x="396720" y="1573200"/>
            <a:ext cx="8290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Calibri"/>
              </a:rPr>
              <a:t>Linguistic methods for tag-based recommend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(Gemmis et al. 2008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72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Items are described by static slots, e.g. title, painter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72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In addition so called dynamic slots </a:t>
            </a:r>
            <a:br>
              <a:rPr sz="2000"/>
            </a:b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SocialTags(I) </a:t>
            </a: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and 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PersonalTags(U,I)</a:t>
            </a: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 are added</a:t>
            </a:r>
            <a:br>
              <a:rPr sz="2000"/>
            </a:br>
            <a:r>
              <a:rPr b="0" i="1" lang="en-IE" sz="16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0" lang="en-IE" sz="1600" spc="-1" strike="noStrike">
                <a:solidFill>
                  <a:srgbClr val="003366"/>
                </a:solidFill>
                <a:latin typeface="Calibri"/>
              </a:rPr>
              <a:t> is an item, </a:t>
            </a:r>
            <a:r>
              <a:rPr b="0" i="1" lang="en-IE" sz="1600" spc="-1" strike="noStrike">
                <a:solidFill>
                  <a:srgbClr val="003366"/>
                </a:solidFill>
                <a:latin typeface="Calibri"/>
              </a:rPr>
              <a:t>U</a:t>
            </a:r>
            <a:r>
              <a:rPr b="0" lang="en-IE" sz="1600" spc="-1" strike="noStrike">
                <a:solidFill>
                  <a:srgbClr val="003366"/>
                </a:solidFill>
                <a:latin typeface="Calibri"/>
              </a:rPr>
              <a:t> is a user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80028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SocialTags(I): 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tags added to </a:t>
            </a: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80028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PersonalTags(U,I): 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tags added by user </a:t>
            </a: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U 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to</a:t>
            </a: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 I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80028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Words in slots are replaced by synsets (synonymy set) exploiting WORDNE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80028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Word sense disambiguation methods are appli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80028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Slots contain a set of synsets (semantic tag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72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Finally, a Bayesian approach is applied for predicting the user rating exploiting the values of the slo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72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Folksonomies and collaborative filtering method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Tag-enhanced 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"</a:t>
            </a: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classical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"</a:t>
            </a: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 collaborative filtering method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View tags as additional information for discovering similarities between users and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For example, Tso-Sutter et al. (2008) viewed tags as additional attributes providing background knowledg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Tag-based collaborative filtering and item retrieva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Social ranking (Zanardi and Capra 2008), a method that aims to determine a list of potentially interesting items in the context of a user quer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Social ranking aims to overcome this problem by applying traditional CF ideas in a new wa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Use user and tag similarities to retrieve a ranked list of items for a given user quer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ag-enhanced collaborative filtering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ifference to content-boosted CF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ags/keywords are not "global" annotations, but local for a use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ossible approach, a combined, tag-aware CF metho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member, in user-based CF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Similarity of users is used to make recommendation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Here, view tags as additional items (0/1 rating, if user used a tag or not); thus similarity is also influenced by tag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ikewise, in item-based CF, view tags as additional users (1, if item was labeled with a tag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redic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mbine user-based and item-based predictions in a weighted approach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periments show that only combination of both helps to improve accurac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ag-based CF and item retrieva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tem retrieval in Web 2.0 applications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Often based on overlap of query terms and item ta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sufficient for retrieving the "long tail" of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097280" indent="-21924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Users may use different terms in their annotation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3" marL="1536120" indent="-21924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Think of possible tags of a car, "Volkswagen", "beetle", "red", "cool"…  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One approach, Social Rank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 CF methods to retrieve ranked list of items for given quer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097280" indent="-21924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Compute user and tag similarities (e.g., based on co-occurrence)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wo-phase retrieval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097280" indent="-21924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Extend user query with similar tags (improves coverage)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097280" indent="-21924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Rank items based on 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3" marL="1536120" indent="-21924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Relevance of tags to the query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3" marL="1536120" indent="-21924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Similarity of taggers to the current user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eads to measurably better coverage and long-tail retrieva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Calibri"/>
              </a:rPr>
              <a:t>New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pportuniti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ore types of information availabl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ore willingness of users to contribut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New application area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riends, pictures, movies, tags, bookmark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755640" y="3576600"/>
            <a:ext cx="5761080" cy="574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"/>
          <p:cNvPicPr/>
          <p:nvPr/>
        </p:nvPicPr>
        <p:blipFill>
          <a:blip r:embed="rId2"/>
          <a:stretch/>
        </p:blipFill>
        <p:spPr>
          <a:xfrm>
            <a:off x="900000" y="4368960"/>
            <a:ext cx="5334120" cy="4251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3"/>
          <a:stretch/>
        </p:blipFill>
        <p:spPr>
          <a:xfrm>
            <a:off x="900000" y="4943520"/>
            <a:ext cx="628920" cy="7048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5" descr=""/>
          <p:cNvPicPr/>
          <p:nvPr/>
        </p:nvPicPr>
        <p:blipFill>
          <a:blip r:embed="rId4"/>
          <a:stretch/>
        </p:blipFill>
        <p:spPr>
          <a:xfrm>
            <a:off x="1619280" y="5087880"/>
            <a:ext cx="1076400" cy="4176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"/>
          <p:cNvPicPr/>
          <p:nvPr/>
        </p:nvPicPr>
        <p:blipFill>
          <a:blip r:embed="rId5"/>
          <a:stretch/>
        </p:blipFill>
        <p:spPr>
          <a:xfrm>
            <a:off x="2921040" y="4981680"/>
            <a:ext cx="1704960" cy="5238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"/>
          <p:cNvPicPr/>
          <p:nvPr/>
        </p:nvPicPr>
        <p:blipFill>
          <a:blip r:embed="rId6"/>
          <a:stretch/>
        </p:blipFill>
        <p:spPr>
          <a:xfrm>
            <a:off x="4719600" y="5048280"/>
            <a:ext cx="12668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commending tag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83" name="Picture 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76720" cy="27860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5305320" cy="3184560"/>
          </a:xfrm>
          <a:prstGeom prst="rect">
            <a:avLst/>
          </a:prstGeom>
          <a:ln w="0">
            <a:noFill/>
          </a:ln>
        </p:spPr>
      </p:pic>
      <p:sp>
        <p:nvSpPr>
          <p:cNvPr id="685" name="Gestreifter Pfeil nach rechts 5"/>
          <p:cNvSpPr/>
          <p:nvPr/>
        </p:nvSpPr>
        <p:spPr>
          <a:xfrm>
            <a:off x="2627280" y="5661000"/>
            <a:ext cx="865080" cy="504720"/>
          </a:xfrm>
          <a:custGeom>
            <a:avLst/>
            <a:gdLst/>
            <a:ahLst/>
            <a:rect l="l" t="t" r="r" b="b"/>
            <a:pathLst>
              <a:path w="864096" h="504056">
                <a:moveTo>
                  <a:pt x="0" y="126014"/>
                </a:moveTo>
                <a:lnTo>
                  <a:pt x="15752" y="126014"/>
                </a:lnTo>
                <a:lnTo>
                  <a:pt x="15752" y="378042"/>
                </a:lnTo>
                <a:lnTo>
                  <a:pt x="0" y="378042"/>
                </a:lnTo>
                <a:lnTo>
                  <a:pt x="0" y="126014"/>
                </a:lnTo>
                <a:close/>
                <a:moveTo>
                  <a:pt x="31504" y="126014"/>
                </a:moveTo>
                <a:lnTo>
                  <a:pt x="63007" y="126014"/>
                </a:lnTo>
                <a:lnTo>
                  <a:pt x="63007" y="378042"/>
                </a:lnTo>
                <a:lnTo>
                  <a:pt x="31504" y="378042"/>
                </a:lnTo>
                <a:lnTo>
                  <a:pt x="31504" y="126014"/>
                </a:lnTo>
                <a:close/>
                <a:moveTo>
                  <a:pt x="78759" y="126014"/>
                </a:moveTo>
                <a:lnTo>
                  <a:pt x="612068" y="126014"/>
                </a:lnTo>
                <a:lnTo>
                  <a:pt x="612068" y="0"/>
                </a:lnTo>
                <a:lnTo>
                  <a:pt x="864096" y="252028"/>
                </a:lnTo>
                <a:lnTo>
                  <a:pt x="612068" y="504056"/>
                </a:lnTo>
                <a:lnTo>
                  <a:pt x="612068" y="378042"/>
                </a:lnTo>
                <a:lnTo>
                  <a:pt x="78759" y="378042"/>
                </a:lnTo>
                <a:lnTo>
                  <a:pt x="78759" y="12601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6" name="Picture 6" descr=""/>
          <p:cNvPicPr/>
          <p:nvPr/>
        </p:nvPicPr>
        <p:blipFill>
          <a:blip r:embed="rId3"/>
          <a:stretch/>
        </p:blipFill>
        <p:spPr>
          <a:xfrm>
            <a:off x="4859280" y="1349280"/>
            <a:ext cx="3038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feld 3"/>
          <p:cNvSpPr/>
          <p:nvPr/>
        </p:nvSpPr>
        <p:spPr>
          <a:xfrm>
            <a:off x="270000" y="5870520"/>
            <a:ext cx="849600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commending tag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89" name="Inhaltsplatzhalter 2" descr=""/>
          <p:cNvPicPr/>
          <p:nvPr/>
        </p:nvPicPr>
        <p:blipFill>
          <a:blip r:embed="rId1"/>
          <a:stretch/>
        </p:blipFill>
        <p:spPr>
          <a:xfrm>
            <a:off x="378000" y="1255680"/>
            <a:ext cx="84801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commending content in participatory medi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econd-generation web, participatory medi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rs contribute the conten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Exploit information if the active user trusts the content providing person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(Seth et al. 2008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Credibility of messages depend on credibility of authors which depends on topics and the active user and the opinion of her friend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Messages are labeled with their autho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Users assign a supposed credibility to message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Users are explicitly connected with their "friends"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Every user can declare a list of topics in which he or she is interested,</a:t>
            </a:r>
            <a:br>
              <a:rPr sz="1800"/>
            </a:b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i.e. topic specific networks can be generat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ayesian model predicts if the active user will find a new message credibl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commending content in participatory media (cont.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(Guy et al. 2009)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ifferentiates users in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familiar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imilar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users w.r.t. active user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amiliar score depends on organizational charts, direct connections in social networks, tagging of persons, co-authorship of content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imilarity score depends on co-usage of tags, co-bookmarking  the same web page, co-commenting the same blog entr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commendations based on similarity scores and familiarity scores were compar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planations in terms of persons who are similar/familiar were give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commendations based on familiarity scores outperformed similarity scores </a:t>
            </a:r>
            <a:br>
              <a:rPr sz="1800"/>
            </a:b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(user classified the recommended items as interesting, not interesting, already known)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ffect could be caused by persuasion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planations caused an increase of classifying items as interesting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ntological filtering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emantic Web communit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escribe web resources by languages that can be interpreted by software sys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atch the information need of users by exploiting machine interpretable information, e.g. OW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ormulate a domain ontology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Apply ontology to improve recommender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Knowledge-based techniques such as simple inheritance taxonomies and logical descrip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These recommender systems are actually hybrid sys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The aim is to leverage their capabilities by knowledge-based method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Augmentation of filtering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Augmentation of filtering by taxonomi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Hierarchical ontolog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"sport" is a parent of "soccer" and a grandparent of "world soccer tournaments"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Use item profile and user profile to annotate news items and let users directly express interes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Augmentation of filtering by attribut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Attributes used to characterize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In the movie domain, attributes are genre, actors, director, and nam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Use semantic information about items (e.g. genere, actor, etc.) to compute similarities between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Combine semantic similarity and rated similarity to predict user rating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ample for </a:t>
            </a:r>
            <a:r>
              <a:rPr b="1" lang="en-IE" sz="2400" spc="-1" strike="noStrike">
                <a:solidFill>
                  <a:srgbClr val="003366"/>
                </a:solidFill>
                <a:latin typeface="Calibri"/>
              </a:rPr>
              <a:t>filtering by taxonomies (Maidel et al. 2008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6840" y="143352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Give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tem profile: set of  concepts associated to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r profile: set of concepts associated to us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axonomy of concepts (sub-super concept hierarchy, e.g. soccer is a sport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mpute matching scores between user and item concep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Various cases: perfect match, parent/child and grandparent/grandchild match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.g. user is interested in sports, item is a member of soccer item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ach match has a score depending on matching case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mpute item/user match depending on the weights of the concepts of the active user and the matching score of user concepts and item concept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valu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ithout concept taxonomy the quality of recommendations drops significantl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f user explicitly states the interest in concepts, quality improves significantl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Calibri"/>
              </a:rPr>
              <a:t>Extracting semantics from the web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Semantic information can provide valuable means for improving recommenda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Where does this information come from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How costly and reliable is the acquisition process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Approaches to generate semantic inform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Humans are providing semantics by annotating content and by declaring logical sentenc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Develop software systems that are able to generate semantics with little or no human intervention (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articularly attractive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3366"/>
                </a:solidFill>
                <a:latin typeface="Calibri"/>
              </a:rPr>
              <a:t>AllRight system (Jannach et al. 2009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03" name="Picture 1" descr="C:\Dokumente und Einstellungen\Mouzhi Ge\Anwendungsdaten\Tencent\Users\7204866\QQ\WinTemp\RichOle\YQ8[(_`%JJF_@J$A6}RSNPQ.jpg"/>
          <p:cNvPicPr/>
          <p:nvPr/>
        </p:nvPicPr>
        <p:blipFill>
          <a:blip r:embed="rId1"/>
          <a:stretch/>
        </p:blipFill>
        <p:spPr>
          <a:xfrm>
            <a:off x="1187280" y="1773360"/>
            <a:ext cx="6566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alibri"/>
              </a:rPr>
              <a:t>Discussion – The Filter Bubbl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98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Calibri"/>
              </a:rPr>
              <a:t>Web 2.0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Web users connect via social network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Publish their demographic characteristics and preferenc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Actively provide and annotate resources such as images or video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Share their knowledge in community platfor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New types of public information spac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Web logs (blog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Wiki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Platforms for sharing multimedia resourc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New capabilities of Web 2.0 greatly influence the field of recommender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ummary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Opportunities, current methods, and realizations of Web 2.0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emantic Web for recommender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Exploit additional information to contribute more trustworthy and qualitative enhanced recommenda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Both Web 2.0 and the Semantic Web in combination not only drive new technologies but have huge impacts on society regarding the communication and interaction patterns of huma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ecommendations shape the users’ behavior in Web++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Literatur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700280"/>
            <a:ext cx="822960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Gemmis et al. 2008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IE" sz="1200" spc="-1" strike="noStrike">
                <a:solidFill>
                  <a:srgbClr val="003366"/>
                </a:solidFill>
                <a:latin typeface="Calibri"/>
              </a:rPr>
              <a:t>Integrating tags in a semantic content-based recommender, Proceedings of the 2008 ACM Conference on Recommender Systems (RecSys '08), ACM, Lausanne, Switzerland, 2008, pp. 163–170.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Guy et al. 2009]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Personalized recommendation of social software items based on social relations, </a:t>
            </a:r>
            <a:r>
              <a:rPr b="0" lang="en-IE" sz="1200" spc="-1" strike="noStrike">
                <a:solidFill>
                  <a:srgbClr val="003366"/>
                </a:solidFill>
                <a:latin typeface="Calibri"/>
              </a:rPr>
              <a:t>Proceedings of the 2009 ACM Conference on Recommender Systems (RecSys '09) (New Your, USA), ACM Press, 2009.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Hess et al. 2006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IE" sz="1200" spc="-1" strike="noStrike">
                <a:solidFill>
                  <a:srgbClr val="003366"/>
                </a:solidFill>
                <a:latin typeface="Calibri"/>
              </a:rPr>
              <a:t>Trust-enhanced visibility for personalized document recommendations, Proceedings of the 2006 ACMSymposium on Applied Computing (SAC '06) (Dijon, France) (Hisham Haddad, ed.), ACM, 2006, pp. 1865–1869.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Maidel et al. 2008]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Evaluation of an ontology-content based filtering method for a personalized newspaper, </a:t>
            </a:r>
            <a:r>
              <a:rPr b="0" lang="en-IE" sz="1200" spc="-1" strike="noStrike">
                <a:solidFill>
                  <a:srgbClr val="003366"/>
                </a:solidFill>
                <a:latin typeface="Calibri"/>
              </a:rPr>
              <a:t>Proceedings of the 2008 ACM Conference on Recommender Systems (RecSys '08) (Lausanne, Switzerland), ACM Press, 2008.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Massa and Avesani 2007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Trust-aware recommender systems</a:t>
            </a:r>
            <a:r>
              <a:rPr b="0" lang="en-IE" sz="1200" spc="-1" strike="noStrike">
                <a:solidFill>
                  <a:srgbClr val="003366"/>
                </a:solidFill>
                <a:latin typeface="Calibri"/>
              </a:rPr>
              <a:t>, Proceedings of the 2007 ACM Conference on Recommender Systems (RecSys '07) (Minneapolis, MN, USA), ACM Press, 2007.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Seth et al. 2008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A subjective credibility model for participatory media, Workshop Intelligent Techniques for Web Personalization and Recommender Systems (ITWP) at AAAI '08 (Chicago), AAAI Press, 2008, pp. 66–77.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Tso-Sutter et al. 2008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Tag-aware recommender systems by fusion of collaborative filtering algorithms, Proceedings of the 2008 ACM Symposium on Applied Computing (SAC'08) (Fortaleza, Ceara, Brazil), ACM, 2008, pp. 1995–1999.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Zanardi and Capra 2008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IE" sz="1200" spc="-1" strike="noStrike">
                <a:solidFill>
                  <a:srgbClr val="003366"/>
                </a:solidFill>
                <a:latin typeface="Calibri"/>
              </a:rPr>
              <a:t>Social ranking: Uncovering relevant content using tag-based recommender systems, Proceedings of the 2008 ACM Conference on Recommender Systems (RecSys '08) (Lausanne, Switzerland), ACM Press, 2008, pp. 51–58.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S and the Social Web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he Web 2.0 / Social Web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acebook, Twitter, Flickr, 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eople actively contribute information and participate in social network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mpact on recommender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re information about user's and items availabl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Demographic information about user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Friendship relationship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Tags on resource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New application fields for RS technolog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Recommend friends, resources (pictures, videos), or even tags to user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=&gt; Requires the development of new algorith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=&gt; Currently, many papers published on this topic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rust-aware recommender systems (TARS)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rust in recommender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Get users to believe that the recommendations made by the system are correct and fai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ssess the "trustworthiness" of users to discover and avoid attacks on recommender sys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rust relationships between users (our focu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rust-enhanced nearest-neighbor recommender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Exploit trust networks to improve the system performanc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The accuracy of the recommendations can be increas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lleviate the cold-start proble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Improve on the user coverag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rust-aware recommender systems (TARS)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xplicit trust statements between user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an be expressed on some social web platforms (epinions.com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uld be derived from relationships on social platfor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rust is a multi-faceted, complex concep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Goes however beyond an "implicit" trust notion based on rating similarit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xploiting trust information in R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o improve accuracy (neighborhood selection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o increase coverage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uld be used to make RS robust against attack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hteck 3"/>
          <p:cNvSpPr/>
          <p:nvPr/>
        </p:nvSpPr>
        <p:spPr>
          <a:xfrm>
            <a:off x="3689280" y="6021360"/>
            <a:ext cx="3557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ARS (Massa &amp; Avesani 2007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npu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ating matrix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plicit trust network (ratings between 0 – no trust, and 1 – full trust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redic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ased on usual weighted combination of ratings of the nearest neighbo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imilarity of neighbors is however based on the trust valu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54" name="Picture 3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3071880" cy="2825640"/>
          </a:xfrm>
          <a:prstGeom prst="rect">
            <a:avLst/>
          </a:prstGeom>
          <a:ln w="0">
            <a:noFill/>
          </a:ln>
        </p:spPr>
      </p:pic>
      <p:sp>
        <p:nvSpPr>
          <p:cNvPr id="655" name="Textfeld 5"/>
          <p:cNvSpPr/>
          <p:nvPr/>
        </p:nvSpPr>
        <p:spPr>
          <a:xfrm>
            <a:off x="4275000" y="3648240"/>
            <a:ext cx="4357800" cy="259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No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ssume standard Pearson CF with min.  3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eers and similarity-threshold = 0.5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No recommendation for A possib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owever, assuming that trust is transitiv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nd 3 trusted users are sufficient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n the rating of E could be us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Good for cold-start situation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imit transitivit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rust metrics and effectivenes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836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xperiments on an Epinions.com datase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ffectiveness of simple algorith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Simple algorithms such as "always predict value 5" or "always predict the mean rating value of a user" (Many 5-star ratings in the dataset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edict average rating of items, good results for cold-start users.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owever, for controversial items CF outperforms simple algorithms 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Using direct trust onl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Uses only the opinions of users for which an explicit trust statement is availabl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Works well for cold-start users, niche items and opinionated users  (have a high standard deviation in their ratings),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Best method with respect to mean absolute user error (MAUE) </a:t>
            </a:r>
            <a:br>
              <a:rPr sz="1800"/>
            </a:b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AUE:  compute the mean error for each user and then average these user errors over all the users. Errors of cold-start users are as influential as errors for heavy rater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However coverage is below CF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rust metrics and effectiveness (cont.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rust propag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Increasing propagation distance leads to an increase in rating coverage but decreases prediction accurac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Hybrid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Such a combination quite intuitively leads to increased coverage but the performance did not increas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23:14Z</dcterms:created>
  <dc:creator>Wolfgang Schmid</dc:creator>
  <dc:description/>
  <dc:language>en-US</dc:language>
  <cp:lastModifiedBy>Wolfgang Schmid</cp:lastModifiedBy>
  <dcterms:modified xsi:type="dcterms:W3CDTF">2012-01-11T12:02:23Z</dcterms:modified>
  <cp:revision>1313</cp:revision>
  <dc:subject/>
  <dc:title>Recommender Systems</dc:title>
</cp:coreProperties>
</file>