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6A7963-1D8B-4298-9638-93496E6E374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7A6ECA-525A-4CF3-85AB-6286C150F9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89C12C-38D6-4671-856E-78BB9F673A6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BE36AA-38B7-4FFB-B46B-4147840BD4A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C6DE68-F729-4108-BB77-BF70AA75A84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6B149E-6C9C-4292-8106-7D5A2A1C463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A47B92-2722-4A43-8A18-5F58F0395E1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9BD167-4BFB-4BEA-9A27-4A2CE935F90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6FF80E-57C3-4945-B880-BBD3C29BA2C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06AB47-4259-4174-8B8D-70CCC7015F6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CF42F5-03E3-40A9-820D-62D9950F16B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FDE610-ADFD-40DE-9736-E58BDFB077D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07C1BF-C769-4C47-B263-D827F2F91F5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262F7A-CFFE-49C7-B135-81F12549FE8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F99A-D422-4BA5-948D-1F463737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C7DC9-9902-44E7-AA09-716AA2E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75A8-7831-408B-B7D7-5F1151E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38E74-A66E-4922-A055-D084E37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5924B-C89E-4C39-8068-F97F6D33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EFC95-6448-4080-A63F-D634B11C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53635-C631-4185-BD07-14A2FF0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3718-B174-4E16-9885-6553DED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DEEE3-3C5F-4806-B580-4DDD888A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F7AED-65AF-4770-AE80-14E77B59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2BF0F-86A2-44F4-A33F-970C4F01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8B25-8586-4792-882A-58FBF868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980449E-88F8-4EF6-998D-DDED89266B3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BE10CA1-6AA3-4870-860D-CA2FE372545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FE56739-23ED-4CCE-8EE8-F4F1822AEEC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37E436B-EE73-4670-82F0-CA29477BEFD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CCC69E0-75FC-417C-82B7-8E2487BB672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7E4376D-EA08-44AA-87CB-5ABA7E2BD77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5396F1D-8720-432E-85EF-5F770901F28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F65-8833-479B-A3CB-0A6F45C459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6BA155C-7678-487F-B450-EB9B00BDD7E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9C1D41A-BE74-421C-8140-EA617A698E4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3A91168-EFD1-46F5-BA0C-7665A32DD18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C8A6F78-53C7-49EA-AFDE-B213366172E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2C7F68B-7FAF-4602-A2CF-891D710E0F4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FE6BAF6-27B9-414E-8669-233EAF04714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562E7A2-5F93-49E9-B72A-7FC3AFA97E6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542880" y="2852640"/>
            <a:ext cx="81313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tart page recommendation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ample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urchasers / visitors conversion rat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inding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visual presentation is important, click distribution as expected (omitted here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ersonalization raises attraction also on text lin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oposing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new item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orks also very well on the start pag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4752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verall effec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verall number of downloads (free + non-free game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ay games onl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3066840" cy="13698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3384720" cy="1676520"/>
          </a:xfrm>
          <a:prstGeom prst="rect">
            <a:avLst/>
          </a:prstGeom>
          <a:ln w="0">
            <a:noFill/>
          </a:ln>
        </p:spPr>
      </p:pic>
      <p:sp>
        <p:nvSpPr>
          <p:cNvPr id="675" name="Abgerundete rechteckige Legende 9"/>
          <p:cNvSpPr/>
          <p:nvPr/>
        </p:nvSpPr>
        <p:spPr>
          <a:xfrm>
            <a:off x="5219640" y="3000240"/>
            <a:ext cx="2286000" cy="2562120"/>
          </a:xfrm>
          <a:prstGeom prst="wedgeRoundRectCallout">
            <a:avLst>
              <a:gd name="adj1" fmla="val -65745"/>
              <a:gd name="adj2" fmla="val 25425"/>
              <a:gd name="adj3" fmla="val 16667"/>
            </a:avLst>
          </a:prstGeom>
          <a:solidFill>
            <a:srgbClr val="84b818">
              <a:alpha val="16000"/>
            </a:srgbClr>
          </a:solidFill>
          <a:ln w="9360">
            <a:solidFill>
              <a:srgbClr val="84b8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-category measurements not shown in paper.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tent-based method outperforms others in different categories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(half price, new games, erotic games)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ffect: 3.2 to 3.6% sales increase!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Further observations: ratings on the Mobile Interne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nly 2% of users issued at least one rat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st probably caused by size of display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 addition: Particularity of platform; rating only after downloa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sufficient coverage for standard CF method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mplicit rating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lso count item views and item purchas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crease the coverage of CF algorith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E however not a suitable measure anymore for comparing algorith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Large case study on business effects of 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ignificant sales increase can be reached! (max. 1% in past with other activitie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re studies need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value of MAE measure 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 addi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commendation in navigational contex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acceptance of recommendation depends on situation of user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urther work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mparison of general sales behavio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re information in data to be fou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Case studies in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The MovieLens data set, othe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focus on improving the Mean Absolute Error 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What about the business value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nearly no real-world stud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exceptions, e.g., Dias et al., 2008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66"/>
                </a:solidFill>
                <a:latin typeface="Calibri"/>
              </a:rPr>
              <a:t>e-Grocer application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66"/>
                </a:solidFill>
                <a:latin typeface="Calibri"/>
              </a:rPr>
              <a:t>CF method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66"/>
                </a:solidFill>
                <a:latin typeface="Calibri"/>
              </a:rPr>
              <a:t>short term: below one percent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66"/>
                </a:solidFill>
                <a:latin typeface="Calibri"/>
              </a:rPr>
              <a:t>long-term, indirect effects important 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This stud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measuring impact of different RS algorithms in Mobile Internet scenario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more than 3% more sales through personalized item order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pplication platform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0040" y="1642680"/>
            <a:ext cx="5572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66"/>
                </a:solidFill>
                <a:latin typeface="Calibri"/>
              </a:rPr>
              <a:t>Game download platform of telco provider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access via mobile phon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direct download, charged to monthly statemen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low cost items (0.99 cent to few Euro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66"/>
                </a:solidFill>
                <a:latin typeface="Calibri"/>
              </a:rPr>
              <a:t>Extension to existing platfor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"My recommendations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in-category personalization (where applicable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start-page items, post-sales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66"/>
                </a:solidFill>
                <a:latin typeface="Calibri"/>
              </a:rPr>
              <a:t>Control group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natural or editorial item rank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no "My Recommendations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39" name="Picture 2" descr="C:\Dokumente und Einstellungen\jannach\Eigene Dateien\6 papers\itwp09\screenshots\Startseite Teaserbeschriftungen.jpg"/>
          <p:cNvPicPr/>
          <p:nvPr/>
        </p:nvPicPr>
        <p:blipFill>
          <a:blip r:embed="rId1"/>
          <a:srcRect l="0" t="0" r="41533" b="0"/>
          <a:stretch/>
        </p:blipFill>
        <p:spPr>
          <a:xfrm>
            <a:off x="6227640" y="1197000"/>
            <a:ext cx="18734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tudy setup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6 recommendation algorithms, 1 control group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F (item-item, SlopeOne), Content-based filtering, Switching CF/Content-baaed hybrid, top rating, top sell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est period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4 weeks evaluation perio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bout 150,000 users assigned randomly to different group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nly experienced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ypothesis (H1 – H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1: Pers. recommendations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timulate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re user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view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2: Person. recommendations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urn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re visitors into buy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3: Pers. recommendations stimulate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dividual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rs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to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view more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3: Pers. recommendations stimulate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dividual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rs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to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buy more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asuremen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lick and purchase behavior of custome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ustomers are always logged i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ll navigation activities stored in sys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easurements taken in different situ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y Recommendations, start page, post sales, in categories, overall effec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etric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tem viewers/platform visito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tem purchasers/platform visito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tem views per visitor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purchases per visitor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mplicit and explicit feedback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tem view, item purchase, explicit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y Recommendations conversion rat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Item viewers / visitors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Purchasers / visitors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version rat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p-rated items (SlopeOne, Top-Rating) appear to be non-interest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nly CF-Item able to turn more visitors into buyers (p &lt; 0.01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verall on the platfor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o significant increase on both conversion rates (for frequent users!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500720" cy="2020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5214960" y="1714680"/>
            <a:ext cx="3782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y Recommendations sales increase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Item views/ customer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Purchases / customer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tem view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cept SlopeOne, all personalized RS outperform non-personalized techniq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tem purchas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S measurably stimulate users to buy/download more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ntent-based method does not work well her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0920" cy="15904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38577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y Recommendations sales increase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emos and non-free game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evious figures counted all download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igure show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personalized techniques comparable to top seller list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however, can stimulate interest in demo game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ote, Rating possible only after downloa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4006800" cy="2014200"/>
          </a:xfrm>
          <a:prstGeom prst="rect">
            <a:avLst/>
          </a:prstGeom>
          <a:ln w="0">
            <a:noFill/>
          </a:ln>
        </p:spPr>
      </p:pic>
      <p:sp>
        <p:nvSpPr>
          <p:cNvPr id="655" name="Textfeld 8"/>
          <p:cNvSpPr/>
          <p:nvPr/>
        </p:nvSpPr>
        <p:spPr>
          <a:xfrm>
            <a:off x="5143680" y="1857240"/>
            <a:ext cx="242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gure shows purchases per visitor rat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Rechtwinkliges Dreieck 13"/>
          <p:cNvSpPr/>
          <p:nvPr/>
        </p:nvSpPr>
        <p:spPr>
          <a:xfrm>
            <a:off x="2643120" y="1785960"/>
            <a:ext cx="2143080" cy="2714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Eine Ecke des Rechtecks schneiden 14"/>
          <p:cNvSpPr/>
          <p:nvPr/>
        </p:nvSpPr>
        <p:spPr>
          <a:xfrm rot="2541600">
            <a:off x="6278040" y="806400"/>
            <a:ext cx="1000440" cy="785880"/>
          </a:xfrm>
          <a:custGeom>
            <a:avLst/>
            <a:gdLst/>
            <a:ahLst/>
            <a:rect l="l" t="t" r="r" b="b"/>
            <a:pathLst>
              <a:path w="1000132" h="785818">
                <a:moveTo>
                  <a:pt x="0" y="0"/>
                </a:moveTo>
                <a:lnTo>
                  <a:pt x="1000132" y="0"/>
                </a:lnTo>
                <a:lnTo>
                  <a:pt x="1000132" y="0"/>
                </a:lnTo>
                <a:lnTo>
                  <a:pt x="1000132" y="785818"/>
                </a:lnTo>
                <a:lnTo>
                  <a:pt x="0" y="7858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Ellipse 15"/>
          <p:cNvSpPr/>
          <p:nvPr/>
        </p:nvSpPr>
        <p:spPr>
          <a:xfrm>
            <a:off x="6000840" y="1643040"/>
            <a:ext cx="2928960" cy="157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Ellipse 16"/>
          <p:cNvSpPr/>
          <p:nvPr/>
        </p:nvSpPr>
        <p:spPr>
          <a:xfrm>
            <a:off x="8429760" y="3214800"/>
            <a:ext cx="71280" cy="46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Ellipse 17"/>
          <p:cNvSpPr/>
          <p:nvPr/>
        </p:nvSpPr>
        <p:spPr>
          <a:xfrm>
            <a:off x="8286840" y="314316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Ellipse 18"/>
          <p:cNvSpPr/>
          <p:nvPr/>
        </p:nvSpPr>
        <p:spPr>
          <a:xfrm>
            <a:off x="8143920" y="3286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Ellipse 19"/>
          <p:cNvSpPr/>
          <p:nvPr/>
        </p:nvSpPr>
        <p:spPr>
          <a:xfrm>
            <a:off x="8001000" y="3357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Abgerundete rechteckige Legende 24"/>
          <p:cNvSpPr/>
          <p:nvPr/>
        </p:nvSpPr>
        <p:spPr>
          <a:xfrm>
            <a:off x="5286240" y="3214800"/>
            <a:ext cx="2071800" cy="462600"/>
          </a:xfrm>
          <a:prstGeom prst="wedgeRoundRectCallout">
            <a:avLst>
              <a:gd name="adj1" fmla="val -60472"/>
              <a:gd name="adj2" fmla="val -31962"/>
              <a:gd name="adj3" fmla="val 16667"/>
            </a:avLst>
          </a:prstGeom>
          <a:solidFill>
            <a:srgbClr val="84b818">
              <a:alpha val="16000"/>
            </a:srgbClr>
          </a:solidFill>
          <a:ln w="9360">
            <a:solidFill>
              <a:srgbClr val="84b8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te: Only 2 demos in top 30 downloads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ost-sales recommendation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Item views / visitor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Purchases / visitor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inding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commending "more-of-the-same", top sellers or simply new items does not work wel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p-Rating and SlopeOne nearly exclusively stimulate demo downloads (Not shown)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p-Seller und control group sell no demo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4214520" cy="16225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3" descr=""/>
          <p:cNvPicPr/>
          <p:nvPr/>
        </p:nvPicPr>
        <p:blipFill>
          <a:blip r:embed="rId2"/>
          <a:stretch/>
        </p:blipFill>
        <p:spPr>
          <a:xfrm>
            <a:off x="4896000" y="1857240"/>
            <a:ext cx="3730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1:45Z</dcterms:modified>
  <cp:revision>1136</cp:revision>
  <dc:subject/>
  <dc:title>Recommender Systems</dc:title>
</cp:coreProperties>
</file>